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2499EA-1456-4B15-A89C-8CAA12A705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5CB63-6ACD-435D-B964-D866B3605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5629C0-34D2-42CF-AAA4-D8BBA8AB23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1A728E-956B-47A3-A634-19739C011A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A78936-3101-49AA-A2D4-CE54645D46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FAF6F4-AAEC-4114-85F5-D7C3EBEA5E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BC61BC-D638-4B6B-B153-0C27D1A8F1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7C19FA-FAC9-454D-9AE6-329DD6CB2B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7BE687-60CF-4F87-8C65-C2CC43A0E2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EE1A77-5CBA-4781-A097-9F0E924496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3C1F4E-8122-43DB-B9FC-9B374FD3A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B36A2-099D-4E3F-9781-6AB97440E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7A2CD5-5C17-40B5-81C2-E5E48FC1BF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058A27-BBFA-493C-AE24-3598317739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4A00DA-66EF-4729-8E29-5E754DBF24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E308BE-7D73-4391-87FB-0B083F966A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0B9F2B-AA2E-49EE-9A30-C41150251A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8AA98-C7EF-4DCE-A386-26099B6C5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B0190-9B91-4459-82D4-97F15189B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2E3C3-0A25-4BDC-8BE7-A0D07CDD9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F60A2-DFEF-4074-B691-AF331C1EC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50F4E-BA19-4F29-B0AB-04079EA58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600A4-934B-4703-9581-4CF39EC6A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4416D-5BC7-4C8A-99F7-E347742E82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5477E-F58F-45FE-ABDF-62F85C415F96}" type="datetime">
              <a:rPr b="0" lang="en-US" sz="1400" spc="-1" strike="noStrike">
                <a:solidFill>
                  <a:srgbClr val="ffffff"/>
                </a:solidFill>
                <a:latin typeface="Arial"/>
              </a:rPr>
              <a:t>07/31/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Times New Roman (Arab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ea typeface="Times New Roman (Arabic)"/>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25167-9E5E-4CE3-AA9D-D7BA8EB512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2DF2C-AA1F-4571-9015-8AAD09A19912}" type="datetime">
              <a:rPr b="0" lang="en-US" sz="1400" spc="-1" strike="noStrike">
                <a:solidFill>
                  <a:srgbClr val="ffffff"/>
                </a:solidFill>
                <a:latin typeface="Arial"/>
              </a:rPr>
              <a:t>07/31/26</a:t>
            </a:fld>
            <a:endParaRPr b="0" lang="en-US" sz="1400" spc="-1" strike="noStrike">
              <a:solidFill>
                <a:srgbClr val="ffffff"/>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Times New Roman (Arab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ea typeface="Times New Roman (Arabic)"/>
              </a:rPr>
              <a:t>&lt;footer&gt;</a:t>
            </a:r>
            <a:endParaRPr b="0" lang="en-US" sz="1400" spc="-1" strike="noStrike">
              <a:solidFill>
                <a:srgbClr val="ffffff"/>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6B0C6-8A4A-412E-A2B2-AB69762B93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8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cc"/>
                </a:solidFill>
                <a:latin typeface="Arial Narrow"/>
                <a:cs typeface="Times New Roman (Arabic)"/>
              </a:rPr>
              <a:t>الموازنات</a:t>
            </a:r>
            <a:endParaRPr b="1" lang="en-US" sz="6600" spc="-1" strike="noStrike">
              <a:solidFill>
                <a:srgbClr val="ffffcc"/>
              </a:solidFill>
              <a:latin typeface="Arial Narrow"/>
            </a:endParaRPr>
          </a:p>
        </p:txBody>
      </p:sp>
      <p:sp>
        <p:nvSpPr>
          <p:cNvPr id="86" name="PlaceHolder 2"/>
          <p:cNvSpPr>
            <a:spLocks noGrp="1"/>
          </p:cNvSpPr>
          <p:nvPr>
            <p:ph type="subTitle"/>
          </p:nvPr>
        </p:nvSpPr>
        <p:spPr>
          <a:xfrm>
            <a:off x="4191120" y="1828800"/>
            <a:ext cx="4572000" cy="175248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د. رضا صالح</a:t>
            </a:r>
          </a:p>
        </p:txBody>
      </p:sp>
      <p:sp>
        <p:nvSpPr>
          <p:cNvPr id="5" name="PlaceHolder 4"/>
          <p:cNvSpPr>
            <a:spLocks noGrp="1"/>
          </p:cNvSpPr>
          <p:nvPr>
            <p:ph type="sldNum" idx="6"/>
          </p:nvPr>
        </p:nvSpPr>
        <p:spPr/>
        <p:txBody>
          <a:bodyPr/>
          <a:p>
            <a:fld id="{32AEC225-7F95-49D7-B3E0-B88B2048DFCD}" type="slidenum">
              <a:t>1</a:t>
            </a:fld>
          </a:p>
        </p:txBody>
      </p:sp>
    </p:spTree>
  </p:cSld>
  <p:transition spd="slow">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واد المباشرة.</a:t>
            </a:r>
            <a:endParaRPr b="1" lang="en-US" sz="4800" spc="-1" strike="noStrike">
              <a:solidFill>
                <a:srgbClr val="ffffcc"/>
              </a:solidFill>
              <a:latin typeface="Arial Narrow"/>
            </a:endParaRPr>
          </a:p>
        </p:txBody>
      </p:sp>
      <p:sp>
        <p:nvSpPr>
          <p:cNvPr id="10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وتشمل التقديرات الخاصة باحتياجات المواد المباشرة والتقديرات الخاصة بتكلفة شراء تلك المواد.</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كمية المشتريات المطلوبة من المواد = كمية الاحتياجات المتوقعة من المواد للإنتاج + مخزون المواد المطلوب فى نهاية الفترة – مخزون المواد المتوقع فى بداية الفتر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B3B1503F-F068-4D94-BA19-EBB532500F9B}" type="slidenum">
              <a:t>10</a:t>
            </a:fld>
          </a:p>
        </p:txBody>
      </p:sp>
    </p:spTree>
  </p:cSld>
  <p:transition spd="slow">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ة إعداد الموازنة التقديرية للأجور المباشرة</a:t>
            </a:r>
            <a:endParaRPr b="1" lang="en-US" sz="4800" spc="-1" strike="noStrike">
              <a:solidFill>
                <a:srgbClr val="ffffcc"/>
              </a:solidFill>
              <a:latin typeface="Arial Narrow"/>
            </a:endParaRPr>
          </a:p>
        </p:txBody>
      </p:sp>
      <p:sp>
        <p:nvSpPr>
          <p:cNvPr id="10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  </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إحتياجات من العمل المباشر = عدد ساعت العمل اللازمة للوحدة </a:t>
            </a:r>
            <a:r>
              <a:rPr b="0" lang="en-US" sz="2800" spc="-1" strike="noStrike">
                <a:solidFill>
                  <a:srgbClr val="ffffff"/>
                </a:solidFill>
                <a:latin typeface="Arial"/>
                <a:ea typeface="Times New Roman (Arabic)"/>
              </a:rPr>
              <a:t>X</a:t>
            </a:r>
            <a:r>
              <a:rPr b="0" lang="ar-SA" sz="2800" spc="-1" strike="noStrike">
                <a:solidFill>
                  <a:srgbClr val="ffffff"/>
                </a:solidFill>
                <a:latin typeface="Arial"/>
                <a:ea typeface="Times New Roman (Arabic)"/>
              </a:rPr>
              <a:t> عدد الوحدات المراد انتاجها.</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ازنة التقديرية للأجور= عحتياجات من العمل المباشر </a:t>
            </a:r>
            <a:r>
              <a:rPr b="0" lang="en-US" sz="2800" spc="-1" strike="noStrike">
                <a:solidFill>
                  <a:srgbClr val="ffffff"/>
                </a:solidFill>
                <a:latin typeface="Arial"/>
                <a:ea typeface="Times New Roman (Arabic)"/>
              </a:rPr>
              <a:t>X</a:t>
            </a:r>
            <a:r>
              <a:rPr b="0" lang="ar-SA" sz="2800" spc="-1" strike="noStrike">
                <a:solidFill>
                  <a:srgbClr val="ffffff"/>
                </a:solidFill>
                <a:latin typeface="Arial"/>
                <a:ea typeface="Times New Roman (Arabic)"/>
              </a:rPr>
              <a:t> المعدل التقديرىلأجر الساع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A65A569F-E73A-4986-8E6A-83A59B9E18D6}" type="slidenum">
              <a:t>11</a:t>
            </a:fld>
          </a:p>
        </p:txBody>
      </p:sp>
    </p:spTree>
  </p:cSld>
  <p:transition spd="slow">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تقديرية للتكاليف الصناعية غير المباشرة.</a:t>
            </a:r>
            <a:endParaRPr b="1" lang="en-US" sz="4800" spc="-1" strike="noStrike">
              <a:solidFill>
                <a:srgbClr val="ffffcc"/>
              </a:solidFill>
              <a:latin typeface="Arial Narrow"/>
            </a:endParaRPr>
          </a:p>
        </p:txBody>
      </p:sp>
      <p:sp>
        <p:nvSpPr>
          <p:cNvPr id="10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3000"/>
          </a:bodyPr>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وتشمل تكلفة المواد غير المياشرة والأجور غير المباشرة وغيرها من عناصر التكاليف غير المباشرة الأخرى كالإستهلاك والصيانة وتكاليف الطاقة ...الخ</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صنيف التكاليف الصناعية غير المباشرة بالنسبة لعلاقتها بحجم النشاط ( متغيرة وثابتة)</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حديد معدل تحميل التكاليف الصناعية غير المباشرة باستخدام الأساس المناسب  للتحميل.</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قدير التكاليف الصناعية غير المباشرة التقديرية باستخدام معدلات التحميل فى ضوء مستويات الإنتاج المتوقعة.</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3B20F92D-9B0B-453A-8BE7-3BB47EE7ACD5}" type="slidenum">
              <a:t>12</a:t>
            </a:fld>
          </a:p>
        </p:txBody>
      </p:sp>
    </p:spTree>
  </p:cSld>
  <p:transition spd="slow">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صروفات البيعية والإدارية.</a:t>
            </a:r>
            <a:endParaRPr b="1" lang="en-US" sz="4800" spc="-1" strike="noStrike">
              <a:solidFill>
                <a:srgbClr val="ffffcc"/>
              </a:solidFill>
              <a:latin typeface="Arial Narrow"/>
            </a:endParaRPr>
          </a:p>
        </p:txBody>
      </p:sp>
      <p:sp>
        <p:nvSpPr>
          <p:cNvPr id="11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2000"/>
          </a:bodyPr>
          <a:p>
            <a:pPr marL="315360" indent="-31536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صروفات البيعية والإدارية هى مصروفات لاتتصل بالعملية الإنتاجية.</a:t>
            </a:r>
            <a:endParaRPr b="0" lang="en-US" sz="2800" spc="-1" strike="noStrike">
              <a:solidFill>
                <a:srgbClr val="ffffff"/>
              </a:solidFill>
              <a:latin typeface="Arial"/>
            </a:endParaRPr>
          </a:p>
          <a:p>
            <a:pPr marL="315360" indent="-31536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لإعداد موازنة المصروفات البيعية والإدارية إجراء تحليل لعناصر تلك المصروفات وتصنيفها إلى :</a:t>
            </a:r>
            <a:endParaRPr b="0" lang="en-US" sz="2800" spc="-1" strike="noStrike">
              <a:solidFill>
                <a:srgbClr val="ffffff"/>
              </a:solidFill>
              <a:latin typeface="Arial"/>
            </a:endParaRPr>
          </a:p>
          <a:p>
            <a:pPr lvl="1" marL="683280" indent="-262800" algn="r" rtl="1">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مصروفات بيعية وإدارية متغيرة : مثل  تكاليف النقل وعمولة المبيعات.</a:t>
            </a:r>
            <a:endParaRPr b="0" lang="en-US" sz="2600" spc="-1" strike="noStrike">
              <a:solidFill>
                <a:srgbClr val="ffffff"/>
              </a:solidFill>
              <a:latin typeface="Arial"/>
            </a:endParaRPr>
          </a:p>
          <a:p>
            <a:pPr lvl="1" marL="683280" indent="-262800" algn="r" rtl="1">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مصروفات بيعية وإدارية ثابتة : مثل المرتبات الإدارية  ومصاريف  الإيجارالتأمين.</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50CE84C2-8CC6-4E84-AFAE-78F06F35A584}" type="slidenum">
              <a:t>13</a:t>
            </a:fld>
          </a:p>
        </p:txBody>
      </p:sp>
    </p:spTree>
  </p:cSld>
  <p:transition spd="slow">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قائمة الدخل التقديرية</a:t>
            </a:r>
            <a:endParaRPr b="1" lang="en-US" sz="4800" spc="-1" strike="noStrike">
              <a:solidFill>
                <a:srgbClr val="ffffcc"/>
              </a:solidFill>
              <a:latin typeface="Arial Narrow"/>
            </a:endParaRPr>
          </a:p>
        </p:txBody>
      </p:sp>
      <p:sp>
        <p:nvSpPr>
          <p:cNvPr id="11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وهى تجميع وتلخيص للموازنات التقديرية للمبيعات وعناصر التكاليف المختلفة، وتعرض نتيجة النشاط المتوقعة، وتستخدم فى تقييم الأداء عن طريقة مقارنة الأداء الفعلى بالأداء المستهدف.</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C401F2C6-B7AE-41C5-945D-5937EDB05B0A}" type="slidenum">
              <a:t>14</a:t>
            </a:fld>
          </a:p>
        </p:txBody>
      </p:sp>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محددات استخدام الموازنات التقديرية.</a:t>
            </a:r>
            <a:endParaRPr b="1" lang="en-US" sz="4800" spc="-1" strike="noStrike">
              <a:solidFill>
                <a:srgbClr val="ffffcc"/>
              </a:solidFill>
              <a:latin typeface="Arial Narrow"/>
            </a:endParaRPr>
          </a:p>
        </p:txBody>
      </p:sp>
      <p:sp>
        <p:nvSpPr>
          <p:cNvPr id="11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83000"/>
          </a:bodyPr>
          <a:p>
            <a:pPr marL="284400" indent="-28440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ناك العديد من المحاذير السلوكية لاستخدام الموازنات فى عملية تقييم الأداء، ولتفادى أى مشاكل سلوكية  فإنه يجب الإجتهاد فى ربط أهداف الأفراد بأهداف المنشأة ومشاركة الأفراد فى إعداد الموازنة لضمان تأييدهم لها والاقتناع بها.ولكى تنجح تلك المهمة يجب مراعاة مايلى:</a:t>
            </a:r>
            <a:endParaRPr b="0" lang="en-US" sz="24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التعرف على طبيعة مستخدمى الموازنة، ومدى توافر الوعى المحاسبى والإدارى لديهم، وتزافر المعلومات عن خطط المنشأة.</a:t>
            </a:r>
            <a:endParaRPr b="0" lang="en-US" sz="22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التقديم المهنى للموازنة، لعدم تقبل العديد من الأفراد للموازنة باعتبارها أداة رقابة عليهم، معتوضيح أهميتها فى تحقيق أهداف المنشأة</a:t>
            </a:r>
            <a:endParaRPr b="0" lang="en-US" sz="22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وضع أولويات لتحقيق وتنفيذ عناصر الموازنة فى ضوء الموارد المتاحة، إذ أن كل عناصر اموازنة ليست لها نفس الأهمية فهناك عناصر حتمية وضرورية، وأخرى مرغوبة</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F9AE1186-5B51-45C8-B399-C539F56333A5}" type="slidenum">
              <a:t>15</a:t>
            </a:fld>
          </a:p>
        </p:txBody>
      </p:sp>
    </p:spTree>
  </p:cSld>
  <p:transition spd="slow">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ثابتة</a:t>
            </a:r>
            <a:endParaRPr b="1" lang="en-US" sz="4800" spc="-1" strike="noStrike">
              <a:solidFill>
                <a:srgbClr val="ffffcc"/>
              </a:solidFill>
              <a:latin typeface="Arial Narrow"/>
            </a:endParaRPr>
          </a:p>
        </p:txBody>
      </p:sp>
      <p:sp>
        <p:nvSpPr>
          <p:cNvPr id="11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5000"/>
          </a:bodyPr>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ى تقدير التكاليف والإيرادات عند مستوى واحد للنشاط.</a:t>
            </a:r>
            <a:endParaRPr b="0" lang="en-US" sz="2400" spc="-1" strike="noStrike">
              <a:solidFill>
                <a:srgbClr val="ffffff"/>
              </a:solidFill>
              <a:latin typeface="Arial"/>
            </a:endParaRPr>
          </a:p>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مكن استحدام الموازنة الساكنة او الثابتة فى تقييم الأداء عندما يكونمستوى النشاط الفعلى مساو لمستوى النشاط المتوقع.</a:t>
            </a:r>
            <a:endParaRPr b="0" lang="en-US" sz="2400" spc="-1" strike="noStrike">
              <a:solidFill>
                <a:srgbClr val="ffffff"/>
              </a:solidFill>
              <a:latin typeface="Arial"/>
            </a:endParaRPr>
          </a:p>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عندما يختلف مستوى النشاط الفعلى عن المتوقع  فإن استخدام الموازنة الثابتة فى تقييم الأداء يكون مضللاً، وذلك نظراً لعدم التمييز بين الإنحرافات الناتجة عن إختلاف مستوى النشاط الفعلى عن المتوقع وأفنحرافات الأخرى الناتجة عن إختلاف الأسعار أو الكفاءة.</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C6264A65-606C-43B8-913F-E808F439473E}" type="slidenum">
              <a:t>16</a:t>
            </a:fld>
          </a:p>
        </p:txBody>
      </p:sp>
    </p:spTree>
  </p:cSld>
  <p:transition spd="slow">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مرنة</a:t>
            </a:r>
            <a:endParaRPr b="1" lang="en-US" sz="4800" spc="-1" strike="noStrike">
              <a:solidFill>
                <a:srgbClr val="ffffcc"/>
              </a:solidFill>
              <a:latin typeface="Arial Narrow"/>
            </a:endParaRPr>
          </a:p>
        </p:txBody>
      </p:sp>
      <p:sp>
        <p:nvSpPr>
          <p:cNvPr id="11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3000"/>
          </a:bodyPr>
          <a:p>
            <a:pPr marL="318960" indent="-31896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ى تقدير للإيرادات والتكاليف عند مستويات متعددة للنشاط، أى أن الموازنة الرنة هى عبارة عن مجموعة من الموازنات الثابتة.</a:t>
            </a:r>
            <a:endParaRPr b="0" lang="en-US" sz="2400" spc="-1" strike="noStrike">
              <a:solidFill>
                <a:srgbClr val="ffffff"/>
              </a:solidFill>
              <a:latin typeface="Arial"/>
            </a:endParaRPr>
          </a:p>
          <a:p>
            <a:pPr marL="318960" indent="-31896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مزايا استخدام الموازنة المرنة:</a:t>
            </a:r>
            <a:endParaRPr b="0" lang="en-US" sz="24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تأخذ فى الحسبات التغيرات المحتملة فى مستوى النشاط.</a:t>
            </a:r>
            <a:endParaRPr b="0" lang="en-US" sz="22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تعد أداة هامة لمساعدة الإدارة فى إجراء التعديلات اللازمة على خطط الإنتاج عندما يحدث تغير غير متوقع فى مستوى النشاط.</a:t>
            </a:r>
            <a:endParaRPr b="0" lang="en-US" sz="22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الخاصية الرئيسية للموازنة المرنة هى إمكانية فصل الإنحرافات الناتجة عن تغير مستوى النشاط عن بقية الإنحرافات الأخلرى الناتجة عن إختلاف الأسعار أو الكفاءة.</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B1061407-6613-4C9B-AD82-89A86DE5EF41}" type="slidenum">
              <a:t>17</a:t>
            </a:fld>
          </a:p>
        </p:txBody>
      </p:sp>
    </p:spTree>
  </p:cSld>
  <p:transition spd="slow">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ct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تقديرية</a:t>
            </a:r>
            <a:endParaRPr b="1" lang="en-US" sz="4800" spc="-1" strike="noStrike">
              <a:solidFill>
                <a:srgbClr val="ffffcc"/>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5000"/>
          </a:bodyPr>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تعريف الموازنة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مزايا استخدام الموازنة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أنواع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كيفية إعداد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محددات استخدام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ستخدام الموازنة الساكنة  فى تقييم الأداء.</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ستخدام الموازنة المرنة فى تقييم الأداء.</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68246707-798D-4660-86F2-E7CE1EF7A1AA}" type="slidenum">
              <a:t>2</a:t>
            </a:fld>
          </a:p>
        </p:txBody>
      </p:sp>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تعريف الموازنة التقديرية</a:t>
            </a:r>
            <a:endParaRPr b="1" lang="en-US" sz="4800" spc="-1" strike="noStrike">
              <a:solidFill>
                <a:srgbClr val="ffffcc"/>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وازنة التقديرية: هى خطة كمية لاستغلال الموارد المتاحة للوحدة المحاسبية خلال فترة محددة فى المستقبل.</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أسس اعداد الموازنة:</a:t>
            </a:r>
            <a:endParaRPr b="0" lang="en-US" sz="28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كون فى صورة كمية.</a:t>
            </a:r>
            <a:endParaRPr b="0" lang="en-US" sz="24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تعلق بوحدة محاسبية محددة.</a:t>
            </a:r>
            <a:endParaRPr b="0" lang="en-US" sz="24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غطى فترة محددة فى المستقبل.</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939CB285-B87D-4D99-9269-9BE1DD0FABBD}" type="slidenum">
              <a:t>3</a:t>
            </a:fld>
          </a:p>
        </p:txBody>
      </p:sp>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752120" y="609120"/>
            <a:ext cx="716292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مزايا استخدام الموازنات التخطيطية</a:t>
            </a:r>
            <a:endParaRPr b="1" lang="en-US" sz="4800" spc="-1" strike="noStrike">
              <a:solidFill>
                <a:srgbClr val="ffffcc"/>
              </a:solidFill>
              <a:latin typeface="Arial Narrow"/>
            </a:endParaRPr>
          </a:p>
        </p:txBody>
      </p:sp>
      <p:sp>
        <p:nvSpPr>
          <p:cNvPr id="9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الموازة التقديرية أداة للتخطيط.</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الموازنة التخطيطية أداة للتنسيق.</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تقييم ورقابة الأداء.</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لإتصال  والتعاون.</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تنمية الوعى التكاليفى.</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لتحفيز</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2490A261-DDB5-4AB0-A548-8D1A5850A2EB}" type="slidenum">
              <a:t>4</a:t>
            </a:fld>
          </a:p>
        </p:txBody>
      </p:sp>
    </p:spTree>
  </p:cSld>
  <p:transition spd="slow" advTm="0">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just"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أنواع الموازنات التقديرية</a:t>
            </a:r>
            <a:endParaRPr b="1" lang="en-US" sz="4800" spc="-1" strike="noStrike">
              <a:solidFill>
                <a:srgbClr val="ffffcc"/>
              </a:solidFill>
              <a:latin typeface="Arial Narrow"/>
            </a:endParaRPr>
          </a:p>
        </p:txBody>
      </p:sp>
      <p:sp>
        <p:nvSpPr>
          <p:cNvPr id="9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7000"/>
          </a:bodyPr>
          <a:p>
            <a:pPr marL="517320" indent="-517320" algn="r" rtl="1">
              <a:spcBef>
                <a:spcPts val="700"/>
              </a:spcBef>
              <a:buClr>
                <a:srgbClr val="8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 الموازنة الرئيسية(الموازنة الشاملة)</a:t>
            </a:r>
            <a:endParaRPr b="0" lang="en-US" sz="2800" spc="-1" strike="noStrike">
              <a:solidFill>
                <a:srgbClr val="ffffff"/>
              </a:solidFill>
              <a:latin typeface="Arial"/>
            </a:endParaRPr>
          </a:p>
          <a:p>
            <a:pPr lvl="1" marL="923760" indent="0" algn="r" rtl="1">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هى إطار عام للموازنات الفرعية، وتشتمل على تقدير شامل لكافة أنشطة المنشأة والتى يتم التنسيق بينها وتوحيدها فى شكل موازنة رئيسية، وتتألف الموازنة  الرئيسية من مجموعتين من الموازنات الفرعية هما </a:t>
            </a:r>
            <a:endParaRPr b="0" lang="en-US" sz="2600" spc="-1" strike="noStrike">
              <a:solidFill>
                <a:srgbClr val="ffffff"/>
              </a:solidFill>
              <a:latin typeface="Arial"/>
            </a:endParaRPr>
          </a:p>
          <a:p>
            <a:pPr lvl="1" marL="923760" indent="-480240" algn="r" rtl="1">
              <a:spcBef>
                <a:spcPts val="649"/>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الموازنات التشغيلية </a:t>
            </a:r>
            <a:endParaRPr b="0" lang="en-US" sz="2600" spc="-1" strike="noStrike">
              <a:solidFill>
                <a:srgbClr val="ffffff"/>
              </a:solidFill>
              <a:latin typeface="Arial"/>
            </a:endParaRPr>
          </a:p>
          <a:p>
            <a:pPr lvl="1" marL="923760" indent="-480240" algn="r" rtl="1">
              <a:spcBef>
                <a:spcPts val="649"/>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الموازنات المالية.</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DF7E2C40-7647-4BC4-BDAF-AC614DDF5D56}" type="slidenum">
              <a:t>5</a:t>
            </a:fld>
          </a:p>
        </p:txBody>
      </p:sp>
    </p:spTree>
  </p:cSld>
  <p:transition spd="slow">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تشغيلية</a:t>
            </a:r>
            <a:endParaRPr b="1" lang="en-US" sz="4800" spc="-1" strike="noStrike">
              <a:solidFill>
                <a:srgbClr val="ffffcc"/>
              </a:solidFill>
              <a:latin typeface="Arial Narrow"/>
            </a:endParaRPr>
          </a:p>
        </p:txBody>
      </p:sp>
      <p:sp>
        <p:nvSpPr>
          <p:cNvPr id="96" name="PlaceHolder 2"/>
          <p:cNvSpPr>
            <a:spLocks noGrp="1"/>
          </p:cNvSpPr>
          <p:nvPr>
            <p:ph/>
          </p:nvPr>
        </p:nvSpPr>
        <p:spPr>
          <a:xfrm>
            <a:off x="2819160" y="1980720"/>
            <a:ext cx="6095880" cy="4876920"/>
          </a:xfrm>
          <a:prstGeom prst="rect">
            <a:avLst/>
          </a:prstGeom>
          <a:noFill/>
          <a:ln w="0">
            <a:noFill/>
          </a:ln>
        </p:spPr>
        <p:txBody>
          <a:bodyPr lIns="92160" rIns="92160" tIns="46080" bIns="46080" anchor="t">
            <a:normAutofit fontScale="96000"/>
          </a:bodyPr>
          <a:p>
            <a:pPr lvl="1" marL="914400" indent="0" algn="just" rtl="1">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تشمل كافة العناصر التى تشكل قائمة الدخل، وبالتالى فهى تشمل الموازنات الفرعية الخاصة بكل من مصروفات وإيرادات التشغيل وهى:</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بيعات.</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إنتاج.</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واد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أجور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تكاليف الصنعاعية غير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صروفات البيعية والإداري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قائمة الدخل التقديرية.</a:t>
            </a:r>
            <a:endParaRPr b="0" lang="en-US" sz="2200" spc="-1" strike="noStrike">
              <a:solidFill>
                <a:srgbClr val="ffffff"/>
              </a:solidFill>
              <a:latin typeface="Arial"/>
            </a:endParaRPr>
          </a:p>
          <a:p>
            <a:pPr lvl="2" marL="1316520" indent="-438840" algn="just" rtl="1">
              <a:lnSpc>
                <a:spcPct val="90000"/>
              </a:lnSpc>
              <a:spcBef>
                <a:spcPts val="499"/>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Times New Roman (Arabic)"/>
              </a:rPr>
              <a:t>لا تختلف الموازنات التشغيلية فى المنشآت التجارية عن المنشآت الصناعية فيما عدا أن موازنة الإنتاج يحل محلها موازنة المشتريات ، مع اختلاف الأهمية النسبية للموازنات الفرعية</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18E7009C-75C4-447C-AD51-8FBA7099E39E}" type="slidenum">
              <a:t>6</a:t>
            </a:fld>
          </a:p>
        </p:txBody>
      </p:sp>
    </p:spTree>
  </p:cSld>
  <p:transition spd="slow">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مالية</a:t>
            </a:r>
            <a:endParaRPr b="1" lang="en-US" sz="4800" spc="-1" strike="noStrike">
              <a:solidFill>
                <a:srgbClr val="ffffcc"/>
              </a:solidFill>
              <a:latin typeface="Arial Narrow"/>
            </a:endParaRPr>
          </a:p>
        </p:txBody>
      </p:sp>
      <p:sp>
        <p:nvSpPr>
          <p:cNvPr id="9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تشمل تقديراً للتدفقات النقدية ومصادرها واستخداماتها المختلفة، ولا يختلف هيكل الموازنة المالية فى المنشآت الصناعية عن المنشآت التجارية، وتشتمل على:</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1</a:t>
            </a:r>
            <a:r>
              <a:rPr b="0" lang="ar-SA" sz="2600" spc="-1" strike="noStrike">
                <a:solidFill>
                  <a:srgbClr val="ffffff"/>
                </a:solidFill>
                <a:latin typeface="Arial"/>
                <a:ea typeface="Times New Roman (Arabic)"/>
              </a:rPr>
              <a:t>- موازنة المصروفات الرأسمالية.</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2</a:t>
            </a:r>
            <a:r>
              <a:rPr b="0" lang="ar-SA" sz="2600" spc="-1" strike="noStrike">
                <a:solidFill>
                  <a:srgbClr val="ffffff"/>
                </a:solidFill>
                <a:latin typeface="Arial"/>
                <a:ea typeface="Times New Roman (Arabic)"/>
              </a:rPr>
              <a:t>- موازنة النقدية</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3</a:t>
            </a:r>
            <a:r>
              <a:rPr b="0" lang="ar-SA" sz="2600" spc="-1" strike="noStrike">
                <a:solidFill>
                  <a:srgbClr val="ffffff"/>
                </a:solidFill>
                <a:latin typeface="Arial"/>
                <a:ea typeface="Times New Roman (Arabic)"/>
              </a:rPr>
              <a:t>- قائمة المركز المالى التقديرى.</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4</a:t>
            </a:r>
            <a:r>
              <a:rPr b="0" lang="ar-SA" sz="2600" spc="-1" strike="noStrike">
                <a:solidFill>
                  <a:srgbClr val="ffffff"/>
                </a:solidFill>
                <a:latin typeface="Arial"/>
                <a:ea typeface="Times New Roman (Arabic)"/>
              </a:rPr>
              <a:t>- قائمة التغيرات فى المركز المالى.</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E005F1C1-2776-4343-9FAE-ACAABE66561E}" type="slidenum">
              <a:t>7</a:t>
            </a:fld>
          </a:p>
        </p:txBody>
      </p:sp>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just"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بيعات</a:t>
            </a:r>
            <a:endParaRPr b="1" lang="en-US" sz="4800" spc="-1" strike="noStrike">
              <a:solidFill>
                <a:srgbClr val="ffffcc"/>
              </a:solidFill>
              <a:latin typeface="Arial Narrow"/>
            </a:endParaRPr>
          </a:p>
        </p:txBody>
      </p:sp>
      <p:sp>
        <p:nvSpPr>
          <p:cNvPr id="100" name="PlaceHolder 2"/>
          <p:cNvSpPr>
            <a:spLocks noGrp="1"/>
          </p:cNvSpPr>
          <p:nvPr>
            <p:ph/>
          </p:nvPr>
        </p:nvSpPr>
        <p:spPr>
          <a:xfrm>
            <a:off x="2819520" y="1980720"/>
            <a:ext cx="5943600" cy="4876920"/>
          </a:xfrm>
          <a:prstGeom prst="rect">
            <a:avLst/>
          </a:prstGeom>
          <a:noFill/>
          <a:ln w="0">
            <a:noFill/>
          </a:ln>
        </p:spPr>
        <p:txBody>
          <a:bodyPr lIns="92160" rIns="92160" tIns="46080" bIns="46080" anchor="t">
            <a:normAutofit fontScale="89000"/>
          </a:bodyPr>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عبر موازنة المبيعات عن حجم المبيعات المتوقعة والقيمة البيعية لها، وتمثل موازنة المبيعات أهم عناصر الموازنة الرئيسية، والخطوة الأولية فى إعدادها. ويتوقف إعداد الموازنات الأخرى على تقديرات موازنة المبيعات،مثل  موازنة المخزون، الإنتاج، العمالة، التسويق . ويعتمد إعداد موازنة المبيعات على العناصر التالية:</a:t>
            </a:r>
            <a:endParaRPr b="0" lang="en-US" sz="2400" spc="-1" strike="noStrike">
              <a:solidFill>
                <a:srgbClr val="ffffff"/>
              </a:solidFill>
              <a:latin typeface="Arial"/>
            </a:endParaRPr>
          </a:p>
          <a:p>
            <a:pPr marL="305280" indent="-30528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قدير حجم المبيعات: والذى يتأثر بعدة عوامل منها </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اتجاهات المبيعات فى الفترات السابقة.</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المتغيرات الاقتصادية الحالية والمستقبلية وعلاقتها بقرارات التسعير.</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تصرف المنشآت المنافسة.</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خطط الدعاية والتسويق.</a:t>
            </a:r>
            <a:endParaRPr b="0" lang="en-US" sz="2400" spc="-1" strike="noStrike">
              <a:solidFill>
                <a:srgbClr val="ffffff"/>
              </a:solidFill>
              <a:latin typeface="Arial"/>
            </a:endParaRPr>
          </a:p>
          <a:p>
            <a:pPr lvl="1" marL="660960" indent="-25416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المبيعات المتوقعة = حجم المبيعات المتوقع </a:t>
            </a:r>
            <a:r>
              <a:rPr b="0" lang="en-US" sz="2200" spc="-1" strike="noStrike">
                <a:solidFill>
                  <a:srgbClr val="ffffff"/>
                </a:solidFill>
                <a:latin typeface="Arial"/>
                <a:ea typeface="Times New Roman (Arabic)"/>
              </a:rPr>
              <a:t>x</a:t>
            </a:r>
            <a:r>
              <a:rPr b="0" lang="ar-SA" sz="2200" spc="-1" strike="noStrike">
                <a:solidFill>
                  <a:srgbClr val="ffffff"/>
                </a:solidFill>
                <a:latin typeface="Arial"/>
                <a:ea typeface="Times New Roman (Arabic)"/>
              </a:rPr>
              <a:t> سعر البيع المتوقع</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BB79BE42-18CA-4C31-B77E-F48F780CE84B}" type="slidenum">
              <a:t>8</a:t>
            </a:fld>
          </a:p>
        </p:txBody>
      </p:sp>
    </p:spTree>
  </p:cSld>
  <p:transition spd="slow">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إنتاج</a:t>
            </a:r>
            <a:endParaRPr b="1" lang="en-US" sz="4800" spc="-1" strike="noStrike">
              <a:solidFill>
                <a:srgbClr val="ffffcc"/>
              </a:solidFill>
              <a:latin typeface="Arial Narrow"/>
            </a:endParaRPr>
          </a:p>
        </p:txBody>
      </p:sp>
      <p:sp>
        <p:nvSpPr>
          <p:cNvPr id="10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تعكس هذه الموازنة حجم الإنتاج المطلوب والتى يتم على أساسها إعداد موازنة المواد الخام، وموازنة الأجور، وموازنة التكاليف الصناعية غير المباشرة.</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حجم الإنتاج (وحدات)= حجم المبيعات + الرصيد المطلوب من مخزون الإنتاج التام أخر الفترة – الرصيد المتوقع من الإنتاج التام أول الفتر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E72DECA0-9DFE-4F36-8928-AAE172A4387D}" type="slidenum">
              <a:t>9</a:t>
            </a:fld>
          </a:p>
        </p:txBody>
      </p:sp>
    </p:spTree>
  </p:cSld>
  <p:transition spd="slow">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eda Saleh</cp:lastModifiedBy>
  <dcterms:modified xsi:type="dcterms:W3CDTF">2003-06-11T00:27:53Z</dcterms:modified>
  <cp:revision>10</cp:revision>
  <dc:subject/>
  <dc:title>PowerPoint Presentation</dc:title>
</cp:coreProperties>
</file>