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EC142-DD61-49D5-9586-7C0D68B86D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8B2F4-1CA1-4C10-93F5-507FDD7FB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F76526-4E51-407A-A47E-4A3A955737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D0506-2DA8-49CC-AB50-FF9D1995F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65BA2-F95E-4FD2-920F-957E1F929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30038C-E2F5-432D-9378-675771B45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30E6EE-1570-4291-BA30-0E2A33E49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3F438-B64A-476D-817C-9784A15C8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F9CE4-11D4-4008-BB7F-14EA0337D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13FE6-5B32-46D6-91F0-B921DAF95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3AC88E-9268-41F3-AA70-278C905F3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5FD44-9353-4071-8BCF-D24101C0F9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38551-BBF6-45D1-A126-445BD60156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36C70F-0EF9-42EC-960B-6F8B9D04F0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179C8-3AB7-443D-AFE0-B9C075A69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5E4C8-5295-4620-B2B0-02B58B1CD4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64D13E-E8B4-42A5-B8D2-61FDA1075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104F5-738B-44FC-BDCF-BA6E12531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C0DA3-9F08-4DAC-9869-89A96D19A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A341AE-1A26-49FD-9C3C-14FC81575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B6C95D-8A0B-4BD9-9828-0EB67E43F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BE9D3-BD69-48D8-82B9-8B45FE773D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AC616-8C93-4ADE-9CD0-061D19BF3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483E2-7EFC-4CC6-85C5-F1A969256A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8E157-E84A-4A35-A318-3054BD697CB9}"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5B90-71CC-4C6D-B60B-0BD15093A050}"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86AD-14BD-491B-9DD7-23D4857A6D06}" type="datetime">
              <a:rPr b="0" lang="en-US" sz="1400" spc="-1" strike="noStrike">
                <a:solidFill>
                  <a:srgbClr val="000000"/>
                </a:solidFill>
                <a:latin typeface="Comic Sans MS"/>
              </a:rPr>
              <a:t>07/28/26</a:t>
            </a:fld>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FE94A-E7A7-4F75-ACBC-B0CAE0447BC8}"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ff0000"/>
                </a:solidFill>
                <a:latin typeface="Comic Sans MS"/>
              </a:rPr>
              <a:t>المخزون</a:t>
            </a: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د. خالد ضحاوي</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دوري</a:t>
            </a:r>
            <a:endParaRPr b="0" lang="en-US" sz="44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عادة ما يتم تطبيقها في/أو بالقرب من نهاية السنة المالية، علي أن يراعي أن تكون الفترة بين الجرد الفعلي ونهاية السنة المالية الفعلية أقل ما يمكن ، للتأكد من دقة التسويات الضرورية للتوصل الى أرقام نهاية السنة. </a:t>
            </a:r>
            <a:endParaRPr b="0" lang="en-US" sz="3200" spc="-1" strike="noStrike">
              <a:solidFill>
                <a:srgbClr val="000000"/>
              </a:solidFill>
              <a:latin typeface="Comic Sans MS"/>
            </a:endParaRPr>
          </a:p>
          <a:p>
            <a:pPr marL="305280" indent="-3052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التحقق من صحة عد و تصنيف و تسجيل المخزون سواء تم إتباع طريقة الجرد المستمر أو الجرد الدورى.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39E68F3-77B8-45F0-86D0-397451B4CC39}" type="slidenum">
              <a:t>10</a:t>
            </a:fld>
          </a:p>
        </p:txBody>
      </p:sp>
      <p:sp>
        <p:nvSpPr>
          <p:cNvPr id="6" name="PlaceHolder 5"/>
          <p:cNvSpPr>
            <a:spLocks noGrp="1"/>
          </p:cNvSpPr>
          <p:nvPr>
            <p:ph type="dt" idx="1"/>
          </p:nvPr>
        </p:nvSpPr>
        <p:spPr/>
        <p:txBody>
          <a:bodyPr/>
          <a:p>
            <a:fld id="{A64B994D-C57D-44EA-8C40-D18D283B6E38}"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إدارة في الجرد – التنظيم في المخازن</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يجب على </a:t>
            </a:r>
            <a:r>
              <a:rPr b="0" lang="ar-EG" sz="2800" spc="-1" strike="noStrike">
                <a:solidFill>
                  <a:srgbClr val="000000"/>
                </a:solidFill>
                <a:latin typeface="Comic Sans MS"/>
              </a:rPr>
              <a:t>ادارة</a:t>
            </a:r>
            <a:r>
              <a:rPr b="0" lang="ar-SA" sz="2800" spc="-1" strike="noStrike">
                <a:solidFill>
                  <a:srgbClr val="000000"/>
                </a:solidFill>
                <a:latin typeface="Comic Sans MS"/>
              </a:rPr>
              <a:t> المنشأة مراعاة التنظيم الدائم للمخازن وبصفة خاصة للتأكد من الآتي:</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  حفظ البضائع علي ارفف أو علي حوامل مع توصيف كامل لكل صنف بموجب بطاقات صنف ....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 حماية البضائع من التلف ومن الاختلاس عن طريق منع الدخول للمخازن مثلا.</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ج – تحديد و فصل البضائع المحتفظ بها لصالح الغير ، والأصناف بطيئة الحركة والمخزون الراكد ..الخ.</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د – ترتيب المنطقة التي يجب تغطيتها بإجراءات الجرد والتي يجب أن تكون مرتبة و نظيفة.</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CB93877-6A7F-4ECE-969F-5E16C30A6DB0}" type="slidenum">
              <a:t>11</a:t>
            </a:fld>
          </a:p>
        </p:txBody>
      </p:sp>
      <p:sp>
        <p:nvSpPr>
          <p:cNvPr id="6" name="PlaceHolder 5"/>
          <p:cNvSpPr>
            <a:spLocks noGrp="1"/>
          </p:cNvSpPr>
          <p:nvPr>
            <p:ph type="dt" idx="1"/>
          </p:nvPr>
        </p:nvSpPr>
        <p:spPr/>
        <p:txBody>
          <a:bodyPr/>
          <a:p>
            <a:fld id="{D5291530-A65B-4F54-9F9F-AB6A91171085}"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 دور الإدارة في الجرد الفعلي</a:t>
            </a:r>
            <a:endParaRPr b="0" lang="en-US" sz="44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7000"/>
          </a:bodyPr>
          <a:p>
            <a:pPr marL="298440" indent="-298440" algn="r" rtl="1">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يجب أن تحدد التعليمات التي يتم إصدارها عند إجراء الجرد الفعلي ما يلي:</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الإجراءات التي يجب علي كل مركز اتباعها وتقسيم كل مركز إلى مناطق لأغراض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عيين مشرفين أكفاء (فنياً وإدارياً) لكل منطقة مع فرق عمل للقيام بأعمال العد والحصر من أشخاص مؤهلين فنياً تحت قيادتهم ، علي أن يكون شخص واحد في كل مجموعة مسئولاً عن العد والآخر للتسجيل والتأكد من العد. لا يجب أن يقوم أمناء المخازن بالعد أو التسجيل ما لم يكن عملهم قد تم فحصه بشكل مستقل</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يتم استخدام علامة توضع علي المخزون الذي تم جرده مثل علامة بالطباشير....الخ.</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وجود نماذج نمطية مرقمة مسبقاً لتسجيل الجرد مع وجود نظام لصرف واستعادة هذه النماذج للتأكد من أن جميع المناطق قد تم جردها وتسجيل محتوياتها وأنه قد تم الاحتفاظ بسجلات وافية عن نتائج الجرد.</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يجب  إيقاف حركة المخزون خلال عملية الجرد أو رقابتها عن قرب.</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مقارنة الجرد الفعلي مع سجلات المخزون في اقرب وقت حتى يمكن فحص أي فروق وتسويتها.</a:t>
            </a:r>
            <a:endParaRPr b="0" lang="en-US" sz="2000" spc="-1" strike="noStrike">
              <a:solidFill>
                <a:srgbClr val="000000"/>
              </a:solidFill>
              <a:latin typeface="Comic Sans MS"/>
            </a:endParaRPr>
          </a:p>
          <a:p>
            <a:pPr marL="2984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D6956B3-4B79-456A-ABB3-066A454B2BF8}" type="slidenum">
              <a:t>12</a:t>
            </a:fld>
          </a:p>
        </p:txBody>
      </p:sp>
      <p:sp>
        <p:nvSpPr>
          <p:cNvPr id="6" name="PlaceHolder 5"/>
          <p:cNvSpPr>
            <a:spLocks noGrp="1"/>
          </p:cNvSpPr>
          <p:nvPr>
            <p:ph type="dt" idx="1"/>
          </p:nvPr>
        </p:nvSpPr>
        <p:spPr/>
        <p:txBody>
          <a:bodyPr/>
          <a:p>
            <a:fld id="{CA905BF0-81F5-4E78-B85B-2A97D54711D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دور المراجع في الجرد</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77000"/>
          </a:bodyPr>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عندما يكون المخزون هاماً بالنسبة للقوائم المالية يجب علي المراجع أن يحصل على دليل مراجعة كاف ومناسب من حيث الوجود الفعلي للمخزون وحالته و ذلك بحضوره الجرد الفعلي للمخزون ما لم يكن ذلك غير قابل للتنفيذ عملي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إن حضور المراجع الجرد الفعلي يمكنه من فحص المخزون وملاحظة الالتزام بالإجراءات الإدارية للحصول على أدلة يمكن الاعتماد عليه.</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إذا لم يتواجد المراجع في التاريخ المحدد لعملية الجرد نتيجة ظروف غير متوقعة فإن علي المراجع القيام بجرد فعلي في يوم آخر إذا ما كان ذلك ممكناً.</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إذا كان حضور المراجع غير ممكنا نتيجة لطبيعة أو مكان المخازن  فيجب علي المراجع الحصول على أدلة كافية لتجنب كتابة تحفظ في تقرير المراجعة</a:t>
            </a:r>
            <a:endParaRPr b="0" lang="en-US" sz="2400" spc="-1" strike="noStrike">
              <a:solidFill>
                <a:srgbClr val="000000"/>
              </a:solidFill>
              <a:latin typeface="Comic Sans MS"/>
            </a:endParaRPr>
          </a:p>
          <a:p>
            <a:pPr marL="263880" indent="-263880" algn="r" rtl="1">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يمكن تقسيم واجبات المراجع إلي الفترات قبل وخلال وبعد عملية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9DC17F32-6AE3-4255-9E7A-F3678A92D993}" type="slidenum">
              <a:t>13</a:t>
            </a:fld>
          </a:p>
        </p:txBody>
      </p:sp>
      <p:sp>
        <p:nvSpPr>
          <p:cNvPr id="6" name="PlaceHolder 5"/>
          <p:cNvSpPr>
            <a:spLocks noGrp="1"/>
          </p:cNvSpPr>
          <p:nvPr>
            <p:ph type="dt" idx="1"/>
          </p:nvPr>
        </p:nvSpPr>
        <p:spPr/>
        <p:txBody>
          <a:bodyPr/>
          <a:p>
            <a:fld id="{ACBC1FC7-2D01-43CC-981A-D3B9A854CC22}"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Comic Sans MS"/>
              </a:rPr>
              <a:t>واجبات المراجع فى مرحلة التخطيـط</a:t>
            </a:r>
            <a:br>
              <a:rPr sz="4400"/>
            </a:b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1000"/>
          </a:bodyPr>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أ</a:t>
            </a:r>
            <a:r>
              <a:rPr b="0" lang="ar-SA" sz="2000" spc="-1" strike="noStrike">
                <a:solidFill>
                  <a:srgbClr val="000000"/>
                </a:solidFill>
                <a:latin typeface="Comic Sans MS"/>
              </a:rPr>
              <a:t>أ- فحص أوراق عمل العام السابق.</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حديد المناطق  ذات المشاكل وعلاقاتها بنظام الرقابة الداخلية وتقرير ما إذا كان سيعتمد على عمل المراجع الداخلي.</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قييم مخاطر الرقابة المتأصلة و مخاطر عدم الاكتشاف وتحديد الأهمية النسبي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إجراء مصادقات مع الغير الذين يحتفظون بمخزون لديهم يخص الشركة..</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إذا  كانت طبيعة المخزون متخصصة حينئذ قد تظهر الحاجة إلي الاستعانة بخبير </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فحص تعليمات العميل الخاصة بالجرد.</a:t>
            </a:r>
            <a:endParaRPr b="0" lang="en-US" sz="2000" spc="-1" strike="noStrike">
              <a:solidFill>
                <a:srgbClr val="000000"/>
              </a:solidFill>
              <a:latin typeface="Comic Sans MS"/>
            </a:endParaRPr>
          </a:p>
          <a:p>
            <a:pPr marL="31212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000000"/>
                </a:solidFill>
                <a:latin typeface="Comic Sans MS"/>
              </a:rPr>
              <a:t>ز- </a:t>
            </a:r>
            <a:r>
              <a:rPr b="0" lang="ar-SA" sz="2000" spc="-1" strike="noStrike">
                <a:solidFill>
                  <a:srgbClr val="000000"/>
                </a:solidFill>
                <a:latin typeface="Comic Sans MS"/>
              </a:rPr>
              <a:t>عمل إجراءات تحليلية على المخزون كجزء من عملية التخطيط و التي تتكون من تحديد أعمار المخزون باستخدام المعدلات مثل:</a:t>
            </a:r>
            <a:endParaRPr b="0" lang="en-US" sz="20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عدل دوران المخزون =     </a:t>
            </a:r>
            <a:r>
              <a:rPr b="0" lang="ar-SA" sz="1600" spc="-1" strike="noStrike" u="sng">
                <a:solidFill>
                  <a:srgbClr val="000000"/>
                </a:solidFill>
                <a:uFillTx/>
                <a:latin typeface="Comic Sans MS"/>
              </a:rPr>
              <a:t>تكلفة المبيعات</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متوسط المخزون</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متوسط فترة التخزين=         </a:t>
            </a:r>
            <a:r>
              <a:rPr b="0" lang="ar-SA" sz="1600" spc="-1" strike="noStrike" u="sng">
                <a:solidFill>
                  <a:srgbClr val="000000"/>
                </a:solidFill>
                <a:uFillTx/>
                <a:latin typeface="Comic Sans MS"/>
              </a:rPr>
              <a:t>متوسط المخزون</a:t>
            </a:r>
            <a:r>
              <a:rPr b="0" lang="ar-SA" sz="1600" spc="-1" strike="noStrike">
                <a:solidFill>
                  <a:srgbClr val="000000"/>
                </a:solidFill>
                <a:latin typeface="Comic Sans MS"/>
              </a:rPr>
              <a:t>   × </a:t>
            </a:r>
            <a:r>
              <a:rPr b="0" lang="ar-SA" sz="1600" spc="-1" strike="noStrike">
                <a:solidFill>
                  <a:srgbClr val="000000"/>
                </a:solidFill>
                <a:latin typeface="Comic Sans MS"/>
              </a:rPr>
              <a:t>365</a:t>
            </a:r>
            <a:endParaRPr b="0" lang="en-US" sz="1600" spc="-1" strike="noStrike">
              <a:solidFill>
                <a:srgbClr val="000000"/>
              </a:solidFill>
              <a:latin typeface="Comic Sans MS"/>
            </a:endParaRPr>
          </a:p>
          <a:p>
            <a:pPr lvl="2" marL="1040040" indent="-207720" algn="r" rtl="1">
              <a:lnSpc>
                <a:spcPct val="80000"/>
              </a:lnSpc>
              <a:spcBef>
                <a:spcPts val="4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                                  تكلفة المبيعات</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DC38C06-B131-45F2-A31F-9C1EDB6A9F42}" type="slidenum">
              <a:t>14</a:t>
            </a:fld>
          </a:p>
        </p:txBody>
      </p:sp>
      <p:sp>
        <p:nvSpPr>
          <p:cNvPr id="6" name="PlaceHolder 5"/>
          <p:cNvSpPr>
            <a:spLocks noGrp="1"/>
          </p:cNvSpPr>
          <p:nvPr>
            <p:ph type="dt" idx="1"/>
          </p:nvPr>
        </p:nvSpPr>
        <p:spPr/>
        <p:txBody>
          <a:bodyPr/>
          <a:p>
            <a:fld id="{E9D2EBDE-2C1A-49AB-B889-316C3ED5F789}"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خلال عملية الجرد الفعلي</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أن يستخدم اختبارات عكسية عن طريق مراجعة عينة من البنود الموجودة في كشوف جرد المخزون مع المخزون الموجود فعليا و مراجعة عينة من المخزون الموجود فعليا مع كشوف الجرد مع الاحتفاظ بصور من كشوف الجرد لإجراء اختبارات لاحقة.</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تدوين ملاحظات بالنسبة للأصناف التي تم جردها ، والمخزون التالف ، و كذلك الحالات التي لا يتم فيها إتباع إجراءات الجرد.</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فحص واختبار الرقابة بالنسبة لكشوف جرد المخزون ، فالعميل يجب أن يحتفظ بسجل لكشوف جرد المخزون.</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اختبار إجراءات القطع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هـ- إعطاء عناية خاصة بالنسبة للبضائع المخزنة لحساب الغير ( وعلى سبيل المثال بضاعة الأمانة )</a:t>
            </a:r>
            <a:endParaRPr b="0" lang="en-US" sz="2400" spc="-1" strike="noStrike">
              <a:solidFill>
                <a:srgbClr val="000000"/>
              </a:solidFill>
              <a:latin typeface="Comic Sans MS"/>
            </a:endParaRPr>
          </a:p>
          <a:p>
            <a:pPr marL="2880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و – التوصل إلى نتيجة فيما إذا كانت عملية الجرد مرضية وما إذا كان يمكن الاعتماد عليها لتدعيم الرصيد النهائي للمخزون.</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D382137-2216-4041-8B33-402355EC1C2E}" type="slidenum">
              <a:t>15</a:t>
            </a:fld>
          </a:p>
        </p:txBody>
      </p:sp>
      <p:sp>
        <p:nvSpPr>
          <p:cNvPr id="6" name="PlaceHolder 5"/>
          <p:cNvSpPr>
            <a:spLocks noGrp="1"/>
          </p:cNvSpPr>
          <p:nvPr>
            <p:ph type="dt" idx="1"/>
          </p:nvPr>
        </p:nvSpPr>
        <p:spPr/>
        <p:txBody>
          <a:bodyPr/>
          <a:p>
            <a:fld id="{E71F35FF-6BD2-49DE-9F33-28C3512C07FD}"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Comic Sans MS"/>
              </a:rPr>
              <a:t>واجبات المراجع فى مرحلة ما بعد الجــرد الفعلى</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ى المراجع اختبار تفاصيل إجراءات القطع بمطابقة النتائج التفصيلية للجرد الفعلي مع حسابات الأستاذ </a:t>
            </a: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جب علي المراجع أن يتأكد من أن سجلات الجرد المستمر قد تم تعديلها أو تسويتها طبقاً للجرد الفعلي وأن كافة الفروق قد تم فحصها و متابعة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25850A51-3DF0-444D-B46C-DFAE570B9760}" type="slidenum">
              <a:t>16</a:t>
            </a:fld>
          </a:p>
        </p:txBody>
      </p:sp>
      <p:sp>
        <p:nvSpPr>
          <p:cNvPr id="6" name="PlaceHolder 5"/>
          <p:cNvSpPr>
            <a:spLocks noGrp="1"/>
          </p:cNvSpPr>
          <p:nvPr>
            <p:ph type="dt" idx="1"/>
          </p:nvPr>
        </p:nvSpPr>
        <p:spPr/>
        <p:txBody>
          <a:bodyPr/>
          <a:p>
            <a:fld id="{CA2D0FEC-034C-4626-8198-93D71878A835}"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ختبارات القطع</a:t>
            </a:r>
            <a:endParaRPr b="0" lang="en-US" sz="4400" spc="-1" strike="noStrike">
              <a:solidFill>
                <a:srgbClr val="000000"/>
              </a:solidFill>
              <a:latin typeface="Comic Sans MS"/>
            </a:endParaRPr>
          </a:p>
        </p:txBody>
      </p:sp>
      <p:sp>
        <p:nvSpPr>
          <p:cNvPr id="18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أ- يجب تسجيل رقم أخر فاتورة مبيعات و آخر إشعار شحن و أخر إشعار استلام بضائع و التي تمت قبل البدء فى عملية الجرد.</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ب- بعد عملية الجرد ، يتم اختبار اشعارات الشحن الصادرة في نهاية السنة مع فواتير المبيعات ومع دفتر يومية المبيعات والعكس للتأكد من أن اشعارات الشحن والفواتير المتعلقة بها  قد تم تسجيلها جميعها قبل نهاية السن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ج – يتم نفس الإجراء بالنسبة للمشتريات من حيث التأكد من أن أذون استلام البضائع في نهاية السنة وفواتير المشتريات المتعلقة بها قد تم معالجتها في الفترة الجارية.</a:t>
            </a:r>
            <a:endParaRPr b="0" lang="en-US" sz="2400" spc="-1" strike="noStrike">
              <a:solidFill>
                <a:srgbClr val="000000"/>
              </a:solidFill>
              <a:latin typeface="Comic Sans MS"/>
            </a:endParaRPr>
          </a:p>
          <a:p>
            <a:pPr marL="3222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د – يتم أخذ عينة من البضائع الواردة و البضائع الصادرة بعد انتهاء السنة مباشرة وتأكد من أن البضائع الواردة لم تدخل ضمن الجرد و أن البضاعة الصادرة دخلت ضمن الجرد.</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FB6F4D1E-D489-462B-84D8-A4DFADFF1782}" type="slidenum">
              <a:t>17</a:t>
            </a:fld>
          </a:p>
        </p:txBody>
      </p:sp>
      <p:sp>
        <p:nvSpPr>
          <p:cNvPr id="6" name="PlaceHolder 5"/>
          <p:cNvSpPr>
            <a:spLocks noGrp="1"/>
          </p:cNvSpPr>
          <p:nvPr>
            <p:ph type="dt" idx="1"/>
          </p:nvPr>
        </p:nvSpPr>
        <p:spPr/>
        <p:txBody>
          <a:bodyPr/>
          <a:p>
            <a:fld id="{FC3E36EA-5D26-4822-A62E-23AAC8CFCDAF}"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خامات</a:t>
            </a:r>
            <a:endParaRPr b="0" lang="en-US" sz="4400" spc="-1" strike="noStrike">
              <a:solidFill>
                <a:srgbClr val="000000"/>
              </a:solidFill>
              <a:latin typeface="Comic Sans MS"/>
            </a:endParaRPr>
          </a:p>
        </p:txBody>
      </p:sp>
      <p:sp>
        <p:nvSpPr>
          <p:cNvPr id="18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تأكد من العناصر التي تتضمنها التكلفة مثل النقل الداخلي والرسوم الجمركية ...الخ.</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تأكد من الطريقة المتبعة في تسعير المنصرف من المخزون.</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إذا تم استخدام التكاليف المعيارية ، فاستفسر عن القواعد الخاصة بالمعايير ، وكيف يتم مقارنتها بالتكاليف الفعلية وكيف يتم معالجة الانحرافات.</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اختبر وأفحص أسعار التكلفة في فواتير المشتريات الواردة في الشهر أو الشهور السابقة للجرد.</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ختبر وافحص الكميات الواردة بسجلات المخزون أو بطاقات الصنف وذلك بهدف ملاحظة الأصناف الموجودة في المخزون لفترة تزيد عن ستة شهور علي سبيل المثال ، وناقش هذه الأصناف مع الإدارة من أجل معرفة التاريخ المتوقع لاستخدامها ، فإذا كان من الأرجح إنه لن يتم استخدامها حاول أن تتأكد من صافى قيمتها المنتظر تحقيقها بطريقة معقولة.</a:t>
            </a:r>
            <a:endParaRPr b="0" lang="en-US" sz="2000" spc="-1" strike="noStrike">
              <a:solidFill>
                <a:srgbClr val="000000"/>
              </a:solidFill>
              <a:latin typeface="Comic Sans MS"/>
            </a:endParaRPr>
          </a:p>
          <a:p>
            <a:pPr marL="3052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a:t>
            </a:r>
            <a:r>
              <a:rPr b="0" lang="ar-SA" sz="2000" spc="-1" strike="noStrike">
                <a:solidFill>
                  <a:srgbClr val="000000"/>
                </a:solidFill>
                <a:latin typeface="Comic Sans MS"/>
              </a:rPr>
              <a:t>	</a:t>
            </a:r>
            <a:r>
              <a:rPr b="0" lang="ar-SA" sz="2000" spc="-1" strike="noStrike">
                <a:solidFill>
                  <a:srgbClr val="000000"/>
                </a:solidFill>
                <a:latin typeface="Comic Sans MS"/>
              </a:rPr>
              <a:t>تابع تقييم كافة الأصناف التالفة أو آلتي انتهت صلاحيتها من المخزون والتي تم ملاحظتها خلال الجرد الفعلي مع محاولة إيجاد صافى القيمة المنتظر تحقيقها لها.</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84B7403C-53A8-438F-A5BF-F714B1F70CCF}" type="slidenum">
              <a:t>18</a:t>
            </a:fld>
          </a:p>
        </p:txBody>
      </p:sp>
      <p:sp>
        <p:nvSpPr>
          <p:cNvPr id="6" name="PlaceHolder 5"/>
          <p:cNvSpPr>
            <a:spLocks noGrp="1"/>
          </p:cNvSpPr>
          <p:nvPr>
            <p:ph type="dt" idx="1"/>
          </p:nvPr>
        </p:nvSpPr>
        <p:spPr/>
        <p:txBody>
          <a:bodyPr/>
          <a:p>
            <a:fld id="{BFFD956B-4775-44E3-998D-C44C8A1550B2}"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تحت التشغيل</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ar-SA" sz="2000" spc="-1" strike="noStrike">
                <a:solidFill>
                  <a:srgbClr val="000000"/>
                </a:solidFill>
                <a:latin typeface="Comic Sans MS"/>
              </a:rPr>
              <a:t>	</a:t>
            </a:r>
            <a:r>
              <a:rPr b="0" lang="ar-SA" sz="2000" spc="-1" strike="noStrike">
                <a:solidFill>
                  <a:srgbClr val="000000"/>
                </a:solidFill>
                <a:latin typeface="Comic Sans MS"/>
              </a:rPr>
              <a:t> تأكد من عناصر التكلفة التي تتضمنها. إذا كانت تتضمن مصاريف ثابتة تأكد من القواعد التي تم على أساسها تحديد أسس التحميل وراجع هذه القواعد مع نظام محاسبة التكاليف والمعلومات المالية المتاحة.</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a:t>
            </a:r>
            <a:r>
              <a:rPr b="0" lang="ar-SA" sz="2000" spc="-1" strike="noStrike">
                <a:solidFill>
                  <a:srgbClr val="000000"/>
                </a:solidFill>
                <a:latin typeface="Comic Sans MS"/>
              </a:rPr>
              <a:t>	</a:t>
            </a:r>
            <a:r>
              <a:rPr b="0" lang="ar-SA" sz="2000" spc="-1" strike="noStrike">
                <a:solidFill>
                  <a:srgbClr val="000000"/>
                </a:solidFill>
                <a:latin typeface="Comic Sans MS"/>
              </a:rPr>
              <a:t> تأكد من كيفية القياس لكافة مراحل العمليات وإذا تم الاعتماد علي تقديرات فتحقق من أساس هذه التقديرات.</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أكد من أن تكاليف المواد لا تتضمن قيمة فاقد غير عادى.</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أكد من أن أي زيادة للأعباء الثابتة تتضمن فقط المصروفات العادية ومحتسبة على أساس الطاقة العادية للإنتاج ، وأن أي تكاليف تنشأ من الاستخدام غير الكامل لوسائل الإنتاج أو الاستخدام المبالغ فيه لتلك الوسائل أو الظروف غير العادية لا  يتضمنها تقييم المخزون.</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استفسر عن أي أصناف راكدة أو تالفة أو انتهت صلاحيتها وتأكد من انه قد تم تقييمها بصافي القيمة المنتظر تحقيقها المقدرة المعقولة وافحص ذلك مع  المبيعات السابقة أو التالية لنفس الأصناف.</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38A4E86C-87D2-42B3-96AB-C27833B65847}" type="slidenum">
              <a:t>19</a:t>
            </a:fld>
          </a:p>
        </p:txBody>
      </p:sp>
      <p:sp>
        <p:nvSpPr>
          <p:cNvPr id="6" name="PlaceHolder 5"/>
          <p:cNvSpPr>
            <a:spLocks noGrp="1"/>
          </p:cNvSpPr>
          <p:nvPr>
            <p:ph type="dt" idx="1"/>
          </p:nvPr>
        </p:nvSpPr>
        <p:spPr/>
        <p:txBody>
          <a:bodyPr/>
          <a:p>
            <a:fld id="{EBE01A23-85E1-4E11-A542-ADAF9F2A4F42}"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أسباب أهمية حساب المخزون</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ar-SA" sz="3200" spc="-1" strike="noStrike">
                <a:solidFill>
                  <a:srgbClr val="000000"/>
                </a:solidFill>
                <a:latin typeface="Comic Sans MS"/>
              </a:rPr>
              <a:t>	</a:t>
            </a:r>
            <a:r>
              <a:rPr b="0" lang="ar-SA" sz="3200" spc="-1" strike="noStrike">
                <a:solidFill>
                  <a:srgbClr val="000000"/>
                </a:solidFill>
                <a:latin typeface="Comic Sans MS"/>
              </a:rPr>
              <a:t>تأثير مباشر على الربح .</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واع المخزون </a:t>
            </a:r>
            <a:r>
              <a:rPr b="0" lang="ar-EG" sz="3200" spc="-1" strike="noStrike">
                <a:solidFill>
                  <a:srgbClr val="000000"/>
                </a:solidFill>
                <a:latin typeface="Comic Sans MS"/>
              </a:rPr>
              <a:t>المختلفة</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a:t>
            </a:r>
            <a:r>
              <a:rPr b="0" lang="en-US" sz="3200" spc="-1" strike="noStrike">
                <a:solidFill>
                  <a:srgbClr val="000000"/>
                </a:solidFill>
                <a:latin typeface="Comic Sans MS"/>
              </a:rPr>
              <a:t> </a:t>
            </a:r>
            <a:r>
              <a:rPr b="0" lang="ar-EG" sz="3200" spc="-1" strike="noStrike">
                <a:solidFill>
                  <a:srgbClr val="000000"/>
                </a:solidFill>
                <a:latin typeface="Comic Sans MS"/>
              </a:rPr>
              <a:t>صعوبة تنفيذ إجراءات القطع</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د – </a:t>
            </a:r>
            <a:r>
              <a:rPr b="0" lang="ar-EG" sz="3200" spc="-1" strike="noStrike">
                <a:solidFill>
                  <a:srgbClr val="000000"/>
                </a:solidFill>
                <a:latin typeface="Comic Sans MS"/>
              </a:rPr>
              <a:t>صعوبات التقييم</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هـ-</a:t>
            </a:r>
            <a:r>
              <a:rPr b="0" lang="en-US" sz="3200" spc="-1" strike="noStrike">
                <a:solidFill>
                  <a:srgbClr val="000000"/>
                </a:solidFill>
                <a:latin typeface="Comic Sans MS"/>
              </a:rPr>
              <a:t> </a:t>
            </a:r>
            <a:r>
              <a:rPr b="0" lang="ar-EG" sz="3200" spc="-1" strike="noStrike">
                <a:solidFill>
                  <a:srgbClr val="000000"/>
                </a:solidFill>
                <a:latin typeface="Comic Sans MS"/>
              </a:rPr>
              <a:t>صعوبة ال</a:t>
            </a:r>
            <a:r>
              <a:rPr b="0" lang="ar-SA" sz="3200" spc="-1" strike="noStrike">
                <a:solidFill>
                  <a:srgbClr val="000000"/>
                </a:solidFill>
                <a:latin typeface="Comic Sans MS"/>
              </a:rPr>
              <a:t>رقابة </a:t>
            </a:r>
            <a:r>
              <a:rPr b="0" lang="ar-EG" sz="3200" spc="-1" strike="noStrike">
                <a:solidFill>
                  <a:srgbClr val="000000"/>
                </a:solidFill>
                <a:latin typeface="Comic Sans MS"/>
              </a:rPr>
              <a:t>علي المخزون</a:t>
            </a:r>
            <a:endParaRPr b="0" lang="en-US" sz="3200" spc="-1" strike="noStrike">
              <a:solidFill>
                <a:srgbClr val="000000"/>
              </a:solidFill>
              <a:latin typeface="Comic Sans MS"/>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و –</a:t>
            </a:r>
            <a:r>
              <a:rPr b="0" lang="en-US" sz="3200" spc="-1" strike="noStrike">
                <a:solidFill>
                  <a:srgbClr val="000000"/>
                </a:solidFill>
                <a:latin typeface="Comic Sans MS"/>
              </a:rPr>
              <a:t> </a:t>
            </a:r>
            <a:r>
              <a:rPr b="0" lang="ar-EG" sz="3200" spc="-1" strike="noStrike">
                <a:solidFill>
                  <a:srgbClr val="000000"/>
                </a:solidFill>
                <a:latin typeface="Comic Sans MS"/>
              </a:rPr>
              <a:t>البضاعة تحت التشغيل</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42F6342-D892-4617-93C1-779E8029B9AD}" type="slidenum">
              <a:t>2</a:t>
            </a:fld>
          </a:p>
        </p:txBody>
      </p:sp>
      <p:sp>
        <p:nvSpPr>
          <p:cNvPr id="6" name="PlaceHolder 5"/>
          <p:cNvSpPr>
            <a:spLocks noGrp="1"/>
          </p:cNvSpPr>
          <p:nvPr>
            <p:ph type="dt" idx="1"/>
          </p:nvPr>
        </p:nvSpPr>
        <p:spPr/>
        <p:txBody>
          <a:bodyPr/>
          <a:p>
            <a:fld id="{2BE6EA5A-A98F-4821-9E56-1B321FDD58A8}"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جراءات تقييم مخزون الجاهز للبيع</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 </a:t>
            </a:r>
            <a:r>
              <a:rPr b="0" lang="ar-SA" sz="2000" spc="-1" strike="noStrike">
                <a:solidFill>
                  <a:srgbClr val="000000"/>
                </a:solidFill>
                <a:latin typeface="Comic Sans MS"/>
              </a:rPr>
              <a:t>	</a:t>
            </a:r>
            <a:r>
              <a:rPr b="0" lang="ar-SA" sz="2000" spc="-1" strike="noStrike">
                <a:solidFill>
                  <a:srgbClr val="000000"/>
                </a:solidFill>
                <a:latin typeface="Comic Sans MS"/>
              </a:rPr>
              <a:t>استفسر عن التكاليف التي تتضمنها وكيف تم احتسابها وتأكد من أن التكاليف الثابتة مبنية على التكاليف العادية و تتناسب مع المعلومات التي تم الإفصاح عنها في مسودة القوائم المالية.</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ختبر وأفحص الأسعار في قوائم المخزون مع قوائم الأسعار الرسمية للمبيعات ، مع الأخذ في الاعتبار أي خصومات تجارية قد تمنح عادة خارج قائمة الأسعار. وتأكد من أن المخزون قد تم تقييمه وفقاً لصافى القيمة المنتظر تحقيقها إذا كانت  أقل من التكلفة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تتبع أي أصناف تكون السجلات قد أظهرت وجودها لمدة تزيد عن ستة شهور في المخزون واستفسر عن أسباب ذلك وتأكد من القيمة المنتظر تحقيقها لهذه الأصناف. </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 تتبع أنواع المخزون الذي لوحظ وقت الجرد الفعلي على أنه توالف أو انتهت صلاحيته.</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 ناقش مع مدير المبيعات مدي إمكانية بيع بعض المنتجات بأقل من الأسعار العادية نتيجة فقدان التميز والريادة نتيجة المنافسة ، و/أو ظهور منتجات بديلة في السوق....الخ.</a:t>
            </a:r>
            <a:endParaRPr b="0" lang="en-US" sz="2000" spc="-1" strike="noStrike">
              <a:solidFill>
                <a:srgbClr val="000000"/>
              </a:solidFill>
              <a:latin typeface="Comic Sans MS"/>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 – تتبع تقييم كافة أصناف المخزون الدرجة الثانية ( الفرز الثانى ) وتأكد من تقييمها بالقيمة التقديرية  لصافى القيمة المنتظر تحقيقها إذا  كانت أقل من التكلف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74C19580-9062-44A4-825C-1F12CDF70DC0}" type="slidenum">
              <a:t>20</a:t>
            </a:fld>
          </a:p>
        </p:txBody>
      </p:sp>
      <p:sp>
        <p:nvSpPr>
          <p:cNvPr id="6" name="PlaceHolder 5"/>
          <p:cNvSpPr>
            <a:spLocks noGrp="1"/>
          </p:cNvSpPr>
          <p:nvPr>
            <p:ph type="dt" idx="1"/>
          </p:nvPr>
        </p:nvSpPr>
        <p:spPr/>
        <p:txBody>
          <a:bodyPr/>
          <a:p>
            <a:fld id="{580AAAD7-85B3-4AF5-8BD5-3BF3B33918A6}"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 الأمور التي تتطلب عناية خاصة</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Comic Sans MS"/>
              </a:rPr>
              <a:t> </a:t>
            </a:r>
            <a:r>
              <a:rPr b="0" lang="ar-SA" sz="3200" spc="-1" strike="noStrike">
                <a:solidFill>
                  <a:srgbClr val="000000"/>
                </a:solidFill>
                <a:latin typeface="Comic Sans MS"/>
              </a:rPr>
              <a:t>تحميل التكاليف غير المباشرة</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صافى القيمة المنتظر تحقيقها</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001997B-AD19-422D-9E6F-31D39C11394E}" type="slidenum">
              <a:t>21</a:t>
            </a:fld>
          </a:p>
        </p:txBody>
      </p:sp>
      <p:sp>
        <p:nvSpPr>
          <p:cNvPr id="6" name="PlaceHolder 5"/>
          <p:cNvSpPr>
            <a:spLocks noGrp="1"/>
          </p:cNvSpPr>
          <p:nvPr>
            <p:ph type="dt" idx="1"/>
          </p:nvPr>
        </p:nvSpPr>
        <p:spPr/>
        <p:txBody>
          <a:bodyPr/>
          <a:p>
            <a:fld id="{C91BD4A0-6408-4411-B0F9-0033CE0B39B1}"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4000"/>
          </a:bodyPr>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نت المراجع الخارجى لشركة الأهرام وتقوم بمراجعة الحسابات للسنة المنتهية في </a:t>
            </a:r>
            <a:r>
              <a:rPr b="0" lang="ar-SA" sz="1800" spc="-1" strike="noStrike">
                <a:solidFill>
                  <a:srgbClr val="000000"/>
                </a:solidFill>
                <a:latin typeface="Comic Sans MS"/>
              </a:rPr>
              <a:t>31</a:t>
            </a:r>
            <a:r>
              <a:rPr b="0" lang="ar-SA" sz="1800" spc="-1" strike="noStrike">
                <a:solidFill>
                  <a:srgbClr val="000000"/>
                </a:solidFill>
                <a:latin typeface="Comic Sans MS"/>
              </a:rPr>
              <a:t> ديسمبر </a:t>
            </a:r>
            <a:r>
              <a:rPr b="0" lang="ar-SA" sz="1800" spc="-1" strike="noStrike">
                <a:solidFill>
                  <a:srgbClr val="000000"/>
                </a:solidFill>
                <a:latin typeface="Comic Sans MS"/>
              </a:rPr>
              <a:t>2003</a:t>
            </a:r>
            <a:r>
              <a:rPr b="0" lang="ar-SA" sz="1800" spc="-1" strike="noStrike">
                <a:solidFill>
                  <a:srgbClr val="000000"/>
                </a:solidFill>
                <a:latin typeface="Comic Sans MS"/>
              </a:rPr>
              <a:t> وتمتلك الشركة عدد </a:t>
            </a:r>
            <a:r>
              <a:rPr b="0" lang="ar-SA" sz="1800" spc="-1" strike="noStrike">
                <a:solidFill>
                  <a:srgbClr val="000000"/>
                </a:solidFill>
                <a:latin typeface="Comic Sans MS"/>
              </a:rPr>
              <a:t>30</a:t>
            </a:r>
            <a:r>
              <a:rPr b="0" lang="ar-SA" sz="1800" spc="-1" strike="noStrike">
                <a:solidFill>
                  <a:srgbClr val="000000"/>
                </a:solidFill>
                <a:latin typeface="Comic Sans MS"/>
              </a:rPr>
              <a:t> مقطورة وارض فضاء كبيرة .</a:t>
            </a:r>
            <a:endParaRPr b="0" lang="en-US" sz="1800" spc="-1" strike="noStrike">
              <a:solidFill>
                <a:srgbClr val="000000"/>
              </a:solidFill>
              <a:latin typeface="Comic Sans MS"/>
            </a:endParaRPr>
          </a:p>
          <a:p>
            <a:pPr marL="322200" indent="-322200" algn="r" rtl="1">
              <a:lnSpc>
                <a:spcPct val="8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يتم جمع مخلفات الحديد من منشآت كثيرة تعمل بالمعادن في المنطقة و يتم تخزينها في الأرض الفضاء إلى أن يتم كبسها بواسطة ماكينة الكبس الخاصة بالشركة ، ثم تؤخذ المخلفات بواسطة السيارات لمصنع تشغيل الصلب علي بعد مائه كيلو .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 – قامت الشركة بإرسال التعليمات المسلمة للموظفين و لخاصة بتقييم المخزون إليك. أذكر ما تتوقع أن تراه في هذه التعليمات بالنسبة للمخزون الغير مكبوس و المخزن في الأرض الفضاء.</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 -تختلف أسعار المخلفات بشدة من يوم لآخر أذكر كيفية تقييم المخزون. </a:t>
            </a:r>
            <a:r>
              <a:rPr b="0" lang="ar-SA" sz="1800" spc="-1" strike="noStrike">
                <a:solidFill>
                  <a:srgbClr val="000000"/>
                </a:solidFill>
                <a:latin typeface="Comic Sans MS"/>
              </a:rPr>
              <a:t>	</a:t>
            </a:r>
            <a:r>
              <a:rPr b="0" lang="ar-SA" sz="1800" spc="-1" strike="noStrike">
                <a:solidFill>
                  <a:srgbClr val="000000"/>
                </a:solidFill>
                <a:latin typeface="Comic Sans MS"/>
              </a:rPr>
              <a:t> </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اذكر الخطوات المطلوبة للتحقق من أن مخزون المخلفات قد تم تقييمه بطريقة صحيحة.</a:t>
            </a:r>
            <a:endParaRPr b="0" lang="en-US" sz="1800" spc="-1" strike="noStrike">
              <a:solidFill>
                <a:srgbClr val="000000"/>
              </a:solidFill>
              <a:latin typeface="Comic Sans MS"/>
            </a:endParaRPr>
          </a:p>
          <a:p>
            <a:pPr marL="3222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 خلال انشغالك بعملية المراجعة  أحضر لك مدير النقل الجديد ظرف يحتوى علي عدد </a:t>
            </a:r>
            <a:r>
              <a:rPr b="0" lang="ar-SA" sz="1800" spc="-1" strike="noStrike">
                <a:solidFill>
                  <a:srgbClr val="000000"/>
                </a:solidFill>
                <a:latin typeface="Comic Sans MS"/>
              </a:rPr>
              <a:t>4</a:t>
            </a:r>
            <a:r>
              <a:rPr b="0" lang="ar-SA" sz="1800" spc="-1" strike="noStrike">
                <a:solidFill>
                  <a:srgbClr val="000000"/>
                </a:solidFill>
                <a:latin typeface="Comic Sans MS"/>
              </a:rPr>
              <a:t> ورقات نقدية كل منها بمبلغ</a:t>
            </a:r>
            <a:r>
              <a:rPr b="0" lang="ar-EG" sz="1800" spc="-1" strike="noStrike">
                <a:solidFill>
                  <a:srgbClr val="000000"/>
                </a:solidFill>
                <a:latin typeface="Comic Sans MS"/>
              </a:rPr>
              <a:t> </a:t>
            </a:r>
            <a:r>
              <a:rPr b="0" lang="ar-EG" sz="1800" spc="-1" strike="noStrike">
                <a:solidFill>
                  <a:srgbClr val="000000"/>
                </a:solidFill>
                <a:latin typeface="Comic Sans MS"/>
              </a:rPr>
              <a:t>50</a:t>
            </a:r>
            <a:r>
              <a:rPr b="0" lang="ar-SA" sz="1800" spc="-1" strike="noStrike">
                <a:solidFill>
                  <a:srgbClr val="000000"/>
                </a:solidFill>
                <a:latin typeface="Comic Sans MS"/>
              </a:rPr>
              <a:t> جنيها وأفادك أنه قد تسلمها من شركة توريد الإطارات مع رسالة تفيد أن المبلغ يمثل عمولة الشهر السابق لمدير النقل السابق. ناقش تأثير هذا الاكتشاف علي عملية المراجع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BF7BEE52-E839-488C-94F4-8C9D95A24570}" type="slidenum">
              <a:t>22</a:t>
            </a:fld>
          </a:p>
        </p:txBody>
      </p:sp>
      <p:sp>
        <p:nvSpPr>
          <p:cNvPr id="6" name="PlaceHolder 5"/>
          <p:cNvSpPr>
            <a:spLocks noGrp="1"/>
          </p:cNvSpPr>
          <p:nvPr>
            <p:ph type="dt" idx="1"/>
          </p:nvPr>
        </p:nvSpPr>
        <p:spPr/>
        <p:txBody>
          <a:bodyPr/>
          <a:p>
            <a:fld id="{39AF09A1-F850-4704-8952-0FAEFD88194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سؤال امتحان</a:t>
            </a:r>
            <a:endParaRPr b="0" lang="en-US" sz="4400" spc="-1" strike="noStrike">
              <a:solidFill>
                <a:srgbClr val="000000"/>
              </a:solidFill>
              <a:latin typeface="Comic Sans MS"/>
            </a:endParaRPr>
          </a:p>
        </p:txBody>
      </p:sp>
      <p:sp>
        <p:nvSpPr>
          <p:cNvPr id="19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أنت مراقب الحسابات لشركة الأسرة السعيدة و قد حضرت جرد نهاية العام في مخازن الشركة. وتقوم الشركة بإنتاج أدوات مائدة ذات جودة عالية (إطباق ، فناجين ، سلاطين....الخ) وتمسك نظام حاسب إلي متكامل بحيث تستطيع معرفة موقف المخزون في أي وقت.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عند جرد المخزون في نهاية السنة يتم طبع بيان تفصيلي بمفردات المخزون ( ولكن بدون الكميات ) حيث يتم جرد كميات المخزون جردا فعلياً ويتم التسجيل يدوياً بواسطة القائمين بالجرد حيث تتم المقارنة فيما بعد  مع الكميات من واقع الكمبيوتر.</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و قد اثبت هذا النظام نجاحاً خلال السنوات الأخيرة ولكن لسوء الحظ أظهرت ملاحظاتك عدد من نقاط الضعف في نهاية السنة الحالية ل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تسلمت أنت و القائمين بالجرد تعليمات الجرد في اليوم السابق على إجراء الجرد. </a:t>
            </a:r>
            <a:endParaRPr b="0" lang="en-US" sz="1600" spc="-1" strike="noStrike">
              <a:solidFill>
                <a:srgbClr val="000000"/>
              </a:solidFill>
              <a:latin typeface="Comic Sans MS"/>
            </a:endParaRPr>
          </a:p>
          <a:p>
            <a:pPr marL="329040" indent="-329040" algn="r" rtl="1">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خلال الجرد تبين لك أن المخازن غير مرتبة حيث كان يصعب أحيانا التوصل إلي المخزون لأنه لم يكن موجوداً في المنطقة المحددة ، كما كانت مجموعات المخزون توجد في بعض الأحيان في مناطق مختلفة متعددة وبعض المخزون كان يحمل بطاقات غير صحيحة ، كما أن الجرد كان يتم بشكل سريع من أجل أن يتم إغلاق المخازن قبل موعد الأجازة الرسمية فى اليوم التالى ، كما أن عدد القائمين بالجرد كان غير كافي لإجراء الجرد بشكل صحيح في الوقت المتاح.  كذلك لم تكن كشوف جرد المخزون مراقبة رقابة صحيحة ( الكشوف التي يوضح عليها القائمون بالجرد الكميات) ، وكان من الصعب تسوية كميات المخزون التي تم تسجيلها عند الجرد مع سجلات الكمبيوتر وبقيت اختلافات هامة معلقة.</a:t>
            </a:r>
            <a:endParaRPr b="0" lang="en-US" sz="16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6A5923E7-14D8-46B5-943B-F2B4ADE88E1E}" type="slidenum">
              <a:t>23</a:t>
            </a:fld>
          </a:p>
        </p:txBody>
      </p:sp>
      <p:sp>
        <p:nvSpPr>
          <p:cNvPr id="6" name="PlaceHolder 5"/>
          <p:cNvSpPr>
            <a:spLocks noGrp="1"/>
          </p:cNvSpPr>
          <p:nvPr>
            <p:ph type="dt" idx="1"/>
          </p:nvPr>
        </p:nvSpPr>
        <p:spPr/>
        <p:txBody>
          <a:bodyPr/>
          <a:p>
            <a:fld id="{F93565DA-FDC0-4660-8017-3F0BD1E3C1F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طلوب</a:t>
            </a:r>
            <a:endParaRPr b="0" lang="en-US" sz="4400" spc="-1" strike="noStrike">
              <a:solidFill>
                <a:srgbClr val="000000"/>
              </a:solidFill>
              <a:latin typeface="Comic Sans MS"/>
            </a:endParaRPr>
          </a:p>
        </p:txBody>
      </p:sp>
      <p:sp>
        <p:nvSpPr>
          <p:cNvPr id="19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اشرح لماذا يعتبر تقييم المخزون وجرد المخزون في نهاية العام هاماً بالنسبة لمراجعة القوائم المالية وصف الإجراءات البديلة التي يمكن استخدامها بدلا من جرد نهاية العام كأساس للتقييم في نهاية العام.</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اكتب مسودة خطاب لإدارة شركة الأسرة السعيدة يتضمن:-</a:t>
            </a:r>
            <a:endParaRPr b="0" lang="en-US" sz="20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1</a:t>
            </a:r>
            <a:r>
              <a:rPr b="0" lang="ar-SA" sz="1600" spc="-1" strike="noStrike">
                <a:solidFill>
                  <a:srgbClr val="000000"/>
                </a:solidFill>
                <a:latin typeface="Comic Sans MS"/>
              </a:rPr>
              <a:t>) نقاط الضعف التي وجدتها.</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2</a:t>
            </a:r>
            <a:r>
              <a:rPr b="0" lang="ar-SA" sz="1600" spc="-1" strike="noStrike">
                <a:solidFill>
                  <a:srgbClr val="000000"/>
                </a:solidFill>
                <a:latin typeface="Comic Sans MS"/>
              </a:rPr>
              <a:t>) النتائج المحتملة.</a:t>
            </a:r>
            <a:endParaRPr b="0" lang="en-US" sz="1600" spc="-1" strike="noStrike">
              <a:solidFill>
                <a:srgbClr val="000000"/>
              </a:solidFill>
              <a:latin typeface="Comic Sans MS"/>
            </a:endParaRPr>
          </a:p>
          <a:p>
            <a:pPr lvl="2" marL="1143000" indent="0" algn="r" rtl="1">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Comic Sans MS"/>
              </a:rPr>
              <a:t>(</a:t>
            </a:r>
            <a:r>
              <a:rPr b="0" lang="ar-SA" sz="1600" spc="-1" strike="noStrike">
                <a:solidFill>
                  <a:srgbClr val="000000"/>
                </a:solidFill>
                <a:latin typeface="Comic Sans MS"/>
              </a:rPr>
              <a:t>3</a:t>
            </a:r>
            <a:r>
              <a:rPr b="0" lang="ar-SA" sz="1600" spc="-1" strike="noStrike">
                <a:solidFill>
                  <a:srgbClr val="000000"/>
                </a:solidFill>
                <a:latin typeface="Comic Sans MS"/>
              </a:rPr>
              <a:t>) توصياتك لمعالجة نقاط الضعف في السنة الحالية وتوصياتك للسنوات المقبلة.  </a:t>
            </a:r>
            <a:endParaRPr b="0" lang="en-US" sz="16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صف أسس تقييم المخزون كما هي مطلوبة وفقا لمعيار المحاسبة المصري رقم </a:t>
            </a:r>
            <a:r>
              <a:rPr b="0" lang="ar-SA" sz="2000" spc="-1" strike="noStrike">
                <a:solidFill>
                  <a:srgbClr val="000000"/>
                </a:solidFill>
                <a:latin typeface="Comic Sans MS"/>
              </a:rPr>
              <a:t>2</a:t>
            </a:r>
            <a:r>
              <a:rPr b="0" lang="ar-SA" sz="2000" spc="-1" strike="noStrike">
                <a:solidFill>
                  <a:srgbClr val="000000"/>
                </a:solidFill>
                <a:latin typeface="Comic Sans MS"/>
              </a:rPr>
              <a:t> الخاص بالمخزون ، واذكر أنواع المخزون الذي قد يساوي اقل من التكلفة بالنسبة لشركة الأسرة السعيدة. (ملحوظة: لست مطالباً بمناقشة العقود طويلة الأجل) .</a:t>
            </a:r>
            <a:endParaRPr b="0" lang="en-US" sz="2000" spc="-1" strike="noStrike">
              <a:solidFill>
                <a:srgbClr val="000000"/>
              </a:solidFill>
              <a:latin typeface="Comic Sans MS"/>
            </a:endParaRPr>
          </a:p>
          <a:p>
            <a:pPr marL="34308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صف العمل الذي قد تؤديه لتحديد  أنواع المخزون التي تساوي قيمتها اقل من التكلفة في شركة الأسرة السعيد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E7C705C1-17E7-4A22-BA20-19DB425D8271}" type="slidenum">
              <a:t>24</a:t>
            </a:fld>
          </a:p>
        </p:txBody>
      </p:sp>
      <p:sp>
        <p:nvSpPr>
          <p:cNvPr id="6" name="PlaceHolder 5"/>
          <p:cNvSpPr>
            <a:spLocks noGrp="1"/>
          </p:cNvSpPr>
          <p:nvPr>
            <p:ph type="dt" idx="1"/>
          </p:nvPr>
        </p:nvSpPr>
        <p:spPr/>
        <p:txBody>
          <a:bodyPr/>
          <a:p>
            <a:fld id="{52D28F23-9E6C-467F-A203-F2620331F12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قياس الأولي</a:t>
            </a:r>
            <a:endParaRPr b="0" lang="en-US" sz="4400" spc="-1" strike="noStrike">
              <a:solidFill>
                <a:srgbClr val="000000"/>
              </a:solidFill>
              <a:latin typeface="Comic Sans MS"/>
            </a:endParaRPr>
          </a:p>
        </p:txBody>
      </p:sp>
      <p:sp>
        <p:nvSpPr>
          <p:cNvPr id="1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تطلب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يتم قياس قيمة المخزون علي أساس التكلفة أو صافي القيمة المنتظر تحقيقها أيهما أقل.</a:t>
            </a:r>
            <a:endParaRPr b="0" lang="en-US" sz="3200" spc="-1" strike="noStrike">
              <a:solidFill>
                <a:srgbClr val="000000"/>
              </a:solidFill>
              <a:latin typeface="Comic Sans MS"/>
            </a:endParaRPr>
          </a:p>
          <a:p>
            <a:pPr marL="284400" indent="0" algn="r" rtl="1">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4400" indent="-284400" algn="r" rtl="1">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يحدد معيار المحاسبة المصري رقم </a:t>
            </a:r>
            <a:r>
              <a:rPr b="0" lang="ar-SA" sz="3200" spc="-1" strike="noStrike">
                <a:solidFill>
                  <a:srgbClr val="000000"/>
                </a:solidFill>
                <a:latin typeface="Comic Sans MS"/>
              </a:rPr>
              <a:t>2</a:t>
            </a:r>
            <a:r>
              <a:rPr b="0" lang="ar-SA" sz="3200" spc="-1" strike="noStrike">
                <a:solidFill>
                  <a:srgbClr val="000000"/>
                </a:solidFill>
                <a:latin typeface="Comic Sans MS"/>
              </a:rPr>
              <a:t> أن المعالجة القياسية لتحديد التكلفة هي استخدام طريقة الوارد أولا يصرف أولا (</a:t>
            </a:r>
            <a:r>
              <a:rPr b="0" lang="en-US" sz="3200" spc="-1" strike="noStrike">
                <a:solidFill>
                  <a:srgbClr val="000000"/>
                </a:solidFill>
                <a:latin typeface="Comic Sans MS"/>
              </a:rPr>
              <a:t>FIFO</a:t>
            </a:r>
            <a:r>
              <a:rPr b="0" lang="ar-EG" sz="3200" spc="-1" strike="noStrike">
                <a:solidFill>
                  <a:srgbClr val="000000"/>
                </a:solidFill>
                <a:latin typeface="Comic Sans MS"/>
              </a:rPr>
              <a:t>) </a:t>
            </a:r>
            <a:r>
              <a:rPr b="0" lang="ar-SA" sz="3200" spc="-1" strike="noStrike">
                <a:solidFill>
                  <a:srgbClr val="000000"/>
                </a:solidFill>
                <a:latin typeface="Comic Sans MS"/>
              </a:rPr>
              <a:t>أو طريقة المتوسط المرجح ، والبديل المسموح به في التقييم هو طريقة الوارد أخيرا يصرف أولا (</a:t>
            </a:r>
            <a:r>
              <a:rPr b="0" lang="en-US" sz="3200" spc="-1" strike="noStrike">
                <a:solidFill>
                  <a:srgbClr val="000000"/>
                </a:solidFill>
                <a:latin typeface="Comic Sans MS"/>
              </a:rPr>
              <a:t>LIFO</a:t>
            </a:r>
            <a:r>
              <a:rPr b="0" lang="ar-EG"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1DF3FBBD-748F-4F94-8A83-2EBE17A2CC54}" type="slidenum">
              <a:t>3</a:t>
            </a:fld>
          </a:p>
        </p:txBody>
      </p:sp>
      <p:sp>
        <p:nvSpPr>
          <p:cNvPr id="6" name="PlaceHolder 5"/>
          <p:cNvSpPr>
            <a:spLocks noGrp="1"/>
          </p:cNvSpPr>
          <p:nvPr>
            <p:ph type="dt" idx="1"/>
          </p:nvPr>
        </p:nvSpPr>
        <p:spPr/>
        <p:txBody>
          <a:bodyPr/>
          <a:p>
            <a:fld id="{B4BC08B0-3368-446B-A1C6-68C8F8ED92C6}"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في القوائم المالية</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5000"/>
          </a:bodyPr>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استخدام طريقة الوارد أخيرا  يصرف أولا إلي ظهور المخزون بقيمة أقل في أوقات ارتفاع الأسعار. </a:t>
            </a:r>
            <a:endParaRPr b="0" lang="en-US" sz="2800" spc="-1" strike="noStrike">
              <a:solidFill>
                <a:srgbClr val="000000"/>
              </a:solidFill>
              <a:latin typeface="Comic Sans MS"/>
            </a:endParaRPr>
          </a:p>
          <a:p>
            <a:pPr marL="291600" indent="-291600" algn="r" rtl="1">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000000"/>
                </a:solidFill>
                <a:latin typeface="Comic Sans MS"/>
              </a:rPr>
              <a:t>الافصاح </a:t>
            </a:r>
            <a:r>
              <a:rPr b="0" lang="ar-SA" sz="2800" spc="-1" strike="noStrike">
                <a:solidFill>
                  <a:srgbClr val="000000"/>
                </a:solidFill>
                <a:latin typeface="Comic Sans MS"/>
              </a:rPr>
              <a:t>عندما يتم تحديد تكلفة المخزون باستخدام هذه الطريقة يجب أن </a:t>
            </a:r>
            <a:r>
              <a:rPr b="0" lang="ar-EG" sz="2800" spc="-1" strike="noStrike">
                <a:solidFill>
                  <a:srgbClr val="000000"/>
                </a:solidFill>
                <a:latin typeface="Comic Sans MS"/>
              </a:rPr>
              <a:t>يتضمن</a:t>
            </a:r>
            <a:r>
              <a:rPr b="0" lang="ar-SA" sz="2800" spc="-1" strike="noStrike">
                <a:solidFill>
                  <a:srgbClr val="000000"/>
                </a:solidFill>
                <a:latin typeface="Comic Sans MS"/>
              </a:rPr>
              <a:t> الفرق بين قيمة المخزون كما يظهر في الميزانية وأي من:</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أ-</a:t>
            </a:r>
            <a:r>
              <a:rPr b="0" lang="en-US" sz="2800" spc="-1" strike="noStrike">
                <a:solidFill>
                  <a:srgbClr val="000000"/>
                </a:solidFill>
                <a:latin typeface="Comic Sans MS"/>
              </a:rPr>
              <a:t> </a:t>
            </a:r>
            <a:r>
              <a:rPr b="0" lang="ar-SA" sz="2800" spc="-1" strike="noStrike">
                <a:solidFill>
                  <a:srgbClr val="000000"/>
                </a:solidFill>
                <a:latin typeface="Comic Sans MS"/>
              </a:rPr>
              <a:t>القيمة المحسوبة طبقا للمعالجة القياسية أو صافى القيمة المنتظر تحقيقها أيهما أقل</a:t>
            </a:r>
            <a:endParaRPr b="0" lang="en-US" sz="2800" spc="-1" strike="noStrike">
              <a:solidFill>
                <a:srgbClr val="000000"/>
              </a:solidFill>
              <a:latin typeface="Comic Sans MS"/>
            </a:endParaRPr>
          </a:p>
          <a:p>
            <a:pPr marL="29160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omic Sans MS"/>
              </a:rPr>
              <a:t> أو</a:t>
            </a:r>
            <a:endParaRPr b="0" lang="en-US" sz="2800" spc="-1" strike="noStrike">
              <a:solidFill>
                <a:srgbClr val="000000"/>
              </a:solidFill>
              <a:latin typeface="Comic Sans MS"/>
            </a:endParaRPr>
          </a:p>
          <a:p>
            <a:pPr marL="2916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ب-</a:t>
            </a:r>
            <a:r>
              <a:rPr b="0" lang="en-US" sz="2800" spc="-1" strike="noStrike">
                <a:solidFill>
                  <a:srgbClr val="000000"/>
                </a:solidFill>
                <a:latin typeface="Comic Sans MS"/>
              </a:rPr>
              <a:t> </a:t>
            </a:r>
            <a:r>
              <a:rPr b="0" lang="ar-SA" sz="2800" spc="-1" strike="noStrike">
                <a:solidFill>
                  <a:srgbClr val="000000"/>
                </a:solidFill>
                <a:latin typeface="Comic Sans MS"/>
              </a:rPr>
              <a:t>التكلفة الحالية في تاريخ الميزانية أو صافي القيمة المنتظر تحقيقها أبهما أقل</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C80E7102-C0C5-4B0C-9D11-E8FC7BFEAD16}" type="slidenum">
              <a:t>4</a:t>
            </a:fld>
          </a:p>
        </p:txBody>
      </p:sp>
      <p:sp>
        <p:nvSpPr>
          <p:cNvPr id="6" name="PlaceHolder 5"/>
          <p:cNvSpPr>
            <a:spLocks noGrp="1"/>
          </p:cNvSpPr>
          <p:nvPr>
            <p:ph type="dt" idx="1"/>
          </p:nvPr>
        </p:nvSpPr>
        <p:spPr/>
        <p:txBody>
          <a:bodyPr/>
          <a:p>
            <a:fld id="{5678A21A-376E-4699-94EB-A6ED8E1FFA06}"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خاطر إدارة المخزون</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2000"/>
          </a:bodyPr>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أ-</a:t>
            </a:r>
            <a:r>
              <a:rPr b="0" lang="en-US" sz="2000" spc="-1" strike="noStrike">
                <a:solidFill>
                  <a:srgbClr val="000000"/>
                </a:solidFill>
                <a:latin typeface="Comic Sans MS"/>
              </a:rPr>
              <a:t> </a:t>
            </a:r>
            <a:r>
              <a:rPr b="0" lang="ar-SA" sz="2000" spc="-1" strike="noStrike">
                <a:solidFill>
                  <a:srgbClr val="000000"/>
                </a:solidFill>
                <a:latin typeface="Comic Sans MS"/>
              </a:rPr>
              <a:t>عدم ملاءمة أو كفاية المخزون المحتفظ به لمقابلة متطلبات البيع والإنتاج.</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ب- قد يؤدي الاحتفاظ بكميات كبيرة من المخزون إلي ضعف التدفقات النقدية و خسائر مالي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ج – قد يؤدي عدم وجود سجلات دقيقة و كاملة لحركة المخزون إلي صعوبة تحديد موقف المخزون الفعلي و ما  يلازم ذلك من صعوبات لمقابلة احتياجات العملاء.</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د –</a:t>
            </a:r>
            <a:r>
              <a:rPr b="0" lang="en-US" sz="2000" spc="-1" strike="noStrike">
                <a:solidFill>
                  <a:srgbClr val="000000"/>
                </a:solidFill>
                <a:latin typeface="Comic Sans MS"/>
              </a:rPr>
              <a:t> </a:t>
            </a:r>
            <a:r>
              <a:rPr b="0" lang="ar-SA" sz="2000" spc="-1" strike="noStrike">
                <a:solidFill>
                  <a:srgbClr val="000000"/>
                </a:solidFill>
                <a:latin typeface="Comic Sans MS"/>
              </a:rPr>
              <a:t>قد يؤدي عدم توفير الحماية للمخزون إلي فقد أو سرقة أو اختلاس.</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هـ–</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يترتب علي سوء عملية التخزين تلف أو نقص في القيم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و-</a:t>
            </a:r>
            <a:r>
              <a:rPr b="0" lang="en-US" sz="2000" spc="-1" strike="noStrike">
                <a:solidFill>
                  <a:srgbClr val="000000"/>
                </a:solidFill>
                <a:latin typeface="Comic Sans MS"/>
              </a:rPr>
              <a:t> </a:t>
            </a:r>
            <a:r>
              <a:rPr b="0" lang="ar-EG" sz="2000" spc="-1" strike="noStrike">
                <a:solidFill>
                  <a:srgbClr val="000000"/>
                </a:solidFill>
                <a:latin typeface="Comic Sans MS"/>
              </a:rPr>
              <a:t> </a:t>
            </a:r>
            <a:r>
              <a:rPr b="0" lang="ar-SA" sz="2000" spc="-1" strike="noStrike">
                <a:solidFill>
                  <a:srgbClr val="000000"/>
                </a:solidFill>
                <a:latin typeface="Comic Sans MS"/>
              </a:rPr>
              <a:t>قد تؤدي اجراءات خاطئة أو غير ملائمة بشأن إعدام المخزون أو استبعاده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ز – قد يؤدي وجود مخزون انتهت صلاحيته أو يتم توريده للعملاء بطريق الخطأ إلي خسائر مالية و/أو فقدان لسمعة الشركة.</a:t>
            </a:r>
            <a:endParaRPr b="0" lang="en-US" sz="2000" spc="-1" strike="noStrike">
              <a:solidFill>
                <a:srgbClr val="000000"/>
              </a:solidFill>
              <a:latin typeface="Comic Sans MS"/>
            </a:endParaRPr>
          </a:p>
          <a:p>
            <a:pPr marL="31536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Comic Sans MS"/>
              </a:rPr>
              <a:t>ح – قد يؤدي عدم كفاية المعلومات عن المخزون المحتفظ به إلي ضعف في القرارات وعدم المقدرة علي مقابلة طلبات و أهداف الشركة.</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0C141373-BD71-49F6-A852-6F5CC5FA9B44}" type="slidenum">
              <a:t>5</a:t>
            </a:fld>
          </a:p>
        </p:txBody>
      </p:sp>
      <p:sp>
        <p:nvSpPr>
          <p:cNvPr id="6" name="PlaceHolder 5"/>
          <p:cNvSpPr>
            <a:spLocks noGrp="1"/>
          </p:cNvSpPr>
          <p:nvPr>
            <p:ph type="dt" idx="1"/>
          </p:nvPr>
        </p:nvSpPr>
        <p:spPr/>
        <p:txBody>
          <a:bodyPr/>
          <a:p>
            <a:fld id="{CC39F2BF-8DA5-45EB-8531-B4DA3619B045}"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مخزون و الرقابة الداخلية</a:t>
            </a:r>
            <a:endParaRPr b="0" lang="en-US" sz="44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أ-</a:t>
            </a:r>
            <a:r>
              <a:rPr b="0" lang="en-US" sz="1800" spc="-1" strike="noStrike">
                <a:solidFill>
                  <a:srgbClr val="000000"/>
                </a:solidFill>
                <a:latin typeface="Comic Sans MS"/>
              </a:rPr>
              <a:t> </a:t>
            </a:r>
            <a:r>
              <a:rPr b="0" lang="ar-SA" sz="1800" spc="-1" strike="noStrike">
                <a:solidFill>
                  <a:srgbClr val="000000"/>
                </a:solidFill>
                <a:latin typeface="Comic Sans MS"/>
              </a:rPr>
              <a:t>وجود إجراءات مستندية للرقابة على المخزون مع فحصها بصفة منتظمة للتأكد من الالتزام به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ب-</a:t>
            </a:r>
            <a:r>
              <a:rPr b="0" lang="en-US" sz="1800" spc="-1" strike="noStrike">
                <a:solidFill>
                  <a:srgbClr val="000000"/>
                </a:solidFill>
                <a:latin typeface="Comic Sans MS"/>
              </a:rPr>
              <a:t> </a:t>
            </a:r>
            <a:r>
              <a:rPr b="0" lang="ar-SA" sz="1800" spc="-1" strike="noStrike">
                <a:solidFill>
                  <a:srgbClr val="000000"/>
                </a:solidFill>
                <a:latin typeface="Comic Sans MS"/>
              </a:rPr>
              <a:t>وجود فريق من الموظفين المدربين ذوي الخبرة و علي دراية بمتطلبات الرقابة علي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ج – وجود تخطيط للرقابة على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د  -</a:t>
            </a:r>
            <a:r>
              <a:rPr b="0" lang="en-US" sz="1800" spc="-1" strike="noStrike">
                <a:solidFill>
                  <a:srgbClr val="000000"/>
                </a:solidFill>
                <a:latin typeface="Comic Sans MS"/>
              </a:rPr>
              <a:t> </a:t>
            </a:r>
            <a:r>
              <a:rPr b="0" lang="ar-SA" sz="1800" spc="-1" strike="noStrike">
                <a:solidFill>
                  <a:srgbClr val="000000"/>
                </a:solidFill>
                <a:latin typeface="Comic Sans MS"/>
              </a:rPr>
              <a:t>وجود سجلات حديثة للرقابة على المخزون وتحديد المتطلبات المستقبلية ، مع وجود نظام منتظم للتحقق من صحة هذه السجل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هـ-</a:t>
            </a:r>
            <a:r>
              <a:rPr b="0" lang="en-US" sz="1800" spc="-1" strike="noStrike">
                <a:solidFill>
                  <a:srgbClr val="000000"/>
                </a:solidFill>
                <a:latin typeface="Comic Sans MS"/>
              </a:rPr>
              <a:t> </a:t>
            </a:r>
            <a:r>
              <a:rPr b="0" lang="ar-SA" sz="1800" spc="-1" strike="noStrike">
                <a:solidFill>
                  <a:srgbClr val="000000"/>
                </a:solidFill>
                <a:latin typeface="Comic Sans MS"/>
              </a:rPr>
              <a:t>وجود اتصال منتظم مع الإدارات و الفروع الأخرى لإدراك الاحتياجات المستقبلي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و –</a:t>
            </a:r>
            <a:r>
              <a:rPr b="0" lang="en-US" sz="1800" spc="-1" strike="noStrike">
                <a:solidFill>
                  <a:srgbClr val="000000"/>
                </a:solidFill>
                <a:latin typeface="Comic Sans MS"/>
              </a:rPr>
              <a:t> </a:t>
            </a:r>
            <a:r>
              <a:rPr b="0" lang="ar-SA" sz="1800" spc="-1" strike="noStrike">
                <a:solidFill>
                  <a:srgbClr val="000000"/>
                </a:solidFill>
                <a:latin typeface="Comic Sans MS"/>
              </a:rPr>
              <a:t>وجود سلطات مناسبة لاعتماد التغير في المخزون بما فيها المشتريات.</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ز- وجود رقابة علي المخزون الوارد ، مثل الحفظ والتسجيل وإجراء مطابقة بين البضاعة المتوقع استلامها والمخزون الذي تم استلامه فعليا.</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ح – وجود رقابة علي المخزون الصادر والبضائع المنصرفة متضمناً سلطات الشحن والفحص الفعلي للتأكد من صحة نوع وعدد المنصرف.</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ط –</a:t>
            </a:r>
            <a:r>
              <a:rPr b="0" lang="en-US" sz="1800" spc="-1" strike="noStrike">
                <a:solidFill>
                  <a:srgbClr val="000000"/>
                </a:solidFill>
                <a:latin typeface="Comic Sans MS"/>
              </a:rPr>
              <a:t> </a:t>
            </a:r>
            <a:r>
              <a:rPr b="0" lang="ar-SA" sz="1800" spc="-1" strike="noStrike">
                <a:solidFill>
                  <a:srgbClr val="000000"/>
                </a:solidFill>
                <a:latin typeface="Comic Sans MS"/>
              </a:rPr>
              <a:t>وجود المخزون في موقع آم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ى –</a:t>
            </a:r>
            <a:r>
              <a:rPr b="0" lang="en-US" sz="1800" spc="-1" strike="noStrike">
                <a:solidFill>
                  <a:srgbClr val="000000"/>
                </a:solidFill>
                <a:latin typeface="Comic Sans MS"/>
              </a:rPr>
              <a:t> </a:t>
            </a:r>
            <a:r>
              <a:rPr b="0" lang="ar-SA" sz="1800" spc="-1" strike="noStrike">
                <a:solidFill>
                  <a:srgbClr val="000000"/>
                </a:solidFill>
                <a:latin typeface="Comic Sans MS"/>
              </a:rPr>
              <a:t>وجود تقييم ومطابقات مع السجلات المحاسبية بصفة منتظمة.</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ك – جرد المخزون متضمناً الفحص الفعلي لمستوى ونوع المخزون.</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ل –</a:t>
            </a:r>
            <a:r>
              <a:rPr b="0" lang="en-US" sz="1800" spc="-1" strike="noStrike">
                <a:solidFill>
                  <a:srgbClr val="000000"/>
                </a:solidFill>
                <a:latin typeface="Comic Sans MS"/>
              </a:rPr>
              <a:t> </a:t>
            </a:r>
            <a:r>
              <a:rPr b="0" lang="ar-SA" sz="1800" spc="-1" strike="noStrike">
                <a:solidFill>
                  <a:srgbClr val="000000"/>
                </a:solidFill>
                <a:latin typeface="Comic Sans MS"/>
              </a:rPr>
              <a:t>إبلاغ الإدارة بالفروق في المخزون علي أن يتم فحصها في الحال.</a:t>
            </a:r>
            <a:endParaRPr b="0" lang="en-US" sz="1800" spc="-1" strike="noStrike">
              <a:solidFill>
                <a:srgbClr val="000000"/>
              </a:solidFill>
              <a:latin typeface="Comic Sans MS"/>
            </a:endParaRPr>
          </a:p>
          <a:p>
            <a:pPr marL="28800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Comic Sans MS"/>
              </a:rPr>
              <a:t>م  - توصيف وتصنيف المواد الخام والبضاعة تحت التشغيل و البضاعة التامة.</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AA03B0B-0C7A-4099-B22C-583C184913BD}" type="slidenum">
              <a:t>6</a:t>
            </a:fld>
          </a:p>
        </p:txBody>
      </p:sp>
      <p:sp>
        <p:nvSpPr>
          <p:cNvPr id="6" name="PlaceHolder 5"/>
          <p:cNvSpPr>
            <a:spLocks noGrp="1"/>
          </p:cNvSpPr>
          <p:nvPr>
            <p:ph type="dt" idx="1"/>
          </p:nvPr>
        </p:nvSpPr>
        <p:spPr/>
        <p:txBody>
          <a:bodyPr/>
          <a:p>
            <a:fld id="{9A6A81CC-9A6B-46B1-8469-7E8F0588B64F}"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a:t>
            </a:r>
            <a:endParaRPr b="0" lang="en-US" sz="44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في أو قرب نهاية السنة (دورياً) </a:t>
            </a:r>
            <a:r>
              <a:rPr b="0" lang="en-US" sz="3200" spc="-1" strike="noStrike">
                <a:solidFill>
                  <a:srgbClr val="000000"/>
                </a:solidFill>
                <a:latin typeface="Comic Sans MS"/>
              </a:rPr>
              <a:t>Periodic</a:t>
            </a:r>
            <a:endParaRPr b="0" lang="en-US" sz="3200" spc="-1" strike="noStrike">
              <a:solidFill>
                <a:srgbClr val="000000"/>
              </a:solidFill>
              <a:latin typeface="Comic Sans MS"/>
            </a:endParaRPr>
          </a:p>
          <a:p>
            <a:pPr marL="3430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lgn="r" rtl="1">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أن يتم الجرد وفقاً لسياسة مستمرة على مدار السنة </a:t>
            </a:r>
            <a:r>
              <a:rPr b="0" lang="ar-EG" sz="3200" spc="-1" strike="noStrike">
                <a:solidFill>
                  <a:srgbClr val="000000"/>
                </a:solidFill>
                <a:latin typeface="Comic Sans MS"/>
              </a:rPr>
              <a:t>(</a:t>
            </a:r>
            <a:r>
              <a:rPr b="0" lang="ar-SA" sz="3200" spc="-1" strike="noStrike">
                <a:solidFill>
                  <a:srgbClr val="000000"/>
                </a:solidFill>
                <a:latin typeface="Comic Sans MS"/>
              </a:rPr>
              <a:t>جرد دوري مستمر) </a:t>
            </a:r>
            <a:r>
              <a:rPr b="0" lang="en-US" sz="3200" spc="-1" strike="noStrike">
                <a:solidFill>
                  <a:srgbClr val="000000"/>
                </a:solidFill>
                <a:latin typeface="Comic Sans MS"/>
              </a:rPr>
              <a:t>Perpetual</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585B9943-F1DE-4E7D-A0F5-8C154274146C}" type="slidenum">
              <a:t>7</a:t>
            </a:fld>
          </a:p>
        </p:txBody>
      </p:sp>
      <p:sp>
        <p:nvSpPr>
          <p:cNvPr id="6" name="PlaceHolder 5"/>
          <p:cNvSpPr>
            <a:spLocks noGrp="1"/>
          </p:cNvSpPr>
          <p:nvPr>
            <p:ph type="dt" idx="1"/>
          </p:nvPr>
        </p:nvSpPr>
        <p:spPr/>
        <p:txBody>
          <a:bodyPr/>
          <a:p>
            <a:fld id="{B2CCD571-2EB7-404C-A733-A2F6C5600F58}"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الجرد المستمر</a:t>
            </a:r>
            <a:endParaRPr b="0" lang="en-US" sz="44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6000"/>
          </a:bodyPr>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a:t>
            </a:r>
            <a:r>
              <a:rPr b="0" lang="en-US" sz="3200" spc="-1" strike="noStrike">
                <a:solidFill>
                  <a:srgbClr val="000000"/>
                </a:solidFill>
                <a:latin typeface="Comic Sans MS"/>
              </a:rPr>
              <a:t> </a:t>
            </a:r>
            <a:r>
              <a:rPr b="0" lang="ar-SA" sz="3200" spc="-1" strike="noStrike">
                <a:solidFill>
                  <a:srgbClr val="000000"/>
                </a:solidFill>
                <a:latin typeface="Comic Sans MS"/>
              </a:rPr>
              <a:t>أنة يتم فحص كل بند فعليا مرة على الأقل خلال العام و أكثر من مرة في حالة الأصناف القابلة للفقد .....الخ.</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يتم </a:t>
            </a:r>
            <a:r>
              <a:rPr b="0" lang="en-US" sz="3200" spc="-1" strike="noStrike">
                <a:solidFill>
                  <a:srgbClr val="000000"/>
                </a:solidFill>
                <a:latin typeface="Comic Sans MS"/>
              </a:rPr>
              <a:t> </a:t>
            </a:r>
            <a:r>
              <a:rPr b="0" lang="ar-SA" sz="3200" spc="-1" strike="noStrike">
                <a:solidFill>
                  <a:srgbClr val="000000"/>
                </a:solidFill>
                <a:latin typeface="Comic Sans MS"/>
              </a:rPr>
              <a:t>إمساك سجلات مناسبة والإثبات فيها أولاً بأول.</a:t>
            </a:r>
            <a:endParaRPr b="0" lang="en-US" sz="3200" spc="-1" strike="noStrike">
              <a:solidFill>
                <a:srgbClr val="000000"/>
              </a:solidFill>
              <a:latin typeface="Comic Sans MS"/>
            </a:endParaRPr>
          </a:p>
          <a:p>
            <a:pPr marL="2948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تم تعديل السجلات  طبقا لنتيجة الجرد الفعلي ،  علي أن يتم فحص و متابعة الاختلافات و تحديد أسبابها.</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A716821B-9C1C-4235-A193-DCED4188692E}" type="slidenum">
              <a:t>8</a:t>
            </a:fld>
          </a:p>
        </p:txBody>
      </p:sp>
      <p:sp>
        <p:nvSpPr>
          <p:cNvPr id="6" name="PlaceHolder 5"/>
          <p:cNvSpPr>
            <a:spLocks noGrp="1"/>
          </p:cNvSpPr>
          <p:nvPr>
            <p:ph type="dt" idx="1"/>
          </p:nvPr>
        </p:nvSpPr>
        <p:spPr/>
        <p:txBody>
          <a:bodyPr/>
          <a:p>
            <a:fld id="{F12865EF-1519-4FB2-909E-F6E3BE0F3BD2}"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4400" spc="-1" strike="noStrike">
                <a:solidFill>
                  <a:srgbClr val="000000"/>
                </a:solidFill>
                <a:latin typeface="Comic Sans MS"/>
              </a:rPr>
              <a:t>مزايا الجرد المستمر</a:t>
            </a:r>
            <a:endParaRPr b="0" lang="en-US" sz="44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6000"/>
          </a:bodyPr>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أ-  لا يتسبب الجرد المستمر فى التأثير على أعمال المنشأة مثل الجرد الدورى.</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ب-</a:t>
            </a:r>
            <a:r>
              <a:rPr b="0" lang="en-US" sz="3200" spc="-1" strike="noStrike">
                <a:solidFill>
                  <a:srgbClr val="000000"/>
                </a:solidFill>
                <a:latin typeface="Comic Sans MS"/>
              </a:rPr>
              <a:t> </a:t>
            </a:r>
            <a:r>
              <a:rPr b="0" lang="ar-SA" sz="3200" spc="-1" strike="noStrike">
                <a:solidFill>
                  <a:srgbClr val="000000"/>
                </a:solidFill>
                <a:latin typeface="Comic Sans MS"/>
              </a:rPr>
              <a:t>يوفر دقة أكبر ووقتا أكبر للعد والفحص بعناية ، كما يمكن من تحديد الأخطاء والأصناف بطيئة الحركة في الوقت المناسب .</a:t>
            </a:r>
            <a:endParaRPr b="0" lang="en-US" sz="3200" spc="-1" strike="noStrike">
              <a:solidFill>
                <a:srgbClr val="000000"/>
              </a:solidFill>
              <a:latin typeface="Comic Sans MS"/>
            </a:endParaRPr>
          </a:p>
          <a:p>
            <a:pPr marL="3290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ج – يوفر رقابة أقوي علي أمناء المخازن نتيجة الفحص المفاجئ لبعض العناصر.</a:t>
            </a: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د. خالد ضحاوي</a:t>
            </a:r>
          </a:p>
        </p:txBody>
      </p:sp>
      <p:sp>
        <p:nvSpPr>
          <p:cNvPr id="5" name="PlaceHolder 4"/>
          <p:cNvSpPr>
            <a:spLocks noGrp="1"/>
          </p:cNvSpPr>
          <p:nvPr>
            <p:ph type="sldNum" idx="3"/>
          </p:nvPr>
        </p:nvSpPr>
        <p:spPr/>
        <p:txBody>
          <a:bodyPr/>
          <a:p>
            <a:fld id="{45092FE3-F6DC-478D-A8A3-62EFDFC7305D}" type="slidenum">
              <a:t>9</a:t>
            </a:fld>
          </a:p>
        </p:txBody>
      </p:sp>
      <p:sp>
        <p:nvSpPr>
          <p:cNvPr id="6" name="PlaceHolder 5"/>
          <p:cNvSpPr>
            <a:spLocks noGrp="1"/>
          </p:cNvSpPr>
          <p:nvPr>
            <p:ph type="dt" idx="1"/>
          </p:nvPr>
        </p:nvSpPr>
        <p:spPr/>
        <p:txBody>
          <a:bodyPr/>
          <a:p>
            <a:fld id="{E05FC441-8F92-43B4-9039-06670B558062}"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12:18:22Z</dcterms:created>
  <dc:creator>Dr.Khaled  Dahawy</dc:creator>
  <dc:description/>
  <dc:language>en-US</dc:language>
  <cp:lastModifiedBy>Dr.Khaled  Dahawy</cp:lastModifiedBy>
  <dcterms:modified xsi:type="dcterms:W3CDTF">2003-05-22T16:53:24Z</dcterms:modified>
  <cp:revision>47</cp:revision>
  <dc:subject/>
  <dc:title>المخزون</dc:title>
</cp:coreProperties>
</file>