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DC6-4F0F-4E69-9C96-4BAD962D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2E0-6FA5-4CEF-BFF4-3043EA6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55B-7810-423A-A9BE-DC68D45E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F8B-71B3-465F-ADEB-E3F52D20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38B2-1C34-4B1D-8EAC-25DE2D2E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2376-20EC-43C6-B4D3-6BB7D651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9F81-3F7F-4460-BB28-B000001B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FD1F-9B59-45F9-A2F3-09E9F019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5E6E-F682-449E-B2EA-D479CF7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1BF9-C0D2-4C70-9EE3-32CE369B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37E-E25C-4E23-9667-F22EEE2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B1F-5E03-4524-8E94-D64927FE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CB87-B91B-409D-9884-3C6F605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386D-458A-4BE0-A07F-C991160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CA1-A2B6-4D58-B2E0-8D918E6B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CD32-EB50-481A-8D28-4EB96612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DFDD-CCA2-4FF5-8E41-7132185B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990-C346-4386-BFB2-32321763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E28-4154-49E6-99F4-7542F7A3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10B-226E-4CA9-9543-6BCA85F8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E89-5273-4ABC-9581-0696F5E8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137-7D0C-44DF-AB21-C793C39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B73-CB25-426D-BF2A-5CE77932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55D-99B6-434B-8473-8A482F3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613-4180-4C5D-9F37-9E39A239E26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982-F11C-4698-A8AA-4ACC6354D54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التخطيط يستحق أن نقو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قيد التخطيط الابتكار والابداع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31240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حد من سلطات الادارة العليا فكيف ستلتزم به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ألا يسبب نقصاً في المرون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وضع مقاييس كمية للأهداف الاجتماعي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ا يلغي التخطيط الحدس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كيف يمكن التنبؤ بالمتغيرات في عالم سريع التغير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أليس السيناريو أفضل من التخطيط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يعتمد على المعلومات وهذه يوفرها المنفذون ويمكنهم التلاعب بها... أليس كذلك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التخطيط كنموذج: هل يمكن الادعاء بأنه يصلح لكل المنظمات (صغيرة أو كبيرة،  مهنية أو عامة،  مركزية أو ديمقراطية)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300320"/>
            <a:ext cx="4332240" cy="5557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14800" y="152280"/>
            <a:ext cx="4495680" cy="2743200"/>
          </a:xfrm>
          <a:prstGeom prst="wedgeEllipseCallout">
            <a:avLst>
              <a:gd name="adj1" fmla="val -63101"/>
              <a:gd name="adj2" fmla="val 39351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33520"/>
            <a:ext cx="32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cc3300"/>
                </a:solidFill>
                <a:latin typeface="Times New Roman"/>
              </a:rPr>
              <a:t>ما هو التخطيط 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فعلاً تشكيل الميزانيات حسب الخطة؟ أليست معتمدة على المقارنة مع الميزانيات السابق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وضع خطة استراتيجية في ظل قيادات متغي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يمكن التخطيط الاستراتيجي منفصلاً عن خطة الجهات الأعلى؟ وماذا لو كانت الأعلى غير جيدة أو غير جادة أو غير مستقرة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سقوط</a:t>
            </a: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 وصعود</a:t>
            </a: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أداة ولا يصح أن ينظر إليه بقدس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رغم الملاحظات التي أثيرت على التخطيط الاستراتيجي إلا أنه يبقى أفضل من عدم وجود خطة استراتيجي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التخطيط الاستراتيجي ينبغي أن يكون مرناً ليتم تعديله كلما حدثت متغيرات،  والملاحظات الرئيسية هي على التخطيط الجام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نعم هناك تغييرات رئيسية في العالم وكذلك في الظروف الداخلية في المنظمة والظروف المحيطة بها ولكن رغم ذلك فهناك توقعات عامة ومؤشرات رئيسية يمكن الاسترشاد بها في وضع الخط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ff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ثم بدأ المدافعون عن التخطيط الاستراتيجي بالرد وكان من أبرز الكتب التي تولت الدفاع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سقوط وصعود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غيره وخلاصة ال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 وأخيراً ما البديل الذي يطرحه المنتقدون فإن كان التخطيط بالسيناريو فهو أحد طرق التخطيط الاستراتيجي ويحتاج في النهاية إلى تفاصيل عملية ليمكن تطبيقه وبالتالي عدنا إلى التخطيط الاستراتيجي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029200" cy="1143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cc66"/>
                </a:solidFill>
                <a:latin typeface="Times New Roman"/>
              </a:rPr>
              <a:t>ما هو التخطيط ..؟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133720"/>
            <a:ext cx="3047760" cy="1921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عملية اتخاذ قرارات لتحديد اتجاه المستقبل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142640" y="2666880"/>
            <a:ext cx="213372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038480"/>
            <a:ext cx="1905120" cy="1007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ريد الوصول؟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038480"/>
            <a:ext cx="1904760" cy="14644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</a:rPr>
              <a:t>أين نحـــن الآن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4572000"/>
            <a:ext cx="4800600" cy="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2666880"/>
            <a:ext cx="0" cy="1371600"/>
          </a:xfrm>
          <a:prstGeom prst="line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324120" y="2666880"/>
            <a:ext cx="1600200" cy="0"/>
          </a:xfrm>
          <a:prstGeom prst="line">
            <a:avLst/>
          </a:prstGeom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5638680"/>
            <a:ext cx="3581280" cy="990720"/>
          </a:xfrm>
          <a:prstGeom prst="rect">
            <a:avLst/>
          </a:prstGeom>
          <a:noFill/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ff00"/>
                </a:solidFill>
                <a:latin typeface="Times New Roman"/>
              </a:rPr>
              <a:t>كيف نصل الى ما نريد؟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219320" y="6324480"/>
            <a:ext cx="175248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193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2720" y="6324480"/>
            <a:ext cx="175284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305920" y="5105520"/>
            <a:ext cx="0" cy="1218960"/>
          </a:xfrm>
          <a:prstGeom prst="line">
            <a:avLst/>
          </a:prstGeom>
          <a:ln w="7632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724280" y="1905120"/>
            <a:ext cx="0" cy="1600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523880"/>
            <a:ext cx="0" cy="3812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3352680" cy="7621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00"/>
                </a:solidFill>
                <a:latin typeface="Times New Roman"/>
              </a:rPr>
              <a:t>الوضع النموذجي للتخطيط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066680"/>
            <a:ext cx="38862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1143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cc3300"/>
                </a:solidFill>
                <a:latin typeface="Times New Roman"/>
              </a:rPr>
              <a:t>استراتيجية الوزارة أو الشركة الأم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905120"/>
            <a:ext cx="3733560" cy="6858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0574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استراتيجية الوزارة أو الشرك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66688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743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44"/>
                </a:solidFill>
                <a:latin typeface="Times New Roman"/>
              </a:rPr>
              <a:t>خطط القطاعات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5053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ادار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34340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قسا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181480"/>
            <a:ext cx="2819160" cy="53352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شع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019920"/>
            <a:ext cx="2819160" cy="533160"/>
          </a:xfrm>
          <a:prstGeom prst="flowChartOffpageConnector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خطط الأفرا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9480" y="62485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9480" y="5257800"/>
            <a:ext cx="0" cy="9907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52280" y="44038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تشغيل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9480" y="3505320"/>
            <a:ext cx="0" cy="7617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9480" y="35812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400800" y="632448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763120" y="5333760"/>
            <a:ext cx="0" cy="99036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447984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قصيرة المدى (سنة واحدة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763120" y="3580920"/>
            <a:ext cx="0" cy="7621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00800" y="365760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0948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948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1889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مستوى التخطيط الاستراتيجي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948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94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400800" y="3048120"/>
            <a:ext cx="236232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763120" y="2590920"/>
            <a:ext cx="0" cy="45720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1889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خطة بعيدة المدي (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 سنوات) أو أكث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763120" y="1371600"/>
            <a:ext cx="0" cy="533520"/>
          </a:xfrm>
          <a:prstGeom prst="line">
            <a:avLst/>
          </a:prstGeom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238880" y="1371600"/>
            <a:ext cx="1524240" cy="0"/>
          </a:xfrm>
          <a:prstGeom prst="line">
            <a:avLst/>
          </a:prstGeom>
          <a:ln w="76320">
            <a:solidFill>
              <a:srgbClr val="cc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flipH="1">
            <a:off x="3347640" y="3964320"/>
            <a:ext cx="767160" cy="834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ا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نم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ذج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العام للتخطيط الاستراتيج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ح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سب نظرية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fieffer</a:t>
            </a:r>
            <a:r>
              <a:rPr b="1" lang="ar-KW" sz="1600" spc="-1" strike="noStrike">
                <a:solidFill>
                  <a:srgbClr val="ffff00"/>
                </a:solidFill>
                <a:latin typeface="Times New Roman"/>
              </a:rPr>
              <a:t>مع تع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ديل السويدان والع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د</a:t>
            </a:r>
            <a:r>
              <a:rPr b="1" lang="ar-SA" sz="1600" spc="-1" strike="noStrike">
                <a:solidFill>
                  <a:srgbClr val="ffff00"/>
                </a:solidFill>
                <a:latin typeface="Times New Roman"/>
              </a:rPr>
              <a:t>لون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04920"/>
            <a:ext cx="221004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خطيط للتخطيط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to pl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1371600"/>
            <a:ext cx="2210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ستعراض القيم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114300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2438280"/>
            <a:ext cx="221004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رؤ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8480" y="3124080"/>
            <a:ext cx="3353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Business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2096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89548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418140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al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867200"/>
            <a:ext cx="3962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نسيق الخطط العمل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5553000"/>
            <a:ext cx="39625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تنفي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51055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إدارة الاستراتيج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tegic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9625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46483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3341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6019920"/>
            <a:ext cx="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615960"/>
            <a:ext cx="220968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عتبارات التطبيق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lementation Conside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1828800"/>
            <a:ext cx="0" cy="4876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768240"/>
            <a:ext cx="2209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مراقبة البيئ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 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981080"/>
            <a:ext cx="0" cy="4800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924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تشكيل الرسا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503520" y="2664360"/>
            <a:ext cx="53352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664080"/>
            <a:ext cx="2209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نظر الصفحة التالية للتفصي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807080"/>
            <a:ext cx="2209680" cy="11912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الخطط البديلة</a:t>
            </a:r>
            <a:r>
              <a:rPr b="0" lang="ar-KW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c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504960" y="3808800"/>
            <a:ext cx="533160" cy="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8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38280" y="82440"/>
            <a:ext cx="396252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نموذج العمل الاستراتيج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ategic Business Mo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914400"/>
            <a:ext cx="99072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1957320"/>
            <a:ext cx="274320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جالات العمل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ines of Business L.O.B’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948040"/>
            <a:ext cx="3581280" cy="631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وحدات العمل الاستراتيجي (لكل مجال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rategic Business Units (S.B.U.’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092480"/>
            <a:ext cx="2133360" cy="1168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مؤشرات النجاح الحساس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لكل وحدة</a:t>
            </a: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itical Success Indicators (C.S.I.s’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5638680"/>
            <a:ext cx="2133360" cy="105768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دراسة نقاط الضعف والقوة والفرص والمخاطر (لكل مؤشر)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W.O.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5943600"/>
            <a:ext cx="2667240" cy="631440"/>
          </a:xfrm>
          <a:prstGeom prst="rect">
            <a:avLst/>
          </a:prstGeom>
          <a:solidFill>
            <a:srgbClr val="80808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1400" spc="-1" strike="noStrike">
                <a:solidFill>
                  <a:srgbClr val="ffffff"/>
                </a:solidFill>
                <a:latin typeface="Times New Roman"/>
              </a:rPr>
              <a:t>تحليل الفجوات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ap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16002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2590920"/>
            <a:ext cx="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48720" y="266688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657600"/>
            <a:ext cx="0" cy="30492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58128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257800"/>
            <a:ext cx="0" cy="30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490640" y="6256800"/>
            <a:ext cx="615240" cy="1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610480" y="1066320"/>
            <a:ext cx="0" cy="541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381880" y="2362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153280" y="33526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001000" y="46483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4771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48720" y="6324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61722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19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648320"/>
            <a:ext cx="327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1066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23623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43800" y="3352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66680" y="304920"/>
            <a:ext cx="67057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990000"/>
                </a:solidFill>
                <a:latin typeface="Times New Roman"/>
              </a:rPr>
              <a:t>صعود وسقوط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362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سطع نجم التخطيط الاستراتيجي في السبعينات والثمانينات وبداية التسعينات من القرن العشرين إلى أن وجه هنري منتزبرغ هجوماً شديداً عليه في عام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1994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من خلال كتابه الشهير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(صعود وسقوط التخطيط الاستراتيجي)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والذي تجد ملخصاً له في الصفحات التالي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إذا كان تحديد الحلم المستقبلي هو أهم شيء في التخطيط الاستراتيجي،  وإذا كان هذا الأمر ما زال يعتمد على الإبداع والابتكار ولم يصبح علماً حتى الآن فما قيمة التخطيط الاستراتيجي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685800"/>
            <a:ext cx="670536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d60093"/>
                </a:solidFill>
                <a:latin typeface="Times New Roman"/>
              </a:rPr>
              <a:t>القصور في التخطيط الاستراتيج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7432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 هل وجود إدارة للتخطيط تعني أننا نخطط فعلاً 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8:10:41Z</dcterms:created>
  <dc:creator>د.طارق السويدان</dc:creator>
  <dc:description/>
  <dc:language>en-US</dc:language>
  <cp:lastModifiedBy>ABDERRAOUF</cp:lastModifiedBy>
  <dcterms:modified xsi:type="dcterms:W3CDTF">2006-03-07T11:45:22Z</dcterms:modified>
  <cp:revision>220</cp:revision>
  <dc:subject>التخطيط الإستراتيجي</dc:subject>
  <dc:title>ما هو التخطيط ..؟</dc:title>
</cp:coreProperties>
</file>