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E292-B510-47D3-9899-03B15AF0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6D80-CF67-410F-B4C2-CC700215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6CF-3E29-46FF-9F45-CCA25A51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11AF-09B1-4E68-8884-BCC8D207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3D852-07D3-46D8-AC6B-56957C4CB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3466B4-1EC8-44BA-9675-49384104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99324C-97EA-402F-9487-2510A56C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6FC1F4-69F3-4BA1-80CB-64171DAA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A1E81E-D33A-44A7-BD16-919268DA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33C83-5EDF-4899-ACAF-D21FCD3C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C9059-F722-45B9-B29D-88B25F4F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59B-F806-448C-B4A0-615BEBDA2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C94C7-797D-428E-9574-9B423F06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3D0A2-934E-458F-B15C-34F8C8D3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0E89D-B078-4493-B327-2DEB7D2D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1D0F4-0984-40CE-85D5-A3CE91F8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C073F-7D18-4D15-A9E0-4B17FC53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429B-EBA2-4DE5-A8C4-81CC36CA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732E-27D7-439D-BE22-6ACAABE2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9DD7-0BC6-4A22-AA9F-2033D66D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EED-0051-4F12-B710-3284BE7A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04D2-B0C7-4D62-95A1-ADC8F1A7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B97-85DE-4D81-94DE-E36704B9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06AB-08D8-4BD0-8893-33060272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7B35-01E0-4869-904B-D476221F1984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4914-54B5-4F56-B30D-3DA10D959CA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422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14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23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تكلفة الاقتراض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16000" y="1267920"/>
            <a:ext cx="5770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حالات صعوبة ربط تكلفة الاقتراض بالأصل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حدد قيمة تكلفة الاقتراض التى يمكن رسملتها باستخدام معدل للرسملة يحسب على أساس المتوسط المرجح لتكلفة الاقتراض للمنشأة عن القروض القائمة خلال المد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 تستبعد القروض التى تم إبرامها تحديداً بغرض إقتناء أصل بذا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ألا تزيد قيمة تكلفة الاقتراض المرسملة خلال فترة ما عن قيمة تكلفة الاقتراض التى تم تكبدها خلال تلك الفتر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659280" y="620280"/>
            <a:ext cx="2027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بدء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87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عندما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24920" indent="0" algn="r" rtl="1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أ)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إنفاق على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ب) تكبد المنشأة تكلفة إقتراض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  (ج) تكون الأنشطة اللازمة لإعداد الأصل للاستخدام فى الأغراض المحددة له أو بيعه للغير محل تنفيذ فى الوقت الحا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87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لاحظ   ( و )    ليس   ( أو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80000" y="404280"/>
            <a:ext cx="30463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وقف عن الرسم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136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توقف عن رسملة تكلفة الاقتراض خلال الفترات التى تتعطل فيها أعمال الإنشاء الفعالة للأص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ا يتم تعليق رسملة تكلفة الاقتراض عندما يكون التوقف المؤقت بمثابة خطوة ضرورية فى عملية إعداد الأصل للاستخدام فى الأغراض المحددة  له أو لبيعه للغير مثل الفترات المطلوبة لنضج المخزو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يجب الانتهاء من عملية رسملة تكلفة الاقتراض عندما يتم الانتهاء من كل الأنشطة الجوهرية اللازم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إعداد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أصل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ما يتم الانتهاء من إنشاء أجزاء من الأصل و يكون من الممكن استخدام كل جزء من هذه الأجزاء أثناء استمرار عملية إنشاء باقى الأجزاء الأخرى فإنه يتعين التوقف عن رسملة تكلفة الاقتراض على الأجزاء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08720" y="475920"/>
            <a:ext cx="13780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ـــا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3516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شركة حصلت على القروض الآت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لتمويل مشروعاتها المتضمنة إنشاء مشروع مدينة سكني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معدل 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 خاصة بمشروع آخ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-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قرض لم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سنوات بفائد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سنوي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وقد بلغت المبالغ المنفقة على مشروع المدينة السكنية 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مبلغ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مطلوب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8996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حديد تكلفة الاقتراض الواجب رسملتها على مشروع المدينة السكن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  - تكلفة الاقتراض الخاصة بالقرض الاول المخصص للمشرو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ب – تكلفة الاقتراض الخاصة بالقروض الاخ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ثالث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فائدة المحتسبة على القرض الرابع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كلفة الاقترا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عدل الرسملة = ـ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 المتوسط المرجح للقرو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836640"/>
            <a:ext cx="12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حــل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94920" y="1599840"/>
            <a:ext cx="806436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8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lnSpc>
                <a:spcPct val="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=  ــــــــــــــــــــــــــــــــــــــــــــــــــ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+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نصيب المشروع =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×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8.4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% =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ج – تكلفة الاقتراض التى يجب رسملتها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67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جني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50920" y="907560"/>
            <a:ext cx="224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79280" y="2205000"/>
            <a:ext cx="475308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03640" y="278100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تحديد المعالجة المحاسبية لتكلفة الاقتراض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طلب هذا المعيار بشكل عام معالجة تكاليف الاقتراض كمصروفات فور تكبده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سمح كمعالجة بديلة برسملة تكلفة الاقتراض التى ترجع مباشرة إلى اقتناء أو إنشاء أو إنتاج أصل مؤهل لتحمل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443280" y="691920"/>
            <a:ext cx="2243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59280" y="2565000"/>
            <a:ext cx="345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867280" y="1125360"/>
            <a:ext cx="28195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قياس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62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ثبت تكلفة الاقتراض كمصروفات تحمل على الفترة التى تكبدت فيها المنشأة هذه التكلف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الإفصاح فى القوائم المالية عن السياسة المحاسبية المتبعة لمعالجة تكلفة الاقتراض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56000" y="270792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عالجة البديلة المسموح بها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رسملة تكلفة الاقتراض المتعلقة مباشرة باقتناء أو إنشاء أو إنتاج الأصل الذى يتطلب بالضرورة فترة زمنية طويلة لتجهيزه للاستخدام فى الأغراض المحددة له أو لبيعه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يتم رسملة تكلفة الاقتراض هذه ضمن تكلفة الأصل عندما يكون متوقعاً أن تتسبب فى خلق منافع اقتصادية مستقبلية للمنشأة وتكون هناك إمكانية لقياس التكلفة بشكل يمكن الاعتماد عليه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95280" y="1196640"/>
            <a:ext cx="4691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تكلفة الإقتراض المؤهلة للرسملة</a:t>
            </a:r>
            <a:r>
              <a:rPr b="1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ى تكلفة الاقتراض التى  كان يمكن تجنبها إذا لم يتم الإنفاق على هذا الأص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طرح من تكلفة الاقتراض المرسملة أى إيراد تحقق من الاستثمار المؤقت للأموال المقترض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خفيض أو استبعاد الزيادة فى القيمة الدفترية للأصل نتيجة الرسملة عن قيمته الإستردادية من القيمة الدفترية للأصل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05:14Z</dcterms:created>
  <dc:creator>Eissa</dc:creator>
  <dc:description/>
  <dc:language>en-US</dc:language>
  <cp:lastModifiedBy>m.farouk</cp:lastModifiedBy>
  <dcterms:modified xsi:type="dcterms:W3CDTF">2006-11-13T09:02:30Z</dcterms:modified>
  <cp:revision>19</cp:revision>
  <dc:subject/>
  <dc:title>معيار المحاسبة المصرى رقم (14) تكلفة الاقتراض</dc:title>
</cp:coreProperties>
</file>