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F8D-2F2D-4C24-8E2E-4DAE8D84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9EAB-083A-443B-AF8D-307B2072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F3F1-A482-4C5D-BFD0-064E512E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AA6-BB0E-4519-8932-691B5759A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69868-C6C9-467F-820A-44E1977B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5BF8CE-49E9-4BDF-8906-199F8CA6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CB9EA-0285-46BE-9DD1-8DC80707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D224FE-A2F0-49B9-9124-D0E58F2E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A7F7E2-ED9E-4693-9209-CD583E57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E605E-FD70-4B48-9A9B-B2857F8C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741283-ADB9-4C9A-ACE7-C74C05B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CB5-B14F-4C2C-BF2B-6E713239B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45159-55A3-474F-A43A-BC2FFA9C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B6901-4AF4-4A7B-B638-1818F53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38562-6BD8-4B80-9A7F-48C3F1B0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16224-7FD0-4A9F-9E19-61ADB765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33BA7-71B5-480A-99D4-3FE7E179B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5732-0EC4-48E4-BCC7-05345498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7590-C40D-4710-9032-D9BCB8EF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054-F253-460B-9E1B-89B03439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C471-CD24-4B2E-871C-FE034963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55D-D2C1-4AA6-AF43-97A570B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71B-F387-4782-AD40-42E2DDE6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3EB5-22C0-4F45-99C0-9D4D1D5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E1E0-66B3-47D1-BB5E-A92E06ACFC65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C4CE-7710-4B31-9E74-83057DF33FA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772F-DAFA-473F-AF3E-12BAFACC0001}" type="datetime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١٤٤٨/٠٢/١٤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F14B-7A96-4801-8FB1-5625DD38D35A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360" y="981000"/>
            <a:ext cx="799128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3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FRAS 6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تنقيب عنه وتقييم الموارد التعدينية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5280" y="610884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6B1683-7680-43AA-A341-B753642B49D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لا يتم الاعتراف بالمصروفات التى تتحملها المنشأة من أجل تطوير الموارد التعدينية باعتبارها كأصول تنقيب و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426-E6E7-4411-A178-F65ADB13520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95280" y="1412640"/>
            <a:ext cx="4629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بويب أصول التنقيب والتقييم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ملموسة مثل : سيارات ، حفار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صول غير ملموسة مثل : حقوق الحف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958-8442-4E39-9966-1DAC8AEA5EF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ندما تكون القيمة الدفترية لهذه الاصول أكبر من قيمتها الاستردادية، وفى تلك الحالة يتم الاعتراف بأى خسائر كمصروفات تدرج ضمن قائمة الدخ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×××      من حـ/ المصرو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                  ×××     الى حـ/ مجمع الاستنفا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ويسمى ذلك باختبار الاضمحلال أو القابلية للتغطية أو الانخفاض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40000" y="62064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إنخفاض قيمة أصول التنقيب والتقييم: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9731-00F6-4F72-B24D-D4331789DBB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على المنشأة الإعتراف بأى التزامات تتعلق بالازالة والتجديد التى تكبدتها خلال فترة محددة كنتيجة لقيامها بالتنقيب عن وتقييم الموارد التعدينية.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67B0-0D0D-472B-BA89-E0F24B7DD8B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40000" y="620640"/>
            <a:ext cx="454644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جب على المنشأة الافصاح ع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سياستها المحاسبية فى معالجة نفقات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قيم الاصول والالتزامات والايراد والمصروف والتدفقات النقدية من أنشطة التشغيل والاستثمار الناتجة عن التنقيب والتقيي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18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جـ - معالجة أصول التنقيب والتقييم كأصول مستقلة وأنه يتم الافصاح عنها فى حالة إذا كانت أصول ملموسة أو غير ملموس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81CC-2445-438B-B94A-A8DD875185E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5690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مصروف الاستنفاذ = ـ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ـــــــــــــــــــــــــــــــــــــــــــــــــــــــــ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 × عدد الوحدات المنتجة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28760" y="3259080"/>
            <a:ext cx="493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لنفقات التى تكبدتها المنشأة فى سبيل التنقيب والتقييم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933720"/>
            <a:ext cx="392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اجمالى كمية الانتاج المتوقع انتاجها بالوحدات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7733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* كيفية احتساب الاستنفاذ 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943F2-22CD-4163-92CA-7E0115B9178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4365360"/>
            <a:ext cx="8748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طلـوب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:-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قيمة مصروفات الاستنفا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قيود اليومية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11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تحديد صافى قيمة الأصل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54936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620640"/>
            <a:ext cx="842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ثال توضيحى :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قامت إحدى شركات الاستكشاف عن البترول بتكبد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جنيه مصرى فى سبيل التنقيب عن أحد آبار البترول بالصحراء الغربية، وقد كانت كمية الانتاج المتوقع استخراجها طبقاً للدراسة الهندسية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، وعند الرجوع لدفاتر الشركة اتضح أن كمية الوحدات المنتجة خلال العام المالى المنتهى فى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1/12/200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تقدر بـ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 برميل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0CF-0008-482B-BD9C-C079B729FFE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04000" y="475920"/>
            <a:ext cx="1882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حــل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314000"/>
            <a:ext cx="8686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349"/>
              </a:spcBef>
              <a:buNone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 الاستنفاذ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= ــــــــــــــــــــــــــــــــــــ ×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=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جنيه مص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قيود اليومية: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أصول التنقيب والتقيي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النقد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                       ـــــــــــــــــــــــــــــــــــــــ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من حـ/ مصروف الاستفاذ – قائمة الدخ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     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       الى حـ/ مجمع الاستنفاذ - ميزان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- صافى قيمة الأصل فى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     تكلفة أصول التنقيب والاستكشا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    (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50</a:t>
            </a:r>
            <a:r>
              <a:rPr b="0" lang="ar-EG" sz="2000" spc="-1" strike="noStrike">
                <a:solidFill>
                  <a:srgbClr val="ffff00"/>
                </a:solidFill>
                <a:latin typeface="Arial"/>
              </a:rPr>
              <a:t>)          مجمع الاستنفا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EG" sz="2000" spc="-1" strike="noStrike">
                <a:solidFill>
                  <a:srgbClr val="ffffff"/>
                </a:solidFill>
                <a:latin typeface="Arial"/>
              </a:rPr>
              <a:t>ــــــــــــــــــــــــــــ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00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450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        صافى قيمة الاصل فى </a:t>
            </a:r>
            <a:r>
              <a:rPr b="1" lang="ar-EG" sz="2000" spc="-1" strike="noStrike">
                <a:solidFill>
                  <a:srgbClr val="ffff00"/>
                </a:solidFill>
                <a:latin typeface="Arial"/>
              </a:rPr>
              <a:t>31/12/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603760" y="14130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64000" y="1773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000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e3e3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3E90-8D50-485C-8612-055F0B4E45E8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771280" y="22824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المقصود بنفقات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ى النفقات التى تتكبدها المنشأة والمتعلقة بالتنقيب عن وتقييم الموارد التعدينية قبل أن تتضح الجدوى الفنية والفائدة التجارية لاستخراج الموارد التعدين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D16B-8A8D-492E-A43E-8F2F1E171B3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 u="sng">
                <a:solidFill>
                  <a:srgbClr val="ffff00"/>
                </a:solidFill>
                <a:uFillTx/>
                <a:latin typeface="Arial"/>
              </a:rPr>
              <a:t>المقصود بالتنقيب عن وتقييم الموارد التعدينية:-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هو البحث عن الموارد التعدينية والموارد غير المتجددة بعد حصول المنشأة على الحقوق القانونية للتنقيب فى  منطقة محددة وكذلك تحديد الجدوى الفنية والفائدة التجارية منه إستخراج المورد التعدين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مثال على ذلك : المعادنة – البترول – الغاز الطبيع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F32F-30AA-4B10-BC7D-1C8D5F699E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55640" y="2060640"/>
            <a:ext cx="770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يعترف بنفقات التنقيب والتقييم كأصول طبقاً للسياسة المحاسبية للمنشأ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just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92E4-EB70-4499-ACFE-36EC84CD4EE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طبق هذا المعيار على النفقات التى تكبدتها المنشأة فى سبي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26C-FAA1-49B1-AF9A-543300A9F3E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00"/>
                </a:solidFill>
                <a:latin typeface="Arial"/>
              </a:rPr>
              <a:t>لا تطبق المنشأة هذا المعيار فى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قبل التنقيب عن وتقييم الموارد التعدينية مثل النفقات المتكبدة قبل حصول المنشأة على الحقوق القانونية للتنقيب فى منطقة محد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- النفقات المتكبدة بعد أن تظهر بوضوح الجدوى الفنية والقدرة التجارية لاستخراج الموارد التعدين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7AA-B1CD-4434-AD26-FD754FE5F40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84360" y="1699920"/>
            <a:ext cx="605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قياس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اس الأولــــى : بالتكلف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القيـاس اللاحـــق : إعادة تقييم الأصول التنقيب والتقيي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EDE-6AC1-469C-89CA-B747B23977A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 u="sng">
                <a:solidFill>
                  <a:srgbClr val="ffff00"/>
                </a:solidFill>
                <a:uFillTx/>
                <a:latin typeface="Arial"/>
              </a:rPr>
              <a:t>عناصر تكاليف أصول التنقيب والتقييم:-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هى التكاليف التى تساهم فى إكتشاف موارد تعدينية مثل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صول على حقوق ا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دراسة الطبوغرافية والجيولوج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حفر للتنقيب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حفر الآبا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أخذ العينات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- الانشطة المرتبطة بتقييم الجدوى الفنية والقدرة التجار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8383-2432-4731-B295-E618F6065BB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تغيير فى السياسات المحاسبية فى حالة تغيير المنشأة لسياستها المحاسبية فيما يتعلق بنفقات التنقيب والتقييم فيجب عليها أن:-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2428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أ   - تفصح عن أسباب ذل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ff"/>
                </a:solidFill>
                <a:latin typeface="Arial"/>
              </a:rPr>
              <a:t>ب - أثر ذلك على القوائم المالي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41E-41AD-4BA1-8696-ED2A0CF3003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0T14:11:57Z</dcterms:created>
  <dc:creator>h.awadain</dc:creator>
  <dc:description/>
  <dc:language>en-US</dc:language>
  <cp:lastModifiedBy>k.refaat</cp:lastModifiedBy>
  <dcterms:modified xsi:type="dcterms:W3CDTF">2006-11-06T13:07:48Z</dcterms:modified>
  <cp:revision>18</cp:revision>
  <dc:subject/>
  <dc:title>المقصود بنفقات التنقيب والتقييم:-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