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C555-DD73-4FA6-958A-EBBA02D7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3233-6B2C-47A2-A436-0D3EEED57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B62-73AF-4E55-B747-E3E5E17E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903E-4436-43E4-B254-FBA8D20FC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D4263-A1E9-4C93-BA78-9E8760F4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37064-C6FC-4CC6-9C39-797B41E7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EEB23-0EA8-408F-A4B0-01C51828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48DFA-BCBE-4B9D-8DDF-88B6FE01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7B5C0-C87D-4EC0-AE39-A4035068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DEAE2-B891-45B3-BC00-2F14FD3F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02D9CF-ECFA-4A22-BDD4-BC08E568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E3E-66D3-4BD7-8F8D-52388912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49CB94-0720-41F7-BC01-04E6312B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14A9-B146-4EBA-8F5D-EF95ADE3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E252FF-2912-4FF4-B1EB-91FCE58F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972DA-37D5-4235-8425-3FCC7A25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D7844-B35F-40B9-A8E3-FFEC183F5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B947-BB55-4792-B6A2-A52A1361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C80-4D69-4866-ACFA-95F114D6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776C-20C8-4D3B-9723-A8C13A72C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0CBE-CAD3-42FA-A578-7B851C8F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32B-3603-4F90-874E-6C665ED8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E5D0-C8C0-4FDA-8D09-D3E9BEF3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B69-0E56-4785-A433-C5128351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CFED-1D67-4717-88FD-AC09C69F0332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54E6-5C44-4D4A-BF6D-E9776A4244B3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00000" y="1557360"/>
            <a:ext cx="741708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مخــزون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932360" y="2852640"/>
            <a:ext cx="5047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76720" y="1197000"/>
            <a:ext cx="361008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8013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ادة ما يتم تخفيض قيمة المخزون إلى صافى قيمته البيعية على أساس كل بند على حد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يكون مناسباً تجميع البنود المتجانسة أو المتعلق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ببعضه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فى مجموع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عتمد تقدير صافى القيمة البيعية على الدلائل المتاحة التى يمكن أن يعتد بها وقت إعداد هذا التقدير والتى يكون من المتوقع أن تحققها بنود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3280" y="549360"/>
            <a:ext cx="3683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ميل على المصرو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حمل القيمة الدفترية للمخزون المباع كمصروف فى الفترة التى تحقق فيها الإيراد الناتج عن البي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معالجة قيمة أى رد لأى تخفيض فى قيمة المخزون الناشئ عن الزيادة فى صافى قيمته البيعية كتخفيض فى تكلفة المخزون المباع فى الفترة التى تم الرد فيها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62680" indent="-31536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د تستخدم بعض بنود المخزون فى إنشاء أصول ثابتة وعندئذ تحمل تكلفة هذه البنود على حسابات هذه الأصول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03640" y="333000"/>
            <a:ext cx="189396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لإفصــــاح</a:t>
            </a:r>
            <a:r>
              <a:rPr b="0" lang="ar-EG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267920"/>
            <a:ext cx="7991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61160" indent="0" algn="r" rtl="1">
              <a:lnSpc>
                <a:spcPct val="90000"/>
              </a:lnSpc>
              <a:spcBef>
                <a:spcPts val="9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Arial"/>
              </a:rPr>
              <a:t>يجب أن تفصح القوائم المالية عن الآتي</a:t>
            </a:r>
            <a:r>
              <a:rPr b="1" lang="ar-EG" sz="36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سياسات المحاسبية المتبعة عند قياس قيمة المخزون بما فى ذلك الطريقة المستخدمة لحساب التكلفة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ى تغيير فى السياسات المحاسبية المتعلقة بالمخزون والأسباب الضرورية لهذا التعديل وأثر هذا التعديل فى الفترة الجارية والفترات السابق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جمالى القيمة الدفترية للمخزون مبوبة تبويباً مناسباً يتفق مع طبيعة نشاط المنشأ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للمخزون بصافى قيمته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1160" indent="-461160" algn="just" rtl="1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قيمة المخزون المرهون كضمان الالتزامات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2410920" y="2565360"/>
            <a:ext cx="490716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حالات عمليــ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32720" y="475920"/>
            <a:ext cx="1954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ثال (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شترت شركة رولا مخزون فى أول يناي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كانت صافى القيمة البيعي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، وخلال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باعت الشركة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وفقاً لما سبق، أى من البيانات التالية صحيحاً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  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ب- قيمة المخزون الظاهرة فى الميزان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ه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ـ- 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ما يظهر فى قائمة الدخل كمكسب هو 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52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 - فى السنة المالية المنتهية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فإن الشركة اعترفت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د) هو ال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تتطلب معايير المحاسبة المصرية أن يتم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قييم المخزون آخر المدة بالتكلفة أو صافى القيمة البيعية أيهما أقل، وينبغى على الشركة الاعتراف بخسارة قدرها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مصرى (عبارة عن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فى قائمة الدخل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عند بيع المخزون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ينبغى الاعتراف بربح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يعترف بها فى قائمة الدخ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 أ 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ه يجب تخفيض المخزون الى القيمة السوقية فى نهاية ال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ب) غير صحيح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لان واقع أن المخزون تم بيعه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نيه مصرى فى عام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ليس له تأثير على رصيد المخزون فى </a:t>
            </a:r>
            <a:br>
              <a:rPr sz="2400"/>
            </a:b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just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00"/>
                </a:solidFill>
                <a:latin typeface="Arial"/>
              </a:rPr>
              <a:t>الخيار (ج) غير صحيح،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حيث أن بيع المخزون بمبلغ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يجب مقارنته بقيمة المخزون فى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ديسمبر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الذى كان القيمة الاقل من التكلفة أو صافى القيمة البيعية أى النتيجة تحقيق مكسب قدره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جنيه عبارة عن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62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550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ـال (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2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)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9152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يما يلى بعض المعلومات المتعلقة بشركة الياسمين عن سنة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005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547640" y="2060640"/>
          <a:ext cx="6991560" cy="2070000"/>
        </p:xfrm>
        <a:graphic>
          <a:graphicData uri="http://schemas.openxmlformats.org/drawingml/2006/table">
            <a:tbl>
              <a:tblPr/>
              <a:tblGrid>
                <a:gridCol w="2376720"/>
                <a:gridCol w="4614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شتريات بغرض ا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رتجعات للب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فوائد على الحسابات الدائ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صروفات شحن البضائ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755640" y="450864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فإن تكلفة المخزون سوف تكون: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297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ب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 (ج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04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     ( د)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316</a:t>
            </a: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 جن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48000" y="333000"/>
            <a:ext cx="173844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حـــــل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3429000"/>
            <a:ext cx="83628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أ ) غير صحيح، لأن مصروفات الشحن يجب أن تدخل كجزء من تكلفة المخزو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ب) غير صحيح، لأنه بالاضافة الى مشتريات البضاعة فإن البضاعة المرتجعة ومصروفات الشحن يجب إدخالهما ضمن الحساب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 algn="just" rtl="1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خيار ( د) غير صحيح، لأن تكلفة الفائدة على التمويل لا تدخل ضمن تكلفة المخزون (إلا فى ظل إشتراطات معينة كما جاء فى المعيار المحاسبى المصرى رقم (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) والمتعلق بتكلفة الاقتراض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ffff00"/>
                </a:solidFill>
                <a:uFillTx/>
                <a:latin typeface="Arial"/>
              </a:rPr>
              <a:t>وتتلخص الاشتراطات فى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يتطلب المخزون فترة زمنية طويلة لاعداده وبيعه مثل شركات الاستثمار العقا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أن تكون تكلفة الاقتراض فعلية وليس افتراض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عدم استكمال الاصل بشكل جوهرى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763640" y="1268280"/>
          <a:ext cx="6918480" cy="1822680"/>
        </p:xfrm>
        <a:graphic>
          <a:graphicData uri="http://schemas.openxmlformats.org/drawingml/2006/table">
            <a:tbl>
              <a:tblPr/>
              <a:tblGrid>
                <a:gridCol w="2448000"/>
                <a:gridCol w="44704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شتريات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+ مصروفات الشح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00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 مرتجعات للبائع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500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304</a:t>
                      </a:r>
                      <a:r>
                        <a:rPr b="1" lang="ar-EG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جني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31640" y="1341360"/>
            <a:ext cx="302436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39640" y="2421000"/>
            <a:ext cx="46911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تعريفـــ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الافصا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00"/>
                </a:solidFill>
                <a:latin typeface="Arial"/>
              </a:rPr>
              <a:t>حالات عمل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347640" y="292392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شرح المعالجة المحاسبية ل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وفر هذا المعيار إرشادا عملياً لتحديد التكلفة وما سيتتبع ذلك من الاعتراف بها كمصروفات بما فى ذلك أى تخفيض فى القيمة للوصول إلى صافى القيمة البيع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just" rtl="1">
              <a:spcBef>
                <a:spcPts val="700"/>
              </a:spcBef>
              <a:spcAft>
                <a:spcPts val="1576"/>
              </a:spcAft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كما أنه يوفر إرشادات عن طرق حساب التكلفة التى تستخدم لتحميل التكاليف على المخزو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659280" y="691920"/>
            <a:ext cx="20271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هدف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59280" y="260280"/>
            <a:ext cx="2952720" cy="10598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معيار المحاسبة المصرى رقم (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84280"/>
            <a:ext cx="2089080" cy="7855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ول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تعريف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1484280"/>
            <a:ext cx="208908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نيـا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قياس قيمة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11280" y="1413000"/>
            <a:ext cx="2520720" cy="10598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ثالثـا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افصاح عن المخزون فى القوائم المال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16360" y="1052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835280" y="1197000"/>
            <a:ext cx="590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835280" y="1197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0720" y="119700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70828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التكلفة أو صافة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3789360"/>
            <a:ext cx="2089080" cy="3682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أ  - قياس التكلف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8000" y="3860640"/>
            <a:ext cx="25192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ب – قياس صافى القيمة البي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860640"/>
            <a:ext cx="2773440" cy="11912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جـ- كيفية تطبيق طريقة التكلفة أو صافى القيمة البيعية أيهما أق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إقتناء أو الحصول على المخزو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32000" y="4869000"/>
            <a:ext cx="2521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والمنصرف خلال الفترة للانتاج أو البي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486900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- تكلفة المخزون المتبقى آخر الفتر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6197760"/>
            <a:ext cx="2089080" cy="916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1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تجارية والمواد الخ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2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صناع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6124680"/>
            <a:ext cx="2089080" cy="6426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1/3</a:t>
            </a:r>
            <a:r>
              <a:rPr b="1" lang="ar-EG" sz="1800" spc="-1" strike="noStrike">
                <a:solidFill>
                  <a:srgbClr val="ffff00"/>
                </a:solidFill>
                <a:latin typeface="Arial"/>
              </a:rPr>
              <a:t> المنشآت الخدم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618920" y="3645000"/>
            <a:ext cx="597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1928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3645000"/>
            <a:ext cx="0" cy="217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96360" y="364500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8000" y="342900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24720" y="4294080"/>
            <a:ext cx="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763280" y="4581360"/>
            <a:ext cx="576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63640" y="458136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43280" y="4581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227664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5516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339640" y="5805360"/>
            <a:ext cx="5327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40000" y="580536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48360" y="5805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372000" y="404640"/>
            <a:ext cx="2314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ـــــــات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مخزون هو أصل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( أ 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حتفظ به بغرض البيع ضمن النشاط العادى للمنشأ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ب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مرحلة الانتاج ليصبح قابلاً ل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3844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 (ج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فى شكل مواد خام أو مهمات تستخدم فى مراحل الانتاج أو فى تقديم الخدمات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5280" y="3068640"/>
            <a:ext cx="82803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السعر التقديرى للبيع من خلال  النشاط العادى ناقصاً التكلفة التقديرية للاتمام وكذلك أية تكلفة أخرى تستلزمها إتمام عملية البي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القيمة العادلة: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هى القيمة التى يمكن بموجبها تبادل أصل أو تسوية التزام بين أطراف كل منهم لديه الرغبة فى التبادل وعلى بينة من الحقائق ويتعاملان بإرادة ح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340000" y="2707920"/>
            <a:ext cx="489600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ff00"/>
                </a:solidFill>
                <a:latin typeface="Arial"/>
              </a:rPr>
              <a:t>المعالجة المحاسبي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96000" y="1268280"/>
            <a:ext cx="28908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حساب التكلفة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843588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حميل بنود المخزون المحددة بذاتها والمنتجات والخدمات التى يمكن فصلها ويتم ربطها بمشروعات معينة بعناصر التكاليف الخاصة بكل منها على حد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جب استخدام طريقة الوارد أولاً يصرف أولاً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 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طريقة المتوسط المرجح للتكلفة عند تحديد تكلفة المخزون فى الحالات الأخرى خلاف تلك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التى يتم فيها تحميل بنود المخزون المحددة بذاتها والمنتجات والخدمات التى يمكن فصلها ويتم ربطها بمشروعات معينة بعناصر التكاليف الخاصة بكل منها على حد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651640" y="1052280"/>
            <a:ext cx="2962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صافى القيمة البيعية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قد لا يمكن استرداد تكلفة المخزون إذا ما تعرض للتلف أو التقادم الكلى أو الجزئى أو إذا انخفض سعر بيعه 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وقد لا يمكن أيضاً استرداد تكلفة المخزون إذا زادت التكلفة التقديرية لإتمامه أو إذا زادت التكلفة التقديرية المتوقع تحملها لإتمام عملية البيع عن سعر بيعه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05:14Z</dcterms:created>
  <dc:creator>Eissa</dc:creator>
  <dc:description/>
  <dc:language>en-US</dc:language>
  <cp:lastModifiedBy>r.mansour</cp:lastModifiedBy>
  <dcterms:modified xsi:type="dcterms:W3CDTF">2006-12-11T13:26:42Z</dcterms:modified>
  <cp:revision>47</cp:revision>
  <dc:subject/>
  <dc:title>معيار المحاسبة المصرى رقم (14) تكلفة الاقتراض</dc:title>
</cp:coreProperties>
</file>