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A44F-864A-4208-A334-993EC86F2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0199-9FFD-43B5-B7B6-D0AB9005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58F7-856C-4559-9324-791FFAF1F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D26E-49C1-44B6-9C6C-A799E4CAC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515F00-FC94-4413-915B-19B192D3B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694EA0-098A-48E6-BA7F-98E3DC73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876E29-663A-446F-AB6C-6344DC74D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92048-967A-4B98-8451-49F2ED44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CB6DE-C512-4EC3-9A2B-AEFF7E0C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5A76ED-2F36-4AEA-962C-1CBD379F0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2BC549-7802-4960-9A91-6687287D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93C1-5CC6-4E25-B52D-A91A3C42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601FA6-8990-4DE9-BDC4-6804D130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B9B7D-9DCE-47BA-A675-18A8E5FD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94DB5-21B6-4DAD-990A-ED1EC3376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34D90-7D0B-4D36-BC2A-F2CF0459B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99AD8-BB2F-4684-BB5C-739675A3B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705A-6C69-473A-925D-47DEF325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7CAF-B318-4067-A6DE-453C5EB7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F4B0-9230-4058-94D6-13B139CE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7A51-C608-42B2-A0F8-B68B493C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0593-315E-4DEA-AAC5-0FA32B15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2051-17A9-441E-9D6C-24BC3044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09E2-D1ED-4801-920F-7EC8DB17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D6220-05BD-4B0F-BF41-8D0A8E1719B1}" type="slidenum">
              <a:rPr b="0" lang="ar-E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336C-B2A4-49B8-AC35-D5DEC0E0723D}" type="slidenum">
              <a:rPr b="0" lang="ar-E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amera.wav" TargetMode="External"/><Relationship Id="rId2" Type="http://schemas.microsoft.com/office/2007/relationships/media" Target="file:///tmp/home/.config/libreoffice/4/user/gallery/camera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90720" y="1295280"/>
            <a:ext cx="741672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معيار المحاسبة المصرى رقم (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26</a:t>
            </a: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) 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IAS 39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ffcc"/>
                  </a:solidFill>
                  <a:miter/>
                </a:ln>
                <a:solidFill>
                  <a:srgbClr val="66ff33"/>
                </a:solidFill>
                <a:latin typeface="Tahoma"/>
              </a:rPr>
              <a:t>الادوات المالية - الاعتراف والقياس</a:t>
            </a:r>
            <a:endParaRPr b="1" lang="en-US" sz="1800" spc="1" strike="noStrike">
              <a:ln w="9360">
                <a:solidFill>
                  <a:srgbClr val="00ffcc"/>
                </a:solidFill>
                <a:miter/>
              </a:ln>
              <a:solidFill>
                <a:srgbClr val="66ff33"/>
              </a:solidFill>
              <a:latin typeface="Tahoma"/>
              <a:ea typeface="Tahoma"/>
            </a:endParaRPr>
          </a:p>
        </p:txBody>
      </p:sp>
      <p:pic>
        <p:nvPicPr>
          <p:cNvPr id="123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2860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audio isNarration="0">
              <p:cMediaNode showWhenStopped="1">
                <p:cTn/>
                <p:tgtEl>
                  <p:spTgt spid="12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27280" y="549360"/>
            <a:ext cx="245916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اعتراف الأولى</a:t>
            </a:r>
            <a:r>
              <a:rPr b="0" lang="ar-SA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424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على المنشأة إثبات الأصل المالى و الالتزام المالى فى ميزانيتها عندما - وفقط عندما - تصبح المنشأة طرفاً فى الأحكام التعاقدية للأداة المال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ff00"/>
                </a:solidFill>
                <a:uFillTx/>
                <a:latin typeface="Arial"/>
              </a:rPr>
              <a:t>استبعاد الأصل المالى من الدفات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قوم المنشأة باستبعاد الأصل المالى  من الدفاتر عندما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- وفقط عندما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نتهى فترة سري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ـ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ن الحق التعاقدى فى الحصول على تدفقات نقدي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ـ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من الأصل المالى .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أو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قوم المنشأة بتحويل الأصل المالي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03280" y="475920"/>
            <a:ext cx="54831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تحويلات المؤهلة للاستبعاد من الدفاتر</a:t>
            </a:r>
            <a:r>
              <a:rPr b="0" lang="ar-SA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إذا نتج عن تحويل أصل واستبعاده من الدفاتر بالكامل حصول المنشأة على أصل مالى جديد أو التزامها بالتزام مالى جديد أو التزامات تأدية الخدمة ،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فعلى المنشأة الاعتراف بالأصل أو الالتزام المالى أو التزامات تأدية الخدمة بالقيمة العادل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فى حالة استبعاد أصل مالى بالكامل  من الدفاتر، فيجب الاعتراف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فى الأرباح والخسائر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بالفرق بين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( أ )  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القيمة الدفترية 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و (ب)  إجمالي 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 المقابل المستلم (متضمناً أى أصل مالى جديد وناقصاً أى التزام مالى جديد) و(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) أية أرباح أو خسائر متراكمة سبق الاعتراف بها مباشرة فى حقوق الملك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00720" y="475920"/>
            <a:ext cx="41860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ستبعاد التزام مالى من الدفاتر</a:t>
            </a:r>
            <a:r>
              <a:rPr b="0" lang="ar-SA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تستبعد المنشأة  الالتزام المالى (أو جزءاً منه) من ميزانيتها عندما - وفقط عندما - ينتهى إما  بالتخلص منه أو إلغائه أو انتهاء مدته الواردة بالعقد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يدرج </a:t>
            </a: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بالأرباح والخسائر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الفرق بين القيمة الدفترية للالتزام (أو جزء منه) الذى تم الإعفاء منه أو تحويله إلى طرف آخر متضمناً المصروفات غير المستهلكة وبين المبلغ المدفوع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قي</a:t>
            </a: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ــــ</a:t>
            </a: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س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000" y="3789360"/>
            <a:ext cx="80852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أصول مالية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بالقيمة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العادل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من خلال الأرباح أو الخسائر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9880" indent="-479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ستثمارات محتفظ بها حتى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تاريخ الاستحقاق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بالتكلفة المستهلك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باستخدام طريقة الفائدة الفعلية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9880" indent="-479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قروض ومديونيات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بالتكلفة المستهلك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باستخدام طريقة الفائدة الفعلية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9880" indent="-479880" algn="r" rtl="1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صول مالية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متاحة للبيع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ar-SA" sz="2400" spc="-1" strike="noStrike">
                <a:solidFill>
                  <a:srgbClr val="ffffff"/>
                </a:solidFill>
                <a:latin typeface="Arial"/>
              </a:rPr>
              <a:t>يتم قياسها </a:t>
            </a:r>
            <a:r>
              <a:rPr b="1" i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بالتكلف</a:t>
            </a:r>
            <a:r>
              <a:rPr b="1" i="1" lang="ar-EG" sz="2400" spc="-1" strike="noStrike">
                <a:solidFill>
                  <a:srgbClr val="ffffff"/>
                </a:solidFill>
                <a:latin typeface="Arial"/>
              </a:rPr>
              <a:t>ة</a:t>
            </a:r>
            <a:r>
              <a:rPr b="0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1413000"/>
            <a:ext cx="806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قياس الأولى للأصول المالية و الالتزامات المالي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عند الاعتراف الأولى بالأصل المالى أو الالتزام المالى على المنشأة قياسه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بالقيمة العادل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قياس اللاحق للأصول المالي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أغراض القياس 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اللاحق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تبوب الاصول المالية الى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ff00"/>
                </a:solidFill>
                <a:uFillTx/>
                <a:latin typeface="Arial"/>
              </a:rPr>
              <a:t>اضمحلال قيمة الأصول المالية</a:t>
            </a:r>
            <a:r>
              <a:rPr b="1" lang="ar-EG" sz="3600" spc="-1" strike="noStrike" u="sng">
                <a:solidFill>
                  <a:srgbClr val="ffff00"/>
                </a:solidFill>
                <a:uFillTx/>
                <a:latin typeface="Arial"/>
              </a:rPr>
              <a:t> و إسترداده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57200" y="1600200"/>
          <a:ext cx="8229600" cy="47242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94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عالجة الاستردا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عالجة الخسار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أص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8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1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بالتكلفة المستهلكة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ير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لتكلف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سندا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أسه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خسائر المجمعة في حقوق الملكية تحول لقائمة الدخ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تاح للبيع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5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رد ب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ا ترد بالأرباح و الخسائ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11640" y="907920"/>
            <a:ext cx="237492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محاسبة التغطي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9640" y="3573000"/>
            <a:ext cx="79200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غطية خطر القيمة العادل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غطية خطر التدفقات النقدي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2760" indent="-572760" algn="r" rtl="1"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غطية خطر صافى الاستثمار فى عملية أجنب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1700280"/>
            <a:ext cx="784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تعترف محاسبة التغطية بأثر المقاصة على الأرباح أو الخسائر الناتجة عن التغيرات فى القيم العادلة لأداة التغطية و البند المغطى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هناك ثلاثة أنواع من علاقات التغطي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35280" y="549360"/>
            <a:ext cx="505152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محاسبة عن تغطيات القيمة العادل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  ( أ )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الاعتراف ضمن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الأرباح أو الخسائر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بالأرباح أو الخسائر الناتجة عن إعادة قياس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أداة التغطي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بالقيمة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العادلة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(بالنسبة لأداة التغطية المشتقة) أو إعادة قياس المكون الأجنبى من القيمة الدفتر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(ب)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تسوية القيمة الدفترية </a:t>
            </a:r>
            <a:r>
              <a:rPr b="1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للبند المغطى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بقيمة الأرباح أو الخسائر التي لحقت به إذا تم قياس البند المغطى بالتكلفة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212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إذا كان أصلاً مالياً متاحاً للبيع ،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يتم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 إستهلاك هذه الأرباح أو الخسائر حتى تاريخ إستحقاق الأصل بطريقة الفائدة الفعلية أو ، إذا تعذر، فبطريقة القسط الثابت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4653000"/>
            <a:ext cx="81374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700000" y="765000"/>
            <a:ext cx="598644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لمحاسبة عن تغط</a:t>
            </a: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ي</a:t>
            </a:r>
            <a:r>
              <a:rPr b="1" lang="ar-SA" sz="3200" spc="-1" strike="noStrike" u="sng">
                <a:solidFill>
                  <a:srgbClr val="ffff00"/>
                </a:solidFill>
                <a:uFillTx/>
                <a:latin typeface="Arial"/>
              </a:rPr>
              <a:t>ات خطر التدفقات النقدية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77580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( أ ) </a:t>
            </a:r>
            <a:r>
              <a:rPr b="1" lang="ar-EG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تم الاعتراف مباشرة ضمن حقوق الملكية من خلال قائمة التغير فى حقوق الملكية ذلك الجزء من الأرباح أو خسائر أداة التغطية والتى ثبت انها تغطية فعال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580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و(ب)  يتم الاعتراف ضمن الأرباح أو الخسائر بالجزء غير الفعال من الأرباح أو الخسائر على أداة التغط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758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64000" y="1268280"/>
            <a:ext cx="2736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المحتوي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5640" y="2205000"/>
            <a:ext cx="763272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مقدمة المعيا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تعريف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المعالجة المحاسبية - </a:t>
            </a: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لاعتراف والاستبعاد من الدفات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-566640" algn="r" rtl="1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Arial"/>
              </a:rPr>
              <a:t>مثا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666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31640" y="2420640"/>
            <a:ext cx="403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مقدمة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11640" y="764640"/>
            <a:ext cx="2685960" cy="7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مقدمة المعيا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5640" y="1916280"/>
            <a:ext cx="799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يهدف هذا المعيار إلى وضع أسس للاعتراف ولقياس الأصول والالتزامات المالية وكذلك بعض عقود شراء أو بيع البنود غير المالية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64000" y="2707920"/>
            <a:ext cx="302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تعريفـــــــ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04000" y="404640"/>
            <a:ext cx="18828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عريف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422100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أصل أو الالتزام المالى</a:t>
            </a:r>
            <a:r>
              <a:rPr b="1" i="1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قيم</a:t>
            </a:r>
            <a:r>
              <a:rPr b="1" i="1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بالقيمة العادلة من خلال الأرباح أو الخسائر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(أ) ي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م تبويبه كأصل محتفظ به لأغراض المتاجر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م اقتناؤه أو نشأ بصفة أساسية لغرض البيع أو إعادة </a:t>
            </a:r>
            <a:r>
              <a:rPr b="1" i="1" lang="ar-SA" sz="2400" spc="-1" strike="noStrike">
                <a:solidFill>
                  <a:srgbClr val="ffffff"/>
                </a:solidFill>
                <a:latin typeface="Arial"/>
              </a:rPr>
              <a:t>الشراء فى مدى زمنى قصير.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و  (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) جزءاً من محفظة أدوات مالية محددة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و  (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) مشتقات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مالية و ليست للتغطي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6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(ب) ي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م تبويبه عند الاعتراف الأولى بالقيمة العادلة من خلال الأرباح أو الخسائر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8360" y="119700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شتقات المالي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أدوات مالية أو أية عقود أخرى وتتضمن كل الخصائص الثلاث التالية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( أ )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تغير قيمتها وفقاً للتغير فى سعر فائدة معين أو سعر أداة مالية معينة أو سعر صرف عمل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و </a:t>
            </a:r>
            <a:r>
              <a:rPr b="1" i="1" lang="ar-SA" sz="2400" spc="-1" strike="noStrike">
                <a:solidFill>
                  <a:srgbClr val="ffffff"/>
                </a:solidFill>
                <a:latin typeface="Arial"/>
              </a:rPr>
              <a:t>(ب) لا تتطلب صافى استثمار أولى أو تتطلب صافى استثمار أولى أقل من المطلوب لأنواع أخرى من العقود التى يتوقع أن تتأثر تأثراً مماثلاً بالتغيرات  فى عوامل السوق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و (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ج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)  يتم تسويتها فى تاريخ مستقبلى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300720" y="475920"/>
            <a:ext cx="238608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ابع - تعريف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أصول المالية المتاحة للبيع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أصول غير مش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ت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ة تم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حديدها كأصول متاحة للبيع عند الاقتناء، وغير المبوب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كقروض  ومديونيات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،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أ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كاستثمارات محتفظ بها حتى تاريخ الاستحقاق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، أ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كأصول مالية بالقيمة العادلة من خلال الأرباح أو الخسائ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تكلفة المستهلكة للأصل المالى أو الالتزام المالى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 هى القيمة التى يقاس بها الأصل المالى أو الالتزام المالى عند الاعتراف الأولى به مضافاً إليه أو مخصوماً منه استهلاك علاوة أو خصم الإصدا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طريقة الفائدة الفعلي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طريقة إستهلاك خصم أو علاوة الإصدار باستخدام سعر فائدة السوق للأدوات المالية المماثلة . والإستهلاك هنا بتحديد القيمة الحالية للأصل أو الإلتزام بحيث الفرق بين رصيدها أول واخر المدة هو استهلاك الفتر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84720" y="404280"/>
            <a:ext cx="26020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200" spc="-1" strike="noStrike" u="sng">
                <a:solidFill>
                  <a:srgbClr val="ffff00"/>
                </a:solidFill>
                <a:uFillTx/>
                <a:latin typeface="Arial"/>
              </a:rPr>
              <a:t>تابع - تعريفات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8920" y="126792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ارتباط المؤكد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و اتفاق ملزم لتبادل كمية محددة من الموارد بسعر محدد فى تاريخ أو تواريخ مستقبلية محددة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عاملات المتوقعة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معاملات غير مؤيدة بارتباط و لكن متوقع حدوثها مستقبل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بند الذى يتم تغطيت</a:t>
            </a: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ه</a:t>
            </a:r>
            <a:r>
              <a:rPr b="1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هو أصل أو التزام أو ارتباط مؤكد أو معاملات متوقعة بدرجة عالية من الاحتمال أو صافى الاستثمار فى عمليات أجنبية والتى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-39744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عرض المنشأة لمخاطر التغير فى القيمة العادلة أو التدفقات النقدية المستقبلية.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و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تم تحديدها على أنها بند تمت تغطية مخاطره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فعالية تغطية المخاطر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هى الجزء من مخاطر البند الذي تم تغطيته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dging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بنجاح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7440" indent="0" algn="just" rtl="1">
              <a:lnSpc>
                <a:spcPct val="80000"/>
              </a:lnSpc>
              <a:spcBef>
                <a:spcPts val="601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Arial"/>
              </a:rPr>
              <a:t>المشتقات الضمنية (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Embedded Derivatives</a:t>
            </a:r>
            <a:r>
              <a:rPr b="1" lang="ar-EG" sz="2400" spc="-1" strike="noStrike" u="sng">
                <a:solidFill>
                  <a:srgbClr val="ffff00"/>
                </a:solidFill>
                <a:uFillTx/>
                <a:latin typeface="Arial"/>
              </a:rPr>
              <a:t>)</a:t>
            </a:r>
            <a:r>
              <a:rPr b="1" lang="ar-EG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هى مكون من مكونات أداة مالية مركبة والتى تؤثر على قيمة الأداة . مثل حق تحويل السند لسهم فهذا الحق يرفع قيمة السن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95640" y="2565000"/>
            <a:ext cx="52560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1" lang="ar-EG" sz="3200" spc="-1" strike="noStrike">
                <a:solidFill>
                  <a:srgbClr val="ffff00"/>
                </a:solidFill>
                <a:latin typeface="Arial"/>
              </a:rPr>
              <a:t>المعالجة المحاسبية </a:t>
            </a:r>
            <a:br>
              <a:rPr sz="3200"/>
            </a:br>
            <a:r>
              <a:rPr b="1" lang="ar-SA" sz="3200" spc="-1" strike="noStrike">
                <a:solidFill>
                  <a:srgbClr val="ffff00"/>
                </a:solidFill>
                <a:latin typeface="Arial"/>
              </a:rPr>
              <a:t>الاعتراف والاستبعاد من الدفاتر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20:51:53Z</dcterms:created>
  <dc:creator>Eissa</dc:creator>
  <dc:description/>
  <dc:language>en-US</dc:language>
  <cp:lastModifiedBy>Eissa</cp:lastModifiedBy>
  <dcterms:modified xsi:type="dcterms:W3CDTF">2006-11-15T09:44:40Z</dcterms:modified>
  <cp:revision>32</cp:revision>
  <dc:subject/>
  <dc:title>معيار المحاسبة المصرى رقم (26) الأدوات المالية : " الاعتراف والقياس"</dc:title>
</cp:coreProperties>
</file>