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C1C1F-4929-42C8-BE53-51B30AFD3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52BE5-C051-48F7-9899-777E02FA4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9955D6-5E07-4122-A94B-7CB908D15B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85ED6-7DDA-4472-981B-39A0CBC34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022D972-219D-45E4-BC08-D59BC90ABE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317DE35-0E13-4ACB-942E-4D38BC6C50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83D6222-5926-43F0-BC0A-658C698592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91BDFA7-FE76-4636-AC50-70741AE92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526CBD1-7218-4691-9F38-03BF8C395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16F0FA-83CD-41BD-ACE6-4CD775B55B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292369-9C93-463A-88A3-6C7C07F5C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43D52-B6E6-4EAE-A471-0B5A10DEA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3C8B82A-EBF9-4499-959D-D3BAA34FF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2D832A-9487-4A07-8429-00641BE73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8EC7B23-7B61-478E-B95C-37808E70C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CF09C4-7762-464B-A589-BC0B66918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4DCA6E7-6C16-4CBF-9403-165D38C25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15597-A022-462A-9243-A87B500B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53D17-83CC-432C-B662-B011A87AD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AC125-6301-46FC-B51A-3056C7397D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7CD7-EA21-4830-8578-94DE28C21F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1A9B8-B549-417D-AF78-68F67E7CB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DFAB1-2BAE-4B6C-9724-5B48C9EA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A34C5-A916-4C49-9965-ACFD684C0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2760-68D2-45BF-A5D8-71F60B875044}"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F7F94-175A-44D5-BB70-4A25F3D1F1CC}"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4C7B5-9DCA-4256-926F-6086607A71F3}"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12A40-231E-4474-B05D-2408DE8AA6E4}"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7</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0</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أحداث التالية لتاريخ الميزاني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9BE718E6-91C2-4A34-B369-D057BB13AD29}" type="slidenum">
              <a:t>1</a:t>
            </a:fld>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2078640"/>
            <a:ext cx="5113440" cy="2043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تحقق و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23B57691-1520-4C99-9EDF-F84780065DD5}" type="slidenum">
              <a:t>2</a:t>
            </a:fld>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40428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
          <p:cNvSpPr/>
          <p:nvPr/>
        </p:nvSpPr>
        <p:spPr>
          <a:xfrm>
            <a:off x="971640" y="1847160"/>
            <a:ext cx="6553080" cy="18003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تى يجب على المنشأة أن تعدل قوائمها المالية بناءً على أحداث تالية لتاريخ الميزانية .</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8" name=""/>
          <p:cNvSpPr/>
          <p:nvPr/>
        </p:nvSpPr>
        <p:spPr>
          <a:xfrm>
            <a:off x="2193480" y="1484280"/>
            <a:ext cx="689688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  يهدف هذا المعيار إلى توضيح الاتى :-</a:t>
            </a:r>
            <a:endParaRPr b="0" lang="en-US" sz="2800" spc="-1" strike="noStrike">
              <a:solidFill>
                <a:srgbClr val="ffffff"/>
              </a:solidFill>
              <a:latin typeface="Arial"/>
            </a:endParaRPr>
          </a:p>
        </p:txBody>
      </p:sp>
      <p:sp>
        <p:nvSpPr>
          <p:cNvPr id="129" name=""/>
          <p:cNvSpPr/>
          <p:nvPr/>
        </p:nvSpPr>
        <p:spPr>
          <a:xfrm>
            <a:off x="826920" y="3068640"/>
            <a:ext cx="6697800" cy="1800360"/>
          </a:xfrm>
          <a:prstGeom prst="rect">
            <a:avLst/>
          </a:prstGeom>
          <a:noFill/>
          <a:ln w="0">
            <a:noFill/>
          </a:ln>
        </p:spPr>
        <p:style>
          <a:lnRef idx="0"/>
          <a:fillRef idx="0"/>
          <a:effectRef idx="0"/>
          <a:fontRef idx="minor"/>
        </p:style>
        <p:txBody>
          <a:bodyPr lIns="90000" rIns="90000" tIns="46800" bIns="46800" anchor="t">
            <a:spAutoFit/>
          </a:bodyPr>
          <a:p>
            <a:pPr marL="719280" indent="-7192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التى يجب أن توفرها المنشأة عن تاريخ اعتماد إصدار القوائم المالية وكذلك عن الأحداث التالية لتاريخ الميزانية.</a:t>
            </a:r>
            <a:endParaRPr b="0" lang="en-US" sz="2800" spc="-1" strike="noStrike">
              <a:solidFill>
                <a:srgbClr val="ffffff"/>
              </a:solidFill>
              <a:latin typeface="Arial"/>
            </a:endParaRPr>
          </a:p>
        </p:txBody>
      </p:sp>
      <p:sp>
        <p:nvSpPr>
          <p:cNvPr id="130" name=""/>
          <p:cNvSpPr/>
          <p:nvPr/>
        </p:nvSpPr>
        <p:spPr>
          <a:xfrm>
            <a:off x="611280" y="4653000"/>
            <a:ext cx="7561080" cy="1557000"/>
          </a:xfrm>
          <a:prstGeom prst="rect">
            <a:avLst/>
          </a:prstGeom>
          <a:noFill/>
          <a:ln w="0">
            <a:noFill/>
          </a:ln>
        </p:spPr>
        <p:style>
          <a:lnRef idx="0"/>
          <a:fillRef idx="0"/>
          <a:effectRef idx="0"/>
          <a:fontRef idx="minor"/>
        </p:style>
        <p:txBody>
          <a:bodyPr lIns="90000" rIns="90000" tIns="46800" bIns="46800" anchor="t">
            <a:spAutoFit/>
          </a:bodyPr>
          <a:p>
            <a:pPr marL="538200" indent="-538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ب</a:t>
            </a:r>
            <a:r>
              <a:rPr b="1" lang="ar-SA" sz="2400" spc="-1" strike="noStrike">
                <a:solidFill>
                  <a:srgbClr val="ffffff"/>
                </a:solidFill>
                <a:latin typeface="Arial"/>
              </a:rPr>
              <a:t>) </a:t>
            </a:r>
            <a:r>
              <a:rPr b="1" lang="ar-EG" sz="2400" spc="-1" strike="noStrike">
                <a:solidFill>
                  <a:srgbClr val="ffffff"/>
                </a:solidFill>
                <a:latin typeface="Arial"/>
              </a:rPr>
              <a:t>كما يتطلب المعيار ايضاً عدم قيام المنشأة بإعداد القوائم المالية على أساس الاسمرارية إذا كانت هناك أحداث تالية لتاريخ الميزانية تشير إلى أن فرض الاستمرارية ليس مناسب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E193EF3-9AD3-450E-A97B-95356E86AB1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64960" y="404640"/>
            <a:ext cx="75834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2</a:t>
            </a:r>
            <a:r>
              <a:rPr b="1" lang="ar-EG" sz="3200" spc="-1" strike="noStrike" u="sng">
                <a:solidFill>
                  <a:srgbClr val="ffff00"/>
                </a:solidFill>
                <a:uFillTx/>
                <a:latin typeface="Arial"/>
              </a:rPr>
              <a:t>- نطاق المعيار</a:t>
            </a:r>
            <a:endParaRPr b="0" lang="en-US" sz="3200" spc="-1" strike="noStrike">
              <a:solidFill>
                <a:srgbClr val="e3e3ff"/>
              </a:solidFill>
              <a:latin typeface="Arial"/>
            </a:endParaRPr>
          </a:p>
        </p:txBody>
      </p:sp>
      <p:sp>
        <p:nvSpPr>
          <p:cNvPr id="132" name=""/>
          <p:cNvSpPr/>
          <p:nvPr/>
        </p:nvSpPr>
        <p:spPr>
          <a:xfrm>
            <a:off x="611280" y="1486800"/>
            <a:ext cx="7991280" cy="22269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والإفصاح عن الأحداث التالية لتاريخ الميزانية،وهى</a:t>
            </a:r>
            <a:r>
              <a:rPr b="1" lang="ar-EG" sz="2800" spc="-1" strike="noStrike">
                <a:solidFill>
                  <a:srgbClr val="ffffff"/>
                </a:solidFill>
                <a:latin typeface="Arial"/>
              </a:rPr>
              <a:t> </a:t>
            </a:r>
            <a:r>
              <a:rPr b="1" lang="ar-SA" sz="2800" spc="-1" strike="noStrike">
                <a:solidFill>
                  <a:srgbClr val="ffffff"/>
                </a:solidFill>
                <a:latin typeface="Arial"/>
              </a:rPr>
              <a:t>الأحداث التى تقع بين تاريخ الميزانية وتاريخ اعتماد إصدار القوائم المالية سواء كانت تلك  الأحداث فى صالح المنشأة أو فى غير صالحها .</a:t>
            </a:r>
            <a:endParaRPr b="0" lang="en-US" sz="2800" spc="-1" strike="noStrike">
              <a:solidFill>
                <a:srgbClr val="ffffff"/>
              </a:solidFill>
              <a:latin typeface="Arial"/>
            </a:endParaRPr>
          </a:p>
        </p:txBody>
      </p:sp>
      <p:sp>
        <p:nvSpPr>
          <p:cNvPr id="133" name=""/>
          <p:cNvSpPr/>
          <p:nvPr/>
        </p:nvSpPr>
        <p:spPr>
          <a:xfrm>
            <a:off x="611280" y="3716280"/>
            <a:ext cx="79930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شركات بتقديم القوائم المالية للمساهمين لاعتمادها بعد أن  يكون  قد تم إصدار القوائم المالية و بهذا  فإن القوائم المالية تكون قد تم إصدارها فى تاريخ إصدارها من الإدارة وليس فى تاريخ اعتماد القوائم المالية من قبل المساهمين.</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30BA07F-D694-461E-82AC-6A32379E0726}" type="slidenum">
              <a:t>4</a:t>
            </a:fld>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932360" y="447480"/>
            <a:ext cx="3672000" cy="1068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3</a:t>
            </a:r>
            <a:r>
              <a:rPr b="1" lang="ar-SA" sz="3200" spc="-1" strike="noStrike" u="sng">
                <a:solidFill>
                  <a:srgbClr val="ffff00"/>
                </a:solidFill>
                <a:uFillTx/>
                <a:latin typeface="Arial"/>
              </a:rPr>
              <a:t>- التحقق والقياس</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35" name=""/>
          <p:cNvSpPr/>
          <p:nvPr/>
        </p:nvSpPr>
        <p:spPr>
          <a:xfrm>
            <a:off x="826920" y="1271160"/>
            <a:ext cx="7632720" cy="2226960"/>
          </a:xfrm>
          <a:prstGeom prst="rect">
            <a:avLst/>
          </a:prstGeom>
          <a:noFill/>
          <a:ln w="0">
            <a:noFill/>
          </a:ln>
        </p:spPr>
        <p:style>
          <a:lnRef idx="0"/>
          <a:fillRef idx="0"/>
          <a:effectRef idx="0"/>
          <a:fontRef idx="minor"/>
        </p:style>
        <p:txBody>
          <a:bodyPr lIns="90000" rIns="90000" tIns="46800" bIns="46800" anchor="ctr">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يمكن تحديد نوعين من الأحداث:-</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أ</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وفر أدلة إضافية عن حالات كانت قائمة فى تاريخ الميزانية و تتطلب تعديل فى القوائم المالية</a:t>
            </a:r>
            <a:r>
              <a:rPr b="1" lang="ar-SA" sz="2800" spc="-1" strike="noStrike">
                <a:solidFill>
                  <a:srgbClr val="ffffff"/>
                </a:solidFill>
                <a:latin typeface="Arial"/>
              </a:rPr>
              <a:t>.</a:t>
            </a:r>
            <a:endParaRPr b="0" lang="en-US" sz="2800" spc="-1" strike="noStrike">
              <a:solidFill>
                <a:srgbClr val="ffffff"/>
              </a:solidFill>
              <a:latin typeface="Arial"/>
            </a:endParaRPr>
          </a:p>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36" name=""/>
          <p:cNvSpPr/>
          <p:nvPr/>
        </p:nvSpPr>
        <p:spPr>
          <a:xfrm>
            <a:off x="755640" y="2997360"/>
            <a:ext cx="6985080" cy="39333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t>
            </a:r>
            <a:r>
              <a:rPr b="1" lang="hi-IN" sz="2800" spc="-1" strike="noStrike" u="sng">
                <a:solidFill>
                  <a:srgbClr val="ffff00"/>
                </a:solidFill>
                <a:uFillTx/>
                <a:latin typeface="Arial"/>
              </a:rPr>
              <a:t>مثال) :</a:t>
            </a:r>
            <a:r>
              <a:rPr b="1" lang="en-US" sz="2800" spc="-1" strike="noStrike">
                <a:solidFill>
                  <a:srgbClr val="ffffff"/>
                </a:solidFill>
                <a:latin typeface="Arial"/>
              </a:rPr>
              <a:t>  صدور حكم قضائى بعد تاريخ الميزانية يكشف عن وجود التزام على المنشأة وكان هذا الالتزام قائماً بالفعل فى تاريخ الميزانية وعليه فإنه يجب على المنشأة تعديل المخصصات المثبتة لمقابلة هذا الالتزام أو تكوين مخصص جديد لمقابلته  ، وعدم  الاكتفاء بالإفصاح فقط عن هذا الالتزام المحتمل نظراً لأن الحكم القضائى يعتبر دليلاً إضافياً.</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781E0BCC-E74F-4A33-BAEE-135C2131E743}" type="slidenum">
              <a:t>5</a:t>
            </a:fld>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11280" y="2426400"/>
            <a:ext cx="7127640" cy="35067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a:t>
            </a:r>
            <a:r>
              <a:rPr b="1" lang="ar-SA" sz="2800" spc="-1" strike="noStrike" u="sng">
                <a:solidFill>
                  <a:srgbClr val="ffff00"/>
                </a:solidFill>
                <a:uFillTx/>
                <a:latin typeface="Arial"/>
              </a:rPr>
              <a:t>مثال) :</a:t>
            </a:r>
            <a:r>
              <a:rPr b="1" lang="ar-SA" sz="2800" spc="-1" strike="noStrike">
                <a:solidFill>
                  <a:srgbClr val="ffffff"/>
                </a:solidFill>
                <a:latin typeface="Arial"/>
              </a:rPr>
              <a:t> الانخفاض فى القيمة السوقية لبعض الاستثمارات بعد تاريخ الميزانية وقبل تاريخ إصدار القوائم المالية . فالانخفاض فى القيمة السوقية هنا لا يتعلق بحالة الاستثمار فى تاريخ الميزانية ولكن يعكس ظروف حدثت خلال الفترة اللاحقة . وعلى ذلك لا تعدل المنشأة المبالغ المدرجة با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38" name=""/>
          <p:cNvSpPr/>
          <p:nvPr/>
        </p:nvSpPr>
        <p:spPr>
          <a:xfrm>
            <a:off x="684360" y="1052640"/>
            <a:ext cx="7775280" cy="1800360"/>
          </a:xfrm>
          <a:prstGeom prst="rect">
            <a:avLst/>
          </a:prstGeom>
          <a:noFill/>
          <a:ln w="0">
            <a:noFill/>
          </a:ln>
        </p:spPr>
        <p:style>
          <a:lnRef idx="0"/>
          <a:fillRef idx="0"/>
          <a:effectRef idx="0"/>
          <a:fontRef idx="minor"/>
        </p:style>
        <p:txBody>
          <a:bodyPr lIns="90000" rIns="90000" tIns="46800" bIns="46800" anchor="t">
            <a:spAutoFit/>
          </a:bodyPr>
          <a:p>
            <a:pPr marL="630360" indent="-63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ب</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u="sng">
                <a:solidFill>
                  <a:srgbClr val="ffffff"/>
                </a:solidFill>
                <a:uFillTx/>
                <a:latin typeface="Arial"/>
              </a:rPr>
              <a:t>أحداث تشير إلى حالات نشأت بعد تاريخ الميزانية ولا تتطلب تعديل فى القوائم المالية ، وقد تتطلب الإفصاح عنها فى القوائم المالية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F98AF4D8-C521-4AB9-9322-6F6F550D138B}" type="slidenum">
              <a:t>6</a:t>
            </a:fld>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611280" y="1994760"/>
            <a:ext cx="7559640" cy="308016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SA" sz="2800" spc="-1" strike="noStrike">
                <a:solidFill>
                  <a:srgbClr val="ffffff"/>
                </a:solidFill>
                <a:latin typeface="Arial"/>
              </a:rPr>
              <a:t>-  إذا أعلنت المنشأة عن توزيعات لحائزى أدوات الملكية بعد تاريخ الميزانية</a:t>
            </a:r>
            <a:r>
              <a:rPr b="1" lang="ar-EG" sz="2800" spc="-1" strike="noStrike">
                <a:solidFill>
                  <a:srgbClr val="ffffff"/>
                </a:solidFill>
                <a:latin typeface="Arial"/>
              </a:rPr>
              <a:t> </a:t>
            </a:r>
            <a:r>
              <a:rPr b="1" lang="ar-SA" sz="2800" spc="-1" strike="noStrike">
                <a:solidFill>
                  <a:srgbClr val="ffffff"/>
                </a:solidFill>
                <a:latin typeface="Arial"/>
              </a:rPr>
              <a:t>فإنه لا يجوز للمنشأة أن تدرج هذه التوزيعات كالتزام فى تاريخ الميزانية لأنها لا تفى بشرط التعهد الحالى</a:t>
            </a:r>
            <a:r>
              <a:rPr b="1" lang="ar-EG" sz="2800" spc="-1" strike="noStrike">
                <a:solidFill>
                  <a:srgbClr val="ffffff"/>
                </a:solidFill>
                <a:latin typeface="Arial"/>
              </a:rPr>
              <a:t> </a:t>
            </a:r>
            <a:r>
              <a:rPr b="1" lang="ar-SA" sz="2800" spc="-1" strike="noStrike">
                <a:solidFill>
                  <a:srgbClr val="ffffff"/>
                </a:solidFill>
                <a:latin typeface="Arial"/>
              </a:rPr>
              <a:t>. مثل هذه التوزيعات يتم الإفصاح عنها فى الإيضاحات المتممة للقوائم المالي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5580000" y="1484280"/>
            <a:ext cx="279576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4</a:t>
            </a:r>
            <a:r>
              <a:rPr b="1" lang="ar-SA" sz="3200" spc="-1" strike="noStrike" u="sng">
                <a:solidFill>
                  <a:srgbClr val="ffff00"/>
                </a:solidFill>
                <a:uFillTx/>
                <a:latin typeface="Arial"/>
              </a:rPr>
              <a:t>- الافصاح</a:t>
            </a: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A066620F-6F0D-4BB1-9B88-162692C084F0}" type="slidenum">
              <a:t>7</a:t>
            </a:fld>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770400"/>
            <a:ext cx="7848720" cy="265356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SA" sz="2800" spc="-1" strike="noStrike">
                <a:solidFill>
                  <a:srgbClr val="ffffff"/>
                </a:solidFill>
                <a:latin typeface="Arial"/>
              </a:rPr>
              <a:t>-  يجب على المنشأة أن تفصح عن تاريخ إصدار القوائم المالية والسلطة التى قامت باعتمادها . وإذا كان لمالكى المنشأة أو الآخرين الحق فى تعديل القوائم المالية بعد إصدارها فيجب على المنشأة أن تفصح عن هذه الحقيقة.</a:t>
            </a:r>
            <a:endParaRPr b="0" lang="en-US" sz="2800" spc="-1" strike="noStrike">
              <a:solidFill>
                <a:srgbClr val="ffffff"/>
              </a:solidFill>
              <a:latin typeface="Arial"/>
            </a:endParaRPr>
          </a:p>
        </p:txBody>
      </p:sp>
      <p:sp>
        <p:nvSpPr>
          <p:cNvPr id="142" name=""/>
          <p:cNvSpPr/>
          <p:nvPr/>
        </p:nvSpPr>
        <p:spPr>
          <a:xfrm>
            <a:off x="826920" y="2715120"/>
            <a:ext cx="7561440" cy="265356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SA" sz="2800" spc="-1" strike="noStrike">
                <a:solidFill>
                  <a:srgbClr val="ffffff"/>
                </a:solidFill>
                <a:latin typeface="Arial"/>
              </a:rPr>
              <a:t>- إذا حصلت المنشأة على معلومات بعد تاريخ الميزانية عن حالات كانت قائمة فى تاريخ الميزانية ، فيجب على المنشأة أن تقوم بتحديث الإفصاحات التى تتعلق بتلك الأحداث فى ضوء المعلومات الجديدة.</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79AC72D6-8187-4821-87B9-65672A8DEB69}" type="slidenum">
              <a:t>8</a:t>
            </a:fld>
          </a:p>
        </p:txBody>
      </p:sp>
    </p:spTree>
  </p:cSld>
  <p:transition>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755640" y="986400"/>
            <a:ext cx="7777080" cy="30801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71604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د - </a:t>
            </a:r>
            <a:r>
              <a:rPr b="1" lang="ar-SA" sz="2800" spc="-1" strike="noStrike">
                <a:solidFill>
                  <a:srgbClr val="ffffff"/>
                </a:solidFill>
                <a:latin typeface="Arial"/>
              </a:rPr>
              <a:t>إذا كانت الأحداث التالية لتاريخ الميزانية والتى لا تستوجب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تعديل القوائم المالية جوهرية ويؤثر عدم الإفصاح عنها على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قدرة مستخدم القوائم المالية على التقييم الصحيح وإتخ</a:t>
            </a:r>
            <a:r>
              <a:rPr b="1" lang="ar-EG" sz="2800" spc="-1" strike="noStrike">
                <a:solidFill>
                  <a:srgbClr val="ffffff"/>
                </a:solidFill>
                <a:latin typeface="Arial"/>
              </a:rPr>
              <a:t>ــ</a:t>
            </a:r>
            <a:r>
              <a:rPr b="1" lang="ar-SA" sz="2800" spc="-1" strike="noStrike">
                <a:solidFill>
                  <a:srgbClr val="ffffff"/>
                </a:solidFill>
                <a:latin typeface="Arial"/>
              </a:rPr>
              <a:t>اذ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قرارات السليمة بناء على هذه القوائم المالية ، فيجب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على المنشأة أن تفصح عن:-</a:t>
            </a:r>
            <a:endParaRPr b="0" lang="en-US" sz="2800" spc="-1" strike="noStrike">
              <a:solidFill>
                <a:srgbClr val="ffffff"/>
              </a:solidFill>
              <a:latin typeface="Arial"/>
            </a:endParaRPr>
          </a:p>
        </p:txBody>
      </p:sp>
      <p:sp>
        <p:nvSpPr>
          <p:cNvPr id="144" name=""/>
          <p:cNvSpPr/>
          <p:nvPr/>
        </p:nvSpPr>
        <p:spPr>
          <a:xfrm>
            <a:off x="755640" y="3860640"/>
            <a:ext cx="7848720" cy="1373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طبيعة الحدث.</a:t>
            </a:r>
            <a:endParaRPr b="0" lang="en-US" sz="28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تقدير الأثر المالى للحدث أو ذكر عدم إمكان تقديره</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2" name="PlaceHolder 1"/>
          <p:cNvSpPr>
            <a:spLocks noGrp="1"/>
          </p:cNvSpPr>
          <p:nvPr>
            <p:ph type="sldNum" idx="3"/>
          </p:nvPr>
        </p:nvSpPr>
        <p:spPr/>
        <p:txBody>
          <a:bodyPr/>
          <a:p>
            <a:fld id="{3A888982-0C8E-4549-8BDE-7B04092DCBCD}" type="slidenum">
              <a:t>9</a:t>
            </a:fld>
          </a:p>
        </p:txBody>
      </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02:47Z</dcterms:created>
  <dc:creator>h.awadain</dc:creator>
  <dc:description/>
  <dc:language>en-US</dc:language>
  <cp:lastModifiedBy>k.refaat</cp:lastModifiedBy>
  <dcterms:modified xsi:type="dcterms:W3CDTF">2006-11-08T07:02:59Z</dcterms:modified>
  <cp:revision>1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