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56F-9E31-4AD1-9096-9F8AAFA1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68CA-D9CF-466B-9197-9FA92509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D50-7331-4D8C-B4C3-83026B5E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C79-04C7-4612-B811-54E5C34D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D35B-4023-49F1-A41C-F67DE05C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764-7BF6-421E-8C6A-FD58A6C3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261-0545-418A-ABA7-C7BA9B2E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4F85-A740-4884-937E-B84E61DA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A83-35BD-4FC9-9566-153E65AD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6A6-5637-4B7F-B1D7-8126DE98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B0A-EA7F-40A4-B25A-FBCF93F9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FC7F-EA26-4CA8-8308-06CFA482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B3D6-0791-4F8E-9ECD-C03C40A2B57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860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شائعة الاستخد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خام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534-2F41-47C5-8E95-A0A4B20C7720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73920" y="1916280"/>
            <a:ext cx="358920" cy="1728720"/>
          </a:xfrm>
          <a:prstGeom prst="upDownArrow">
            <a:avLst>
              <a:gd name="adj1" fmla="val 50000"/>
              <a:gd name="adj2" fmla="val 95883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27664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3679920"/>
            <a:ext cx="309744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3139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– توزيعات الأسهم الممتا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توسط المرجح لعدد الاسهم الع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3822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74880" y="4076640"/>
            <a:ext cx="338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92564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B67-D7DE-48F2-816B-42AEB6A4BB4D}" type="slidenum">
              <a:t>10</a:t>
            </a:fld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صافي الربح إلى الفوائ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قبل الفوائ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وائد المستحق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مجموع الأصو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65EA-4B57-4426-93A9-6004B3DBB2FA}" type="slidenum">
              <a:t>11</a:t>
            </a:fld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6920" y="4832280"/>
            <a:ext cx="331308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خصوم طويلة الأجل إلى    الخصوم طويلة الأجل مضافاً إليها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طويلة الأج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خصوم طويلة الأجل + حقوق الملك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F9F6-C0C7-4EF8-8B36-305FCA569F48}" type="slidenum">
              <a:t>12</a:t>
            </a:fld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84280" y="1838520"/>
            <a:ext cx="17762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38840" y="1838520"/>
            <a:ext cx="17456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 fontScale="92000"/>
          </a:bodyPr>
          <a:p>
            <a:pPr marL="315360" indent="-3153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 (سداد الالتزامات قصير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3260880"/>
            <a:ext cx="1847880" cy="314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257640"/>
            <a:ext cx="2016000" cy="312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المبيع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إجمالي الأ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360" y="1793880"/>
            <a:ext cx="1764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الوفاء بالديون (طويل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68840" y="3260880"/>
            <a:ext cx="1847880" cy="314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الى مجموع الا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إ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فائد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اعباء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92280"/>
            <a:ext cx="784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رئي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708280"/>
            <a:ext cx="142920" cy="433440"/>
          </a:xfrm>
          <a:prstGeom prst="downArrow">
            <a:avLst>
              <a:gd name="adj1" fmla="val 50000"/>
              <a:gd name="adj2" fmla="val 758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180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7972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11160"/>
            <a:ext cx="176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7813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79760" y="3259080"/>
            <a:ext cx="1847880" cy="3146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453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8252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861-40E1-4F56-9CF7-9FBAAB3FAA94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02000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47280" y="177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-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262160" y="515772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01C-A934-48C4-B0E1-2D2F09564755}" type="slidenum">
              <a:t>3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دية في الصندوق والبنوك + استثمارات في اوراق ما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06520" y="198900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– 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137-77C9-4CA2-A2FD-23BF9F6814CA}" type="slidenum">
              <a:t>4</a:t>
            </a:fld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9080" y="1447920"/>
            <a:ext cx="273672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صافي المبيعات الآج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065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حص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7744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C3F-5006-4129-BB80-35DDB52951E2}" type="slidenum">
              <a:t>5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1447920"/>
            <a:ext cx="273708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07920"/>
            <a:ext cx="403884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كلفة البضاعة المبا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86920" y="191628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4832280"/>
            <a:ext cx="280836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خز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292640"/>
            <a:ext cx="403884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108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CDF5-A526-4E81-9C5E-7F412751C3C4}" type="slidenum">
              <a:t>6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متدا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589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رأس المال العا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58920" y="5183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4741-CF61-4D80-A0E6-31EEC7A60E0B}" type="slidenum">
              <a:t>7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إجمالي الأصول (إجمالي الاستثما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5D9-1AA8-4AC1-BD73-578C083236D1}" type="slidenum">
              <a:t>8</a:t>
            </a:fld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من النشاط الرئيس إلى صافي المبيع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دخل من العمليات الرئيس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حقوق المساهم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747-F0F0-48D8-B817-753076D1647B}" type="slidenum">
              <a:t>9</a:t>
            </a:fld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8:19:27Z</dcterms:created>
  <dc:creator>**</dc:creator>
  <dc:description/>
  <dc:language>en-US</dc:language>
  <cp:lastModifiedBy>****</cp:lastModifiedBy>
  <dcterms:modified xsi:type="dcterms:W3CDTF">2003-12-07T23:54:56Z</dcterms:modified>
  <cp:revision>23</cp:revision>
  <dc:subject/>
  <dc:title>المؤشرات المالية</dc:title>
</cp:coreProperties>
</file>