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096E-7D6F-4B13-9270-3BDA41EE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3D1B-5424-4B0D-A263-3413D95B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C09E-3481-4798-9877-AFBC48F11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039D-C2AC-478E-B951-9753EBD06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B8DF-2AFA-483F-8DD0-32844AA9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53C1-303B-4E17-980D-1F3A55A8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B6C1-4E06-44E2-AD53-19FC17A6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D0F8-70DF-4FD5-B7DD-7AF60DB6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491F-25BE-4B54-A4B0-9ECED948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609D-6942-46D8-BDFD-6F17039D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492B-3170-4EC5-89BA-A3B96A12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F997-F01F-4265-8283-39D176F8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11A7-8014-4608-BF1D-634CCFBF238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ثام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حليل التقارير المالية في ظل التضخ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0F4F-6ECD-432C-914F-8A13570A1854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67080" y="1477800"/>
            <a:ext cx="7660800" cy="103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و التضخم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70320" y="3191040"/>
            <a:ext cx="7650720" cy="21927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زيادة كمية النقود المتوفرة على كمية السلع والخدمات المعروض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زيادة العامة في الاسع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نخفاض القوة الشرائية للنقو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598F-8053-482D-B070-3C93471CBC6F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ق تعديل القوائم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002040"/>
            <a:ext cx="4114800" cy="8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4678200"/>
            <a:ext cx="42670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التكلفة الجار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72DA-2DFD-452E-B1EF-CDBA520EE9D3}" type="slidenum">
              <a:t>3</a:t>
            </a:fld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1346040"/>
            <a:ext cx="7772760" cy="908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917800"/>
            <a:ext cx="8015400" cy="33195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عديل التكلفة التاريخية للاصول والالتزا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لى أساس وحدة نقدية ذات قوة شرائية متساوية مرتبطة بالتغي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ي المستوى العام للاسع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بناءً عليه يتم تصنيف محتويات قائمة المركز المالي إلى نوع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ن الحسابات: الحسابات النقدية والحسابات غير النق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6416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7FD9-9063-4359-BD82-3DA40840C97F}" type="slidenum">
              <a:t>4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01160" y="1714680"/>
            <a:ext cx="360360" cy="37447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825120"/>
            <a:ext cx="8020080" cy="94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2205000"/>
            <a:ext cx="6933960" cy="1681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حسابات النقدية مثل المدينون واوراق القبض والمصروفات المقدمة والدائنون واوراق الدفع والمصروفات المستحق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PT Bold Heading"/>
              </a:rPr>
              <a:t>لا تعدل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4365720"/>
            <a:ext cx="7010280" cy="180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حسابات غير النقدية مثل المخزون والمباني وحقوق الملكية تعدل على النحو التالي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كلفة التاريخية (الرقم القياسي للاسعار الآن / الرقم القياسي للاسعار وقت الشراء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7596360" y="2852280"/>
            <a:ext cx="792000" cy="360360"/>
          </a:xfrm>
          <a:custGeom>
            <a:avLst/>
            <a:gdLst>
              <a:gd name="textAreaLeft" fmla="*/ 0 w 792000"/>
              <a:gd name="textAreaRight" fmla="*/ 792360 w 79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7740720" y="5113080"/>
            <a:ext cx="792000" cy="360360"/>
          </a:xfrm>
          <a:custGeom>
            <a:avLst/>
            <a:gdLst>
              <a:gd name="textAreaLeft" fmla="*/ 0 w 792000"/>
              <a:gd name="textAreaRight" fmla="*/ 792360 w 79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6416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6D1A-3F58-4E7E-9ACA-0E32EE20B7CF}" type="slidenum">
              <a:t>5</a:t>
            </a:fld>
          </a:p>
        </p:txBody>
      </p:sp>
    </p:spTree>
  </p:cSld>
  <p:transition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1203120"/>
            <a:ext cx="7772760" cy="907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التكلفة الجا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4960" y="2917800"/>
            <a:ext cx="7512120" cy="331956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عدل التكلفة التاريخية على أساس تكلفة الاحلال الجارية في السو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لأصول المماثلة في العمر والكفاءة والطاقة الإنتاج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0160-5A18-4760-A3CD-AF6F60378492}" type="slidenum">
              <a:t>6</a:t>
            </a:fld>
          </a:p>
        </p:txBody>
      </p:sp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1:13:06Z</dcterms:modified>
  <cp:revision>18</cp:revision>
  <dc:subject/>
  <dc:title>التحليل المالي والائتماني</dc:title>
</cp:coreProperties>
</file>