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889C-9A72-40A7-BC28-A130D8F8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D7EC-482C-48EE-883E-8C7DE45A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4890-A232-470E-A325-7F40A74A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9838-5221-47BB-82B4-ED84D065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862F-7A4E-41AF-95C7-33CE34EB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2A79-8FFA-4554-BC74-1186128E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D49F-C18B-48D7-ABCE-3CD719FA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891E-22C3-42E3-9D04-F47CCB56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98D5-31D4-4717-A285-BF13AE2E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7A39-487B-4817-9138-4B41D9F9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2472-BCE6-437D-904F-D478AB3E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1842-A4F2-4EDB-82A1-2D39A488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1754-AA5D-40FB-9B5C-AA7C59E9698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752480"/>
            <a:ext cx="6400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ثال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تطوير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718D-7507-4A60-AF12-1351B75D0E76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466640"/>
            <a:ext cx="815328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عن ل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3295800"/>
            <a:ext cx="792504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معلومات عن العاملين وأعدادهم وأعمارهم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17E8-D771-434B-A798-FF6D92FF6AC2}" type="slidenum">
              <a:t>10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1537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عن الموارد البش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36708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معلومات مالية عن تكلفة اختيار وتعيين وتدريب ا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A771-BE33-4876-B955-901F0D7D866F}" type="slidenum">
              <a:t>11</a:t>
            </a:fld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60920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اجتم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3438360"/>
            <a:ext cx="792504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بيان كل من نفقات وعوائد المشروعات الاجتماعية وحماية البيئ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C013-CA07-40F5-BD2E-A45B7A37C91B}" type="slidenum">
              <a:t>12</a:t>
            </a:fld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456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بالقيمة المضا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438360"/>
            <a:ext cx="784872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بيان مدى مساهمة كل عامل من عوامل الانتاج في الدخل المحق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6237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A6FF-CA34-40E9-AF61-E8006218CD53}" type="slidenum">
              <a:t>13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85160" y="2242440"/>
            <a:ext cx="7488000" cy="3897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طورت التقارير المالية من حيث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كمية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نوع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طريقة عرض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الحد الادنى الضروري من المعلومات التي يجب الإفص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   عن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765000"/>
            <a:ext cx="7705440" cy="1079640"/>
          </a:xfrm>
          <a:prstGeom prst="bevel">
            <a:avLst>
              <a:gd name="adj" fmla="val 264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طور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63E2-1773-4033-A5F3-C30C944FCCFF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92468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ماذا ظهرت الدعوة إلى تطوير التقارير المالية؟؟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3352320"/>
            <a:ext cx="7848360" cy="18766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عدم وفاء التقارير المالية بشكلها الحالي باحتياجات المستفيدين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3A4B-A2FC-430A-9C7D-A1312DCCA9A0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32040"/>
            <a:ext cx="7772400" cy="76824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50000">
                <a:srgbClr val="ffffff"/>
              </a:gs>
              <a:gs pos="100000">
                <a:srgbClr val="c5f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ي مظاهر هذا التطور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3040" y="2000160"/>
            <a:ext cx="7772400" cy="4172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قطاع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متعددة الأغراض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دورية (الفترية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مستقبل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موجز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للعامل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عن الموارد البشر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حاسبة الاجتماع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بالقيمة المضاف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E45E-1B74-42D7-91D7-B189E48B672B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37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قط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3367080"/>
            <a:ext cx="822960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الافصاح حسب الانتاج أو المناطق الجغراف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CF5A-CF2C-42AD-9185-8DB1F87E27A5}" type="slidenum">
              <a:t>5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8205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متعددة الاغرا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438360"/>
            <a:ext cx="800100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عدة طرق مثل تكلفة الاحلال أو الجا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3C87-74AB-49E8-9860-2C6ADD859C3C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37920"/>
            <a:ext cx="784872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دورية (الفتري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36708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فترات قصيرة ربع سنوية مثل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7602-BF1D-4D2B-84DE-858FEFE27C6E}" type="slidenum">
              <a:t>7</a:t>
            </a:fld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1537920"/>
            <a:ext cx="7924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مستقبل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367080"/>
            <a:ext cx="815364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وائم معتمدة على تنبؤات مستقب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23A7-B5B1-45EB-A75A-1C3F59E05954}" type="slidenum">
              <a:t>8</a:t>
            </a:fld>
          </a:p>
        </p:txBody>
      </p:sp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7924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موجز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7180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  <a:cs typeface="PT Bold Heading"/>
              </a:rPr>
              <a:t>المختصر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8EEF-3AF3-4BF7-B3CA-122CD83ABB15}" type="slidenum">
              <a:t>9</a:t>
            </a:fld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7T21:54:19Z</dcterms:modified>
  <cp:revision>28</cp:revision>
  <dc:subject/>
  <dc:title>التحليل المالي والائتماني</dc:title>
</cp:coreProperties>
</file>