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F70F-7A44-426B-ABD3-EDE08B049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39A0-3756-4915-A309-46E13D6A4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5-</a:t>
            </a:r>
            <a:fld id="{B9B2A937-67F2-43BF-B5F1-7212D143392D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81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5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 Allocation: Joint Products and Byproduc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in Products and Byprodu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8440" y="1323720"/>
            <a:ext cx="8450280" cy="47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 products are products which constitute the major portion of the total sales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products are products with low sales values compared to the main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rap are outputs with minimal sales valu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se classifications can change over time especially when market prices change dramatically from year to y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allocating joint costs to byproducts ei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at the time production is complet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at the time of sa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9 - 58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5257800"/>
            <a:ext cx="21337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4724280"/>
            <a:ext cx="243828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int Products in Joint Process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216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int costs are costs which yield multiple products simultaneous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lit-off point is the juncture in the process when separate identifiable products emer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ble costs are costs incurred beyond the split-off point and are assignable to separate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4753080"/>
            <a:ext cx="1218960" cy="961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4419720"/>
            <a:ext cx="15238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A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4419720"/>
            <a:ext cx="152424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A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4267080"/>
            <a:ext cx="15238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parable Costs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5867280"/>
            <a:ext cx="243828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5562720"/>
            <a:ext cx="15238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B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38880" y="5562720"/>
            <a:ext cx="152424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B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5410080"/>
            <a:ext cx="15238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parable Costs 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86000" y="4724280"/>
            <a:ext cx="91440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5257800"/>
            <a:ext cx="91440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676520" y="3762360"/>
            <a:ext cx="1218960" cy="1419120"/>
            <a:chOff x="1676520" y="3762360"/>
            <a:chExt cx="1218960" cy="1419120"/>
          </a:xfrm>
        </p:grpSpPr>
        <p:sp>
          <p:nvSpPr>
            <p:cNvPr id="64" name=""/>
            <p:cNvSpPr/>
            <p:nvPr/>
          </p:nvSpPr>
          <p:spPr>
            <a:xfrm>
              <a:off x="1676520" y="3762360"/>
              <a:ext cx="12189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plit-off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86000" y="4648320"/>
              <a:ext cx="0" cy="5331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67- 56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76520" y="5486400"/>
            <a:ext cx="54864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int Products, Byproducts and Scrap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int products have a relatively high sales value and are not separately identifiable as individual products until the split-off poi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 product is the one with the highest sales value resulting from a process yielding two or more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products have a low sales value relative to sales value of the main or joint products (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rap products have a minimal (often zero) sales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42670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 Produ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oint Produ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4572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yproduc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5638680"/>
            <a:ext cx="1524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igh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5638680"/>
            <a:ext cx="152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ow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67 - 56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5867280"/>
            <a:ext cx="2286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alu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7162920" y="5181120"/>
            <a:ext cx="0" cy="3049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676520" y="5181120"/>
            <a:ext cx="0" cy="3049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y Allocate Joint Cost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to products for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y costing and cost of goods sold calcul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reimbursement under contra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profitability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surance settlement comput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ate regulation situ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56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04920" y="4191120"/>
            <a:ext cx="8297640" cy="2028600"/>
            <a:chOff x="304920" y="4191120"/>
            <a:chExt cx="8297640" cy="2028600"/>
          </a:xfrm>
        </p:grpSpPr>
        <p:sp>
          <p:nvSpPr>
            <p:cNvPr id="82" name=""/>
            <p:cNvSpPr/>
            <p:nvPr/>
          </p:nvSpPr>
          <p:spPr>
            <a:xfrm>
              <a:off x="4343400" y="4800600"/>
              <a:ext cx="3733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920" y="4191120"/>
              <a:ext cx="8297640" cy="20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249"/>
                </a:spcBef>
                <a:buClr>
                  <a:srgbClr val="fafd00"/>
                </a:buClr>
                <a:buFont typeface="Arial"/>
                <a:buChar char="•"/>
                <a:tabLst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Crea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Ski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Total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Sales value at split-off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3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5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Weighting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40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60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Joint costs allocated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16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24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0600" y="5715000"/>
              <a:ext cx="609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95880" y="5715000"/>
              <a:ext cx="6098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467480" y="5715000"/>
              <a:ext cx="6098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 Value at Splitoff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2971800" cy="28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dec" pos="4964040"/>
                <a:tab algn="dec" pos="629280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to products based on their relative value at the split-off poi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0 - 57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2838600"/>
            <a:ext cx="21337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2333520"/>
            <a:ext cx="1371600" cy="962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2000160"/>
            <a:ext cx="19047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$2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3143160"/>
            <a:ext cx="19047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$3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15000" y="2305080"/>
            <a:ext cx="91440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2838600"/>
            <a:ext cx="91440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371600"/>
            <a:ext cx="121896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2228760"/>
            <a:ext cx="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Measure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2895480" cy="279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dec" pos="4964040"/>
                <a:tab algn="dec" pos="629280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to products based on their relative proportions at the split-off poi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1 - 57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294336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2409840"/>
            <a:ext cx="1371600" cy="961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72200" y="2076480"/>
            <a:ext cx="243828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25 uni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3219480"/>
            <a:ext cx="243828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75 uni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410080" y="2409840"/>
            <a:ext cx="68580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2943360"/>
            <a:ext cx="685800" cy="5331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1143000"/>
            <a:ext cx="12193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233352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12840" y="4419720"/>
            <a:ext cx="8297640" cy="1752480"/>
            <a:chOff x="312840" y="4419720"/>
            <a:chExt cx="8297640" cy="1752480"/>
          </a:xfrm>
        </p:grpSpPr>
        <p:sp>
          <p:nvSpPr>
            <p:cNvPr id="110" name=""/>
            <p:cNvSpPr/>
            <p:nvPr/>
          </p:nvSpPr>
          <p:spPr>
            <a:xfrm>
              <a:off x="312840" y="4419720"/>
              <a:ext cx="829764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Crea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Ski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Total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Physical measure 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75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1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Weighting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25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75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Joint costs allocated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1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3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43400" y="4876920"/>
              <a:ext cx="3733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20120" y="57150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48520" y="57150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76920" y="57150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28240" y="11426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r" pos="5253120"/>
                <a:tab algn="r" pos="6465960"/>
                <a:tab algn="r" pos="77072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llocate joint costs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o products based on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heir  estimated final selling prices less separable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cessing cos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r" pos="5253120"/>
                <a:tab algn="r" pos="6465960"/>
                <a:tab algn="r" pos="770724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259092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358128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t Realizable Value (NRV)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3 - 57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3124080"/>
            <a:ext cx="20574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2714760"/>
            <a:ext cx="1371600" cy="942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230508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362320" y="2590560"/>
            <a:ext cx="380880" cy="5331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124080"/>
            <a:ext cx="380880" cy="4860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3686040"/>
            <a:ext cx="1218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320040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327672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2286000"/>
            <a:ext cx="228600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ter $5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77120" y="3124080"/>
            <a:ext cx="2286000" cy="838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dens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lk  $1,1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2133720"/>
            <a:ext cx="16761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3124080"/>
            <a:ext cx="167616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28600" y="4191120"/>
            <a:ext cx="8458200" cy="2133360"/>
            <a:chOff x="228600" y="4191120"/>
            <a:chExt cx="8458200" cy="2133360"/>
          </a:xfrm>
        </p:grpSpPr>
        <p:sp>
          <p:nvSpPr>
            <p:cNvPr id="133" name=""/>
            <p:cNvSpPr/>
            <p:nvPr/>
          </p:nvSpPr>
          <p:spPr>
            <a:xfrm>
              <a:off x="228600" y="4191120"/>
              <a:ext cx="845820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5000"/>
            </a:bodyPr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ream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kim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Total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Final sales valu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5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,1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,6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eparable processing costs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8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52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8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Net realizable valu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2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58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8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Weighting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7.5%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72.5%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Joint cost allocation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1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9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43400" y="4572000"/>
              <a:ext cx="3733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3800" y="52578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24480" y="52578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52578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2209680"/>
            <a:ext cx="8534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t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dens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lk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ot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otal final sales valu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6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oint and separable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5%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l sales valu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1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6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 @ 25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2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27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mputed total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7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2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parable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28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52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8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llocated joint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   9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  30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ant Gross Margin % NRV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88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so that the gross margin % for each product is the sa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4 - 57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971800"/>
            <a:ext cx="39625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50292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29400" y="50292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5029200"/>
            <a:ext cx="4572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57150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57150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001000" y="5715000"/>
            <a:ext cx="4572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924680" y="3657600"/>
            <a:ext cx="5335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1457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rrelevance of Joint Cos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145720" cy="88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considering whether to sell a product at the split-off point or process further, ignore join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274320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38480" y="373392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3352680"/>
            <a:ext cx="20574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2867040"/>
            <a:ext cx="1371600" cy="942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245736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362320" y="2743200"/>
            <a:ext cx="380880" cy="58104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3324240"/>
            <a:ext cx="380880" cy="48564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2057400"/>
            <a:ext cx="12193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2133360" y="2819520"/>
            <a:ext cx="152280" cy="45720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19520" y="342900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77120" y="2438280"/>
            <a:ext cx="228600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ter $5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3276720"/>
            <a:ext cx="2286000" cy="838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dens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lk  $1,1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3276720"/>
            <a:ext cx="16761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2209680"/>
            <a:ext cx="167616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8 - 57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80880" y="4648320"/>
            <a:ext cx="8305920" cy="1495440"/>
            <a:chOff x="380880" y="4648320"/>
            <a:chExt cx="8305920" cy="1495440"/>
          </a:xfrm>
        </p:grpSpPr>
        <p:sp>
          <p:nvSpPr>
            <p:cNvPr id="168" name=""/>
            <p:cNvSpPr/>
            <p:nvPr/>
          </p:nvSpPr>
          <p:spPr>
            <a:xfrm>
              <a:off x="380880" y="4648320"/>
              <a:ext cx="83059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0000"/>
            </a:bodyPr>
            <a:p>
              <a:pPr marL="308520" indent="-308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ctr" pos="4560840"/>
                  <a:tab algn="ctr" pos="70423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ream versus Butter Cream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ell @ Split-off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Process Further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880" y="5181480"/>
              <a:ext cx="807732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9000"/>
            </a:bodyPr>
            <a:p>
              <a:pPr marL="305280" indent="-3052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dec" pos="4964040"/>
                  <a:tab algn="dec" pos="741852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Relevant revenu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5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05280" indent="-305280">
                <a:lnSpc>
                  <a:spcPct val="100000"/>
                </a:lnSpc>
                <a:tabLst>
                  <a:tab algn="l" pos="0"/>
                  <a:tab algn="dec" pos="4964040"/>
                  <a:tab algn="dec" pos="741852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Relevant costs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8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dec" pos="4964040"/>
                  <a:tab algn="dec" pos="741852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Incremental operating incom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32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5000760"/>
              <a:ext cx="80010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52880" y="5867280"/>
              <a:ext cx="4572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91520" y="5867280"/>
              <a:ext cx="4572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23:20:52Z</dcterms:created>
  <dc:creator>User</dc:creator>
  <dc:description/>
  <dc:language>en-US</dc:language>
  <cp:lastModifiedBy>John Moore</cp:lastModifiedBy>
  <cp:lastPrinted>1999-06-05T01:59:28Z</cp:lastPrinted>
  <dcterms:modified xsi:type="dcterms:W3CDTF">2003-03-22T13:20:44Z</dcterms:modified>
  <cp:revision>19</cp:revision>
  <dc:subject/>
  <dc:title>Joint Products and Byproducts</dc:title>
</cp:coreProperties>
</file>