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78B6B-537A-4513-B7D7-205772CEFB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8AB58-AEF4-4CBC-8235-A2EFAF502F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8450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8440" y="3879720"/>
            <a:ext cx="8450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8440" y="387972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8520" y="387972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5760" y="132408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3080" y="132408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8440" y="387972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5760" y="387972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3080" y="387972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8440" y="1324080"/>
            <a:ext cx="8450280" cy="48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84502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8440" y="162000"/>
            <a:ext cx="845028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8440" y="387972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8520" y="387972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8440" y="3879720"/>
            <a:ext cx="8450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8440" y="1324080"/>
            <a:ext cx="84502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008000"/>
            <a:ext cx="91440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6520" y="6470640"/>
            <a:ext cx="2984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  <a:ea typeface="Arial"/>
              </a:rPr>
              <a:t>©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 2003 Pearson Education Canada Inc.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924680" y="6478560"/>
            <a:ext cx="971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Slide 16-</a:t>
            </a:r>
            <a:fld id="{AEDF0DE1-B4CC-4B01-9E74-E42244FCAA7E}" type="slidenum">
              <a:rPr b="0" lang="en-US" sz="1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7280" y="1825560"/>
            <a:ext cx="7543800" cy="322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16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evenues, Sales Variances, and Customer Profitability Analysi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362320" y="2209680"/>
            <a:ext cx="0" cy="30492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0" y="2209680"/>
            <a:ext cx="0" cy="30492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ix and Yield Varianc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666880" y="1295280"/>
            <a:ext cx="3726000" cy="6098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afd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tatic Budget Variance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20 - 623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" y="2514600"/>
            <a:ext cx="403848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lexible Budget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800600" y="2514600"/>
            <a:ext cx="388620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ales Volume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495680" y="1905120"/>
            <a:ext cx="0" cy="30456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62320" y="2209680"/>
            <a:ext cx="449568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914400" y="4648320"/>
            <a:ext cx="3657240" cy="1523880"/>
            <a:chOff x="914400" y="4648320"/>
            <a:chExt cx="3657240" cy="1523880"/>
          </a:xfrm>
        </p:grpSpPr>
        <p:sp>
          <p:nvSpPr>
            <p:cNvPr id="120" name=""/>
            <p:cNvSpPr/>
            <p:nvPr/>
          </p:nvSpPr>
          <p:spPr>
            <a:xfrm>
              <a:off x="3804840" y="4648320"/>
              <a:ext cx="0" cy="3045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914400" y="5257800"/>
              <a:ext cx="1356480" cy="9144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Mix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Variance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801880" y="5257800"/>
              <a:ext cx="1769760" cy="9144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Yield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Variance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504080" y="4952880"/>
              <a:ext cx="24775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504080" y="4952880"/>
              <a:ext cx="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981960" y="4952880"/>
              <a:ext cx="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33520" y="3124080"/>
            <a:ext cx="3962160" cy="1524240"/>
            <a:chOff x="533520" y="3124080"/>
            <a:chExt cx="3962160" cy="1524240"/>
          </a:xfrm>
        </p:grpSpPr>
        <p:sp>
          <p:nvSpPr>
            <p:cNvPr id="127" name=""/>
            <p:cNvSpPr/>
            <p:nvPr/>
          </p:nvSpPr>
          <p:spPr>
            <a:xfrm>
              <a:off x="2661120" y="3124080"/>
              <a:ext cx="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33520" y="3733920"/>
              <a:ext cx="1687320" cy="9144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Price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Variance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514600" y="3733920"/>
              <a:ext cx="1981080" cy="9144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Efficiency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Variance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413720" y="3429000"/>
              <a:ext cx="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413720" y="3429000"/>
              <a:ext cx="205416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467880" y="3429000"/>
              <a:ext cx="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venue Alloc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8440" y="1219320"/>
            <a:ext cx="799308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venue allocation occurs when revenues, related but not traceable to individual products (services or customers), are assigned to individual produc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 Bundled product is a package of two or more products or services, sold for a single price, each with their own stand-alone pric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ften called suite sal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ocate revenues to products based 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162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afd00"/>
                </a:solidFill>
                <a:latin typeface="Arial"/>
              </a:rPr>
              <a:t>selling prices or unit costs</a:t>
            </a:r>
            <a:endParaRPr b="1" lang="en-US" sz="26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162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afd00"/>
                </a:solidFill>
                <a:latin typeface="Arial"/>
              </a:rPr>
              <a:t>physical units</a:t>
            </a:r>
            <a:endParaRPr b="1" lang="en-US" sz="26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162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afd00"/>
                </a:solidFill>
                <a:latin typeface="Arial"/>
              </a:rPr>
              <a:t>stand-alone product revenues</a:t>
            </a:r>
            <a:endParaRPr b="1" lang="en-US" sz="26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162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afd00"/>
                </a:solidFill>
                <a:latin typeface="Arial"/>
              </a:rPr>
              <a:t>incremental revenues</a:t>
            </a:r>
            <a:endParaRPr b="1" lang="en-US" sz="2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599 - 600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venue Allocation – Stand Alon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2017800" cy="65736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txBody>
          <a:bodyPr lIns="90360" rIns="90360" tIns="44280" bIns="44280" anchor="t">
            <a:normAutofit fontScale="93000"/>
          </a:bodyPr>
          <a:p>
            <a:pPr marL="31896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WordMaster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18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250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63880" y="1538280"/>
            <a:ext cx="2217600" cy="65736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3000"/>
          </a:bodyPr>
          <a:p>
            <a:pPr marL="318960" indent="-318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preadMaster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3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410080" y="1538280"/>
            <a:ext cx="2430720" cy="65736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3000"/>
          </a:bodyPr>
          <a:p>
            <a:pPr marL="318960" indent="-318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inanceMaster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45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28600" y="2514600"/>
            <a:ext cx="8229600" cy="34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685960"/>
                <a:tab algn="dec" pos="7143840"/>
                <a:tab algn="l" pos="7545240"/>
                <a:tab algn="l" pos="8623440"/>
                <a:tab algn="l" pos="9701280"/>
                <a:tab algn="l" pos="1077912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uite price for all three products = $76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85960"/>
                <a:tab algn="dec" pos="7143840"/>
                <a:tab algn="l" pos="7545240"/>
                <a:tab algn="l" pos="8623440"/>
                <a:tab algn="l" pos="9701280"/>
                <a:tab algn="l" pos="1077912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85960"/>
                <a:tab algn="dec" pos="7143840"/>
                <a:tab algn="l" pos="7545240"/>
                <a:tab algn="l" pos="8623440"/>
                <a:tab algn="l" pos="9701280"/>
                <a:tab algn="l" pos="10779120"/>
              </a:tabLst>
            </a:pP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Allocation based on Stand-Alone Pric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2685960"/>
                <a:tab algn="dec" pos="7143840"/>
                <a:tab algn="l" pos="7545240"/>
                <a:tab algn="l" pos="8623440"/>
                <a:tab algn="l" pos="9701280"/>
                <a:tab algn="l" pos="1077912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ordMaster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250 / $1,000 x $760  =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19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685960"/>
                <a:tab algn="dec" pos="7143840"/>
                <a:tab algn="l" pos="7545240"/>
                <a:tab algn="l" pos="8623440"/>
                <a:tab algn="l" pos="9701280"/>
                <a:tab algn="l" pos="1077912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preadMaster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300 / $1,000  x $760  = 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28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685960"/>
                <a:tab algn="dec" pos="7143840"/>
                <a:tab algn="l" pos="7545240"/>
                <a:tab algn="l" pos="8623440"/>
                <a:tab algn="l" pos="9701280"/>
                <a:tab algn="l" pos="1077912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nanceMaster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450 / $1,000 x $760  = 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342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685960"/>
                <a:tab algn="dec" pos="7143840"/>
                <a:tab algn="l" pos="7545240"/>
                <a:tab algn="l" pos="8623440"/>
                <a:tab algn="l" pos="9701280"/>
                <a:tab algn="l" pos="1077912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76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685960"/>
                <a:tab algn="dec" pos="7143840"/>
                <a:tab algn="l" pos="7545240"/>
                <a:tab algn="l" pos="8623440"/>
                <a:tab algn="l" pos="9701280"/>
                <a:tab algn="l" pos="1077912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00 - 601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venue Allocation - Incrementa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135840" y="1523880"/>
            <a:ext cx="2017440" cy="65736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txBody>
          <a:bodyPr lIns="90360" rIns="90360" tIns="44280" bIns="44280" anchor="t">
            <a:normAutofit fontScale="93000"/>
          </a:bodyPr>
          <a:p>
            <a:pPr marL="31896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WordMaster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18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250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649680" y="1538280"/>
            <a:ext cx="2217600" cy="65736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3000"/>
          </a:bodyPr>
          <a:p>
            <a:pPr marL="318960" indent="-318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preadMaster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3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1523880"/>
            <a:ext cx="2430360" cy="65736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3000"/>
          </a:bodyPr>
          <a:p>
            <a:pPr marL="318960" indent="-318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inanceMaster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45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2514600"/>
            <a:ext cx="8229600" cy="30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685960"/>
                <a:tab algn="dec" pos="7143840"/>
                <a:tab algn="l" pos="7545240"/>
                <a:tab algn="l" pos="8623440"/>
                <a:tab algn="l" pos="9701280"/>
                <a:tab algn="l" pos="1077912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uite price for all three products = $76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85960"/>
                <a:tab algn="dec" pos="7143840"/>
                <a:tab algn="l" pos="7545240"/>
                <a:tab algn="l" pos="8623440"/>
                <a:tab algn="l" pos="9701280"/>
                <a:tab algn="l" pos="1077912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85960"/>
                <a:tab algn="dec" pos="7143840"/>
                <a:tab algn="l" pos="7545240"/>
                <a:tab algn="l" pos="8623440"/>
                <a:tab algn="l" pos="9701280"/>
                <a:tab algn="l" pos="10779120"/>
              </a:tabLst>
            </a:pP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Allocation based on Incremental Prices *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2685960"/>
                <a:tab algn="dec" pos="7143840"/>
                <a:tab algn="l" pos="7545240"/>
                <a:tab algn="l" pos="8623440"/>
                <a:tab algn="l" pos="9701280"/>
                <a:tab algn="l" pos="1077912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nanceMaster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45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685960"/>
                <a:tab algn="dec" pos="7143840"/>
                <a:tab algn="l" pos="7545240"/>
                <a:tab algn="l" pos="8623440"/>
                <a:tab algn="l" pos="9701280"/>
                <a:tab algn="l" pos="1077912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preadMaster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3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685960"/>
                <a:tab algn="dec" pos="7143840"/>
                <a:tab algn="l" pos="7545240"/>
                <a:tab algn="l" pos="8623440"/>
                <a:tab algn="l" pos="9701280"/>
                <a:tab algn="l" pos="1077912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nanceMaster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$760 - $450 - $300) 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  1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685960"/>
                <a:tab algn="dec" pos="7143840"/>
                <a:tab algn="l" pos="7545240"/>
                <a:tab algn="l" pos="8623440"/>
                <a:tab algn="l" pos="9701280"/>
                <a:tab algn="l" pos="1077912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76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00 - 601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577548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685960"/>
                <a:tab algn="dec" pos="7143840"/>
                <a:tab algn="l" pos="7545240"/>
                <a:tab algn="l" pos="8623440"/>
                <a:tab algn="l" pos="9701280"/>
                <a:tab algn="l" pos="1077912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* Assume primary product is Finance, then Spread, then Wor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362320" y="2209680"/>
            <a:ext cx="0" cy="30492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58000" y="2209680"/>
            <a:ext cx="0" cy="30492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ales Volume Varian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666880" y="1295280"/>
            <a:ext cx="3726000" cy="6098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afd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tatic Budget Variance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03 - 606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2514600"/>
            <a:ext cx="403848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lexible Budget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800600" y="2514600"/>
            <a:ext cx="388620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ales Volume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495680" y="1905120"/>
            <a:ext cx="0" cy="30456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362320" y="2209680"/>
            <a:ext cx="449568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3962520" y="4648320"/>
            <a:ext cx="4724280" cy="1523880"/>
            <a:chOff x="3962520" y="4648320"/>
            <a:chExt cx="4724280" cy="1523880"/>
          </a:xfrm>
        </p:grpSpPr>
        <p:sp>
          <p:nvSpPr>
            <p:cNvPr id="75" name=""/>
            <p:cNvSpPr/>
            <p:nvPr/>
          </p:nvSpPr>
          <p:spPr>
            <a:xfrm>
              <a:off x="7696080" y="4648320"/>
              <a:ext cx="0" cy="3045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962520" y="5257800"/>
              <a:ext cx="1752480" cy="9144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Market Size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Variance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400800" y="5257800"/>
              <a:ext cx="2286000" cy="9144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Market Share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Variance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24280" y="4952880"/>
              <a:ext cx="320040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24280" y="4952880"/>
              <a:ext cx="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924680" y="4952880"/>
              <a:ext cx="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457200" y="3886200"/>
            <a:ext cx="3200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Sales Volume Varianc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= 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(actual unit sales - budgeted unit sales) x budgeted contribution margin per uni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648320" y="3124080"/>
            <a:ext cx="4114800" cy="1524240"/>
            <a:chOff x="4648320" y="3124080"/>
            <a:chExt cx="4114800" cy="1524240"/>
          </a:xfrm>
        </p:grpSpPr>
        <p:sp>
          <p:nvSpPr>
            <p:cNvPr id="83" name=""/>
            <p:cNvSpPr/>
            <p:nvPr/>
          </p:nvSpPr>
          <p:spPr>
            <a:xfrm>
              <a:off x="6858000" y="3124080"/>
              <a:ext cx="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648320" y="3733920"/>
              <a:ext cx="1752480" cy="9144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Sales Mix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Variance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705720" y="3733920"/>
              <a:ext cx="2057400" cy="9144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Sales Quantity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Variance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562720" y="3429000"/>
              <a:ext cx="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562720" y="3429000"/>
              <a:ext cx="213336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696080" y="3429000"/>
              <a:ext cx="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ales-Mix and Sales-Quantity Varianc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76360"/>
            <a:ext cx="8915400" cy="157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0">
              <a:spcBef>
                <a:spcPts val="499"/>
              </a:spcBef>
              <a:buNone/>
              <a:tabLst>
                <a:tab algn="l" pos="0"/>
                <a:tab algn="ctr" pos="1241280"/>
                <a:tab algn="ctr" pos="2568600"/>
                <a:tab algn="ctr" pos="3722760"/>
                <a:tab algn="ctr" pos="4473720"/>
                <a:tab algn="ctr" pos="5340240"/>
                <a:tab algn="ctr" pos="6458040"/>
                <a:tab algn="ctr" pos="76582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ales-mix variance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ctr" pos="1241280"/>
                <a:tab algn="ctr" pos="2568600"/>
                <a:tab algn="ctr" pos="3722760"/>
                <a:tab algn="ctr" pos="4473720"/>
                <a:tab algn="ctr" pos="5340240"/>
                <a:tab algn="ctr" pos="6458040"/>
                <a:tab algn="ctr" pos="76582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ctual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ctual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dgete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dgeted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ctr" pos="1241280"/>
                <a:tab algn="ctr" pos="2568600"/>
                <a:tab algn="ctr" pos="3722760"/>
                <a:tab algn="ctr" pos="4473720"/>
                <a:tab algn="ctr" pos="5340240"/>
                <a:tab algn="ctr" pos="6458040"/>
                <a:tab algn="ctr" pos="76582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=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units of all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sale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ale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ntribution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ctr" pos="1241280"/>
                <a:tab algn="ctr" pos="2568600"/>
                <a:tab algn="ctr" pos="3722760"/>
                <a:tab algn="ctr" pos="4473720"/>
                <a:tab algn="ctr" pos="5340240"/>
                <a:tab algn="ctr" pos="6458040"/>
                <a:tab algn="ctr" pos="76582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oducts sol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ix %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ix %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rgin per unit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686040"/>
            <a:ext cx="891540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ctr" pos="1442880"/>
                <a:tab algn="ctr" pos="2395440"/>
                <a:tab algn="ctr" pos="3608280"/>
                <a:tab algn="ctr" pos="4915080"/>
                <a:tab algn="ctr" pos="5829480"/>
                <a:tab algn="ctr" pos="6629400"/>
                <a:tab algn="ctr" pos="782964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ales-quantity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ctr" pos="1442880"/>
                <a:tab algn="ctr" pos="2395440"/>
                <a:tab algn="ctr" pos="3608280"/>
                <a:tab algn="ctr" pos="4915080"/>
                <a:tab algn="ctr" pos="5829480"/>
                <a:tab algn="ctr" pos="6629400"/>
                <a:tab algn="ctr" pos="782964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ctual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dgete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dgete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dgete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ctr" pos="1442880"/>
                <a:tab algn="ctr" pos="2395440"/>
                <a:tab algn="ctr" pos="3608280"/>
                <a:tab algn="ctr" pos="4915080"/>
                <a:tab algn="ctr" pos="5829480"/>
                <a:tab algn="ctr" pos="6629400"/>
                <a:tab algn="ctr" pos="782964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units of all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units of all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ale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ntribution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tabLst>
                <a:tab algn="l" pos="0"/>
                <a:tab algn="ctr" pos="1442880"/>
                <a:tab algn="ctr" pos="2395440"/>
                <a:tab algn="ctr" pos="3608280"/>
                <a:tab algn="ctr" pos="4915080"/>
                <a:tab algn="ctr" pos="5829480"/>
                <a:tab algn="ctr" pos="6629400"/>
                <a:tab algn="ctr" pos="782964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oducts sol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oducts sol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ix %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rgin per uni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6294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06 - 60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429000" y="1752480"/>
            <a:ext cx="3048120" cy="1219320"/>
          </a:xfrm>
          <a:prstGeom prst="bracketPair">
            <a:avLst>
              <a:gd name="adj" fmla="val 17129"/>
            </a:avLst>
          </a:prstGeom>
          <a:noFill/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62120" y="4191120"/>
            <a:ext cx="4190760" cy="1218960"/>
          </a:xfrm>
          <a:prstGeom prst="bracketPair">
            <a:avLst>
              <a:gd name="adj" fmla="val 17129"/>
            </a:avLst>
          </a:prstGeom>
          <a:noFill/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rket-Share and Market-Size Varianc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240" y="1476000"/>
            <a:ext cx="8915400" cy="134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0">
              <a:spcBef>
                <a:spcPts val="499"/>
              </a:spcBef>
              <a:buNone/>
              <a:tabLst>
                <a:tab algn="l" pos="0"/>
                <a:tab algn="ctr" pos="1241280"/>
                <a:tab algn="ctr" pos="2228760"/>
                <a:tab algn="ctr" pos="3314880"/>
                <a:tab algn="ctr" pos="4057560"/>
                <a:tab algn="ctr" pos="5086440"/>
                <a:tab algn="ctr" pos="6000840"/>
                <a:tab algn="ctr" pos="748656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rket-share variance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ctr" pos="1241280"/>
                <a:tab algn="ctr" pos="2228760"/>
                <a:tab algn="ctr" pos="3314880"/>
                <a:tab algn="ctr" pos="4057560"/>
                <a:tab algn="ctr" pos="5086440"/>
                <a:tab algn="ctr" pos="6000840"/>
                <a:tab algn="ctr" pos="748656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ctual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ctual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dgete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dgeted average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ctr" pos="1241280"/>
                <a:tab algn="ctr" pos="2228760"/>
                <a:tab algn="ctr" pos="3314880"/>
                <a:tab algn="ctr" pos="4057560"/>
                <a:tab algn="ctr" pos="5086440"/>
                <a:tab algn="ctr" pos="6000840"/>
                <a:tab algn="ctr" pos="748656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=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rket siz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rket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rket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ntribution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15360" indent="0">
              <a:buNone/>
              <a:tabLst>
                <a:tab algn="l" pos="0"/>
                <a:tab algn="ctr" pos="1241280"/>
                <a:tab algn="ctr" pos="2228760"/>
                <a:tab algn="ctr" pos="3314880"/>
                <a:tab algn="ctr" pos="4057560"/>
                <a:tab algn="ctr" pos="5086440"/>
                <a:tab algn="ctr" pos="6000840"/>
                <a:tab algn="ctr" pos="748656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 unit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hare %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hare %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rgin per unit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8600" y="3686040"/>
            <a:ext cx="891540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ctr" pos="1200240"/>
                <a:tab algn="ctr" pos="2171880"/>
                <a:tab algn="ctr" pos="3200400"/>
                <a:tab algn="ctr" pos="4343400"/>
                <a:tab algn="ctr" pos="5315040"/>
                <a:tab algn="ctr" pos="6172200"/>
                <a:tab algn="ctr" pos="748656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rket-size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ctr" pos="1200240"/>
                <a:tab algn="ctr" pos="2171880"/>
                <a:tab algn="ctr" pos="3200400"/>
                <a:tab algn="ctr" pos="4343400"/>
                <a:tab algn="ctr" pos="5315040"/>
                <a:tab algn="ctr" pos="6172200"/>
                <a:tab algn="ctr" pos="748656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ctual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dgete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dgete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dgeted averag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ctr" pos="1200240"/>
                <a:tab algn="ctr" pos="2171880"/>
                <a:tab algn="ctr" pos="3200400"/>
                <a:tab algn="ctr" pos="4343400"/>
                <a:tab algn="ctr" pos="5315040"/>
                <a:tab algn="ctr" pos="6172200"/>
                <a:tab algn="ctr" pos="748656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market siz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rket siz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rket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ntribution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tabLst>
                <a:tab algn="l" pos="0"/>
                <a:tab algn="ctr" pos="1200240"/>
                <a:tab algn="ctr" pos="2171880"/>
                <a:tab algn="ctr" pos="3200400"/>
                <a:tab algn="ctr" pos="4343400"/>
                <a:tab algn="ctr" pos="5315040"/>
                <a:tab algn="ctr" pos="6172200"/>
                <a:tab algn="ctr" pos="748656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 unit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 unit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hare %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rgin per uni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55308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08 - 610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895480" y="1752480"/>
            <a:ext cx="3200400" cy="1219320"/>
          </a:xfrm>
          <a:prstGeom prst="bracketPair">
            <a:avLst>
              <a:gd name="adj" fmla="val 17129"/>
            </a:avLst>
          </a:prstGeom>
          <a:noFill/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4114800"/>
            <a:ext cx="3657600" cy="1219320"/>
          </a:xfrm>
          <a:prstGeom prst="bracketPair">
            <a:avLst>
              <a:gd name="adj" fmla="val 17129"/>
            </a:avLst>
          </a:prstGeom>
          <a:noFill/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ustomer Profitability Analysi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8800" y="1143000"/>
            <a:ext cx="822168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sider profitability of individual customers taking into account: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ustomer specific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stribution channel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ustomer support costs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rporate sustaining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Look at customers in terms of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hort-run and long-run profitabilit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likelihood of retent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growth potentia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creases in overall demand from well-known customer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bility to learn from a custome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6294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11 - 616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ix and Yield Variances for Inpu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6294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20 - 623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" y="1476360"/>
            <a:ext cx="891540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ctr" pos="1241280"/>
                <a:tab algn="ctr" pos="1992240"/>
                <a:tab algn="ctr" pos="2857680"/>
                <a:tab algn="ctr" pos="4387680"/>
                <a:tab algn="ctr" pos="5425920"/>
                <a:tab algn="ctr" pos="6465960"/>
                <a:tab algn="ctr" pos="753264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ix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284400" indent="-2844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ctr" pos="1241280"/>
                <a:tab algn="ctr" pos="1992240"/>
                <a:tab algn="ctr" pos="2857680"/>
                <a:tab algn="ctr" pos="4387680"/>
                <a:tab algn="ctr" pos="5425920"/>
                <a:tab algn="ctr" pos="6465960"/>
                <a:tab algn="ctr" pos="753264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ctual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dgete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ctual total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dgete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284400" indent="-2844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ctr" pos="1241280"/>
                <a:tab algn="ctr" pos="1992240"/>
                <a:tab algn="ctr" pos="2857680"/>
                <a:tab algn="ctr" pos="4387680"/>
                <a:tab algn="ctr" pos="5425920"/>
                <a:tab algn="ctr" pos="6465960"/>
                <a:tab algn="ctr" pos="753264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=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put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put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put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ice per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284400" indent="-284400">
              <a:lnSpc>
                <a:spcPct val="100000"/>
              </a:lnSpc>
              <a:tabLst>
                <a:tab algn="l" pos="0"/>
                <a:tab algn="ctr" pos="1241280"/>
                <a:tab algn="ctr" pos="1992240"/>
                <a:tab algn="ctr" pos="2857680"/>
                <a:tab algn="ctr" pos="4387680"/>
                <a:tab algn="ctr" pos="5425920"/>
                <a:tab algn="ctr" pos="6465960"/>
                <a:tab algn="ctr" pos="753264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ix %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ix %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use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put uni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8600" y="3686040"/>
            <a:ext cx="891540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2000"/>
          </a:bodyPr>
          <a:p>
            <a:pPr marL="281160" indent="-281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ctr" pos="1327320"/>
                <a:tab algn="ctr" pos="2279520"/>
                <a:tab algn="ctr" pos="3435480"/>
                <a:tab algn="ctr" pos="4863960"/>
                <a:tab algn="ctr" pos="5802480"/>
                <a:tab algn="ctr" pos="6667560"/>
                <a:tab algn="ctr" pos="770724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Yield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ctr" pos="1327320"/>
                <a:tab algn="ctr" pos="2279520"/>
                <a:tab algn="ctr" pos="3435480"/>
                <a:tab algn="ctr" pos="4863960"/>
                <a:tab algn="ctr" pos="5802480"/>
                <a:tab algn="ctr" pos="6667560"/>
                <a:tab algn="ctr" pos="770724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ctual total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dgeted total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dgete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dgete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ctr" pos="1327320"/>
                <a:tab algn="ctr" pos="2279520"/>
                <a:tab algn="ctr" pos="3435480"/>
                <a:tab algn="ctr" pos="4863960"/>
                <a:tab algn="ctr" pos="5802480"/>
                <a:tab algn="ctr" pos="6667560"/>
                <a:tab algn="ctr" pos="770724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units of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units of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put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ice per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tabLst>
                <a:tab algn="l" pos="0"/>
                <a:tab algn="ctr" pos="1327320"/>
                <a:tab algn="ctr" pos="2279520"/>
                <a:tab algn="ctr" pos="3435480"/>
                <a:tab algn="ctr" pos="4863960"/>
                <a:tab algn="ctr" pos="5802480"/>
                <a:tab algn="ctr" pos="6667560"/>
                <a:tab algn="ctr" pos="770724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put use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puts use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ix %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put uni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90720" y="1905120"/>
            <a:ext cx="2971800" cy="1218960"/>
          </a:xfrm>
          <a:prstGeom prst="bracketPair">
            <a:avLst>
              <a:gd name="adj" fmla="val 17129"/>
            </a:avLst>
          </a:prstGeom>
          <a:noFill/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38080" y="4114800"/>
            <a:ext cx="4038840" cy="1219320"/>
          </a:xfrm>
          <a:prstGeom prst="bracketPair">
            <a:avLst>
              <a:gd name="adj" fmla="val 17129"/>
            </a:avLst>
          </a:prstGeom>
          <a:noFill/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5T01:59:48Z</dcterms:created>
  <dc:creator>User</dc:creator>
  <dc:description/>
  <dc:language>en-US</dc:language>
  <cp:lastModifiedBy>John Moore</cp:lastModifiedBy>
  <dcterms:modified xsi:type="dcterms:W3CDTF">2003-03-22T13:21:04Z</dcterms:modified>
  <cp:revision>10</cp:revision>
  <dc:subject/>
  <dc:title>No Slide Title</dc:title>
</cp:coreProperties>
</file>