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7D1BA-33F2-4AD8-B455-E943058770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8AE8A-6F0A-46FE-A376-DC2FEB60E7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83059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87720"/>
            <a:ext cx="83059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3480" y="143208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8772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3480" y="398772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2674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5920" y="1432080"/>
            <a:ext cx="2674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4280" y="1432080"/>
            <a:ext cx="2674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87720"/>
            <a:ext cx="2674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5920" y="3987720"/>
            <a:ext cx="2674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4280" y="3987720"/>
            <a:ext cx="2674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32080"/>
            <a:ext cx="830592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83059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40532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3480" y="1432080"/>
            <a:ext cx="40532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8305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3480" y="1432080"/>
            <a:ext cx="40532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8772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40532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3480" y="143208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3480" y="398772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3480" y="143208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87720"/>
            <a:ext cx="83059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32080"/>
            <a:ext cx="83059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6416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077320" y="6478560"/>
            <a:ext cx="819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2-</a:t>
            </a:r>
            <a:fld id="{D4732827-F89B-46D3-B934-A255943C941C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2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n Introduction to Cost Terms and Purpos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638680" y="1828800"/>
            <a:ext cx="3048120" cy="4267080"/>
          </a:xfrm>
          <a:prstGeom prst="rect">
            <a:avLst/>
          </a:prstGeom>
          <a:solidFill>
            <a:srgbClr val="0000cc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s in a Retail / Wholesale Compan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5960" y="4190760"/>
            <a:ext cx="1898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Inventoriabl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(Product)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2743200"/>
            <a:ext cx="1828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8000"/>
          </a:bodyPr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erchandis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urchas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2743200"/>
            <a:ext cx="1828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8000"/>
          </a:bodyPr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erchandis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943600" y="28954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of Goods Sol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867280" y="205740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venu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867280" y="373392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ross Margi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362320" y="3124080"/>
            <a:ext cx="76176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05520" y="3124080"/>
            <a:ext cx="83808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867280" y="4419720"/>
            <a:ext cx="2743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keting an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dministrative Cos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867280" y="556272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581280" y="4495680"/>
            <a:ext cx="1828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8000"/>
          </a:bodyPr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erio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81480" y="4419720"/>
            <a:ext cx="228600" cy="8380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 rot="16200000">
            <a:off x="1409400" y="3161520"/>
            <a:ext cx="152280" cy="1295640"/>
          </a:xfrm>
          <a:custGeom>
            <a:avLst/>
            <a:gdLst>
              <a:gd name="textAreaLeft" fmla="*/ 97200 w 152280"/>
              <a:gd name="textAreaRight" fmla="*/ 152640 w 15228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162920" y="64771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4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72200" y="3505320"/>
            <a:ext cx="21337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172200" y="5334120"/>
            <a:ext cx="21337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12952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Income Statement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12952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Balance Sheet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05920" cy="46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s in a Manufacturing Compan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10280" y="64771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4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867280" y="2117880"/>
            <a:ext cx="3048120" cy="4267080"/>
          </a:xfrm>
          <a:prstGeom prst="rect">
            <a:avLst/>
          </a:prstGeom>
          <a:solidFill>
            <a:srgbClr val="0000cc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5105520"/>
            <a:ext cx="2286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4000"/>
          </a:bodyPr>
          <a:p>
            <a:pPr marL="322200" indent="-322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Inventoriabl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-322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(Product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-322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" y="1600200"/>
            <a:ext cx="1828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irec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urchas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62320" y="2819520"/>
            <a:ext cx="1828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0000"/>
          </a:bodyPr>
          <a:p>
            <a:pPr marL="308520" indent="-3085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Work i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08520" indent="-308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ces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08520" indent="-308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172200" y="318456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of Goods Sol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5880" y="242244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venu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5880" y="402264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ross Margi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057400" y="2209680"/>
            <a:ext cx="53352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62720" y="3413160"/>
            <a:ext cx="53316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5880" y="4708440"/>
            <a:ext cx="2743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keting an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dministrative Cos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5880" y="585144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9880" y="4724280"/>
            <a:ext cx="18288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erio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410080" y="4724280"/>
            <a:ext cx="228600" cy="8384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 rot="16200000">
            <a:off x="1066680" y="3809880"/>
            <a:ext cx="152640" cy="1981440"/>
          </a:xfrm>
          <a:custGeom>
            <a:avLst/>
            <a:gdLst>
              <a:gd name="textAreaLeft" fmla="*/ 97560 w 152640"/>
              <a:gd name="textAreaRight" fmla="*/ 153000 w 15264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400800" y="3794040"/>
            <a:ext cx="21337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400800" y="5622840"/>
            <a:ext cx="21337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95880" y="150804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Income Statement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666880" y="10666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Balance Sheet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38280" y="1752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320" y="2743200"/>
            <a:ext cx="22096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irec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Labou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direc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nufacturing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038480" y="2819520"/>
            <a:ext cx="1828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4000"/>
          </a:bodyPr>
          <a:p>
            <a:pPr marL="288000" indent="-2880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nish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88000" indent="-2880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ood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88000" indent="-288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86200" y="3352680"/>
            <a:ext cx="53352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352680" y="2438280"/>
            <a:ext cx="0" cy="38124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57400" y="3124080"/>
            <a:ext cx="53352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1828800" y="3505320"/>
            <a:ext cx="685800" cy="30456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Many Meanings of Product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mportant theme of this book is “different costs for different purposes”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ree examples of “product cost”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 pricing and product emphasi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lude all costs incurr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acting with government agenci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y exclude marketing costs and include only a portion of R&amp;D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ancial Stateme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der GAAP, only manufacturing costs are included in inventor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010280" y="64771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4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ternative Classifications of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38862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siness func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&amp;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sig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rke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stribu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ustomer servi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ignment to a cost obje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010280" y="64771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8 - 4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648320" y="1447920"/>
            <a:ext cx="38862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ehaviour patter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ggregate or averag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it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ets or expens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ventoriable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eriod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09440"/>
            <a:ext cx="7772400" cy="8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s and Cost Objec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83059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resource sacrificed or foregone to achieve a specific objectiv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Obje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ny product, machine, service or process for which cost information is accumulat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objects can vary in size from an entire company, to a division or program within the company, or down to a single product or servi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162920" y="64771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3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109440"/>
            <a:ext cx="7772400" cy="8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rect and Indirect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458200" cy="335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Co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cost which is related to a particular cost objective and can be traced to it in an economically feasible wa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cost which is related a particular cost objective but cannot be traced to it in an economically feasible wa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 are allocated to cost objectiv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4419720"/>
            <a:ext cx="1905120" cy="825480"/>
          </a:xfrm>
          <a:prstGeom prst="rect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66680" y="5470560"/>
            <a:ext cx="1905120" cy="825480"/>
          </a:xfrm>
          <a:prstGeom prst="rect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867280" y="4495680"/>
            <a:ext cx="1600200" cy="1617840"/>
          </a:xfrm>
          <a:prstGeom prst="rect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bjec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2971800" y="4495680"/>
            <a:ext cx="2819520" cy="533520"/>
            <a:chOff x="2971800" y="4495680"/>
            <a:chExt cx="2819520" cy="533520"/>
          </a:xfrm>
        </p:grpSpPr>
        <p:sp>
          <p:nvSpPr>
            <p:cNvPr id="58" name=""/>
            <p:cNvSpPr/>
            <p:nvPr/>
          </p:nvSpPr>
          <p:spPr>
            <a:xfrm>
              <a:off x="2971800" y="5029200"/>
              <a:ext cx="28195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505320" y="449568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Trace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7238880" y="64771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3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971800" y="5638680"/>
            <a:ext cx="2819520" cy="459720"/>
            <a:chOff x="2971800" y="5638680"/>
            <a:chExt cx="2819520" cy="459720"/>
          </a:xfrm>
        </p:grpSpPr>
        <p:sp>
          <p:nvSpPr>
            <p:cNvPr id="62" name=""/>
            <p:cNvSpPr/>
            <p:nvPr/>
          </p:nvSpPr>
          <p:spPr>
            <a:xfrm>
              <a:off x="2971800" y="5638680"/>
              <a:ext cx="28195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505320" y="563868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Allocate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85760"/>
            <a:ext cx="777240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 Drivers and Cost Manag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27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driver (cost generator or cost determinant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factor which causes the amount of cost incurred to chang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ion costs are driven by the number of products produced, labour costs, number of setups required, and the number of change ord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238880" y="64771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3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4191120"/>
            <a:ext cx="80773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Reduction Programs focus on two things: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oing only value-added activities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fficiently manage the use of cost drivers in those value-added activiti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riable and Fixed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571500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Co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cost which is constant per unit but changes in total in proportion to changes in the cost driver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terials (parts), fuel costs for a trucking compan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705720" y="1676520"/>
            <a:ext cx="0" cy="144756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705720" y="3124080"/>
            <a:ext cx="17524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324480" y="1600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772400" y="32148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Volu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6705720" y="1828800"/>
            <a:ext cx="1600200" cy="1295280"/>
          </a:xfrm>
          <a:prstGeom prst="line">
            <a:avLst/>
          </a:prstGeom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304920" y="3886200"/>
            <a:ext cx="8839080" cy="2362320"/>
            <a:chOff x="304920" y="3886200"/>
            <a:chExt cx="8839080" cy="2362320"/>
          </a:xfrm>
        </p:grpSpPr>
        <p:grpSp>
          <p:nvGrpSpPr>
            <p:cNvPr id="76" name=""/>
            <p:cNvGrpSpPr/>
            <p:nvPr/>
          </p:nvGrpSpPr>
          <p:grpSpPr>
            <a:xfrm>
              <a:off x="6324480" y="4038480"/>
              <a:ext cx="2819520" cy="1982880"/>
              <a:chOff x="6324480" y="4038480"/>
              <a:chExt cx="2819520" cy="1982880"/>
            </a:xfrm>
          </p:grpSpPr>
          <p:sp>
            <p:nvSpPr>
              <p:cNvPr id="77" name=""/>
              <p:cNvSpPr/>
              <p:nvPr/>
            </p:nvSpPr>
            <p:spPr>
              <a:xfrm>
                <a:off x="6705720" y="4114800"/>
                <a:ext cx="0" cy="144792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705720" y="5562720"/>
                <a:ext cx="175248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324480" y="403848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afd00"/>
                    </a:solidFill>
                    <a:latin typeface="Arial"/>
                  </a:rPr>
                  <a:t>$</a:t>
                </a:r>
                <a:endParaRPr b="0" lang="en-US" sz="18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848720" y="5653080"/>
                <a:ext cx="1295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afd00"/>
                    </a:solidFill>
                    <a:latin typeface="Arial"/>
                  </a:rPr>
                  <a:t>Volume</a:t>
                </a:r>
                <a:endParaRPr b="0" lang="en-US" sz="18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705720" y="4876920"/>
                <a:ext cx="1523880" cy="0"/>
              </a:xfrm>
              <a:prstGeom prst="line">
                <a:avLst/>
              </a:prstGeom>
              <a:ln w="572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82" name=""/>
            <p:cNvSpPr/>
            <p:nvPr/>
          </p:nvSpPr>
          <p:spPr>
            <a:xfrm>
              <a:off x="304920" y="3886200"/>
              <a:ext cx="5790960" cy="23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Fixed Cost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fafd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a cost which does not change in total as volume changes but changes on a per-unit basis as the cost driver increases and decrease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fafd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amortization, insurance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7010280" y="64771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3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109440"/>
            <a:ext cx="7772400" cy="8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levant Range and Cost Behaviou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05560" cy="100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 range of the cost driver in which the a specific relationship between cost and driver is valid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3322800"/>
            <a:ext cx="0" cy="167616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4998960"/>
            <a:ext cx="213336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3170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76720" y="50896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Volu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943600" y="3322800"/>
            <a:ext cx="0" cy="167616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43600" y="4998960"/>
            <a:ext cx="21337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10080" y="3170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0120" y="5075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Volu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086600" y="64771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3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22800"/>
            <a:ext cx="0" cy="167616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543800" y="3322800"/>
            <a:ext cx="0" cy="167616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971800" y="3322800"/>
            <a:ext cx="0" cy="167616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57400" y="3322800"/>
            <a:ext cx="0" cy="167616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523880" y="2666880"/>
            <a:ext cx="2362320" cy="3507840"/>
            <a:chOff x="1523880" y="2666880"/>
            <a:chExt cx="2362320" cy="3507840"/>
          </a:xfrm>
        </p:grpSpPr>
        <p:sp>
          <p:nvSpPr>
            <p:cNvPr id="100" name=""/>
            <p:cNvSpPr/>
            <p:nvPr/>
          </p:nvSpPr>
          <p:spPr>
            <a:xfrm flipV="1">
              <a:off x="2057400" y="3779640"/>
              <a:ext cx="914400" cy="6858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905120" y="2666880"/>
              <a:ext cx="1218960" cy="59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Relevant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Range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23880" y="571500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Variable Cost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943600" y="2666880"/>
            <a:ext cx="2438280" cy="3507840"/>
            <a:chOff x="5943600" y="2666880"/>
            <a:chExt cx="2438280" cy="3507840"/>
          </a:xfrm>
        </p:grpSpPr>
        <p:sp>
          <p:nvSpPr>
            <p:cNvPr id="104" name=""/>
            <p:cNvSpPr/>
            <p:nvPr/>
          </p:nvSpPr>
          <p:spPr>
            <a:xfrm>
              <a:off x="6553080" y="4084560"/>
              <a:ext cx="99072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543800" y="3627360"/>
              <a:ext cx="53352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943600" y="4465800"/>
              <a:ext cx="60948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00800" y="2666880"/>
              <a:ext cx="1219320" cy="59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Relevant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Range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19920" y="5715000"/>
              <a:ext cx="23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Fixed Cost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109440"/>
            <a:ext cx="7772400" cy="8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tal Costs and Unit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it Cost (or Average Cost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cost / some number of un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934320" y="64771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8 - 3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2362320"/>
            <a:ext cx="83822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verage cos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Total manufacturing costs / Number of units produc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$980,000 / 10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$98 per uni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4419720"/>
            <a:ext cx="84582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it or average costs must be interpreted with cau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 volume increases, the unit or average cost falls as the fixed costs are spread over a larger number of uni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109440"/>
            <a:ext cx="7772400" cy="8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ypes of Inventor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tail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erchandising inventor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934320" y="64771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3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2590920"/>
            <a:ext cx="83822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ufacture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material inventory (stock awaiting use in the manufacturing proces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ork-in process inventory (partially completed goods on the shop floor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ished goods inventory (goods completed but not yet sold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109440"/>
            <a:ext cx="7772400" cy="8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riod and Product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45820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eriod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re expensed on the income statement as they are incurr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so called operating costs (excluding cost of goods sold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ples: selling, general and administrative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re inventoried on the balance sheet and expensed only when the product or service is sol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so called inventoriable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ples: materials and labour (manufacturing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934320" y="64771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0 - 4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2T17:02:44Z</dcterms:created>
  <dc:creator>User</dc:creator>
  <dc:description/>
  <dc:language>en-US</dc:language>
  <cp:lastModifiedBy>John Moore</cp:lastModifiedBy>
  <cp:lastPrinted>1999-06-02T19:49:26Z</cp:lastPrinted>
  <dcterms:modified xsi:type="dcterms:W3CDTF">2003-03-22T13:37:54Z</dcterms:modified>
  <cp:revision>11</cp:revision>
  <dc:subject/>
  <dc:title>Costs and Cost Objects</dc:title>
</cp:coreProperties>
</file>