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FEBD-F0B2-49B1-AED1-5C552108A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ECED-3057-4601-AC21-40BB1977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43D9-B1F5-415C-AB9D-313932465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A032-DC2E-4767-9E7E-72A455CD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5DDF-CE3F-4906-A6C3-CD6FB83C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7056-54C5-422B-844C-6CC710C0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18A6-F901-4F8F-806C-914968E3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585A-D1FE-4F5C-9228-F78E26EA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4979-34B5-4008-BE5B-0F993D5A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6456-2DAD-4AB5-AF45-2BFF941A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83D8-D721-47CA-81A3-72F4D789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B856-A9FB-492A-A221-081A0B2F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BC2D-2CEE-4AF6-A18E-179F4277827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FCD2-EAFF-40F5-AEFF-E0E30C9D767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ثا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فعالية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كموصل جيد للمعلوم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781200" y="2809800"/>
          <a:ext cx="7772400" cy="839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2809800"/>
                    <a:ext cx="7772400" cy="839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6224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3DE3-96F5-47CA-BBC0-B4936F8C502B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611280" y="2311560"/>
          <a:ext cx="8353440" cy="83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311560"/>
                    <a:ext cx="8353440" cy="83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00188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06E4-9004-48EA-AD05-29E173B0FC1A}" type="slidenum">
              <a:t>11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61760" y="2434320"/>
            <a:ext cx="7534800" cy="30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33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الشمولية (الحد الأدنى من المعلومات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اعتماد المستفيدين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قراءة كل جزء من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فهم محتويات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981000"/>
            <a:ext cx="7705440" cy="1079640"/>
          </a:xfrm>
          <a:prstGeom prst="bevel">
            <a:avLst>
              <a:gd name="adj" fmla="val 2644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ي مؤشرات فعالية التقارير المالي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C292-0D3D-4DEE-92F6-1C892BC77A9B}" type="slidenum">
              <a:t>2</a:t>
            </a:fld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069920"/>
            <a:ext cx="8153280" cy="990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4a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حتويات التقارير المالية (العرض والافصاح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2673360"/>
            <a:ext cx="8153280" cy="3276720"/>
          </a:xfrm>
          <a:prstGeom prst="roundRect">
            <a:avLst>
              <a:gd name="adj" fmla="val 16667"/>
            </a:avLst>
          </a:prstGeom>
          <a:solidFill>
            <a:srgbClr val="fde7b1"/>
          </a:solidFill>
          <a:ln w="5724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ما هو الافصاح؟؟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عرض المعلومات المهمة للمستفيدين من التقارير المالية بطريقة تساعد على التنبؤ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أو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عرض القوائم المالية بكل وضوح طبقا للمبادئ المحاسبية المتعارف عليه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C7CA-3FF5-4C2D-B387-96E1DFF2E950}" type="slidenum">
              <a:t>3</a:t>
            </a:fld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069920"/>
            <a:ext cx="8153280" cy="990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همية العرض والإفصا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673360"/>
            <a:ext cx="8153280" cy="32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يحقق عدد من المزايا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امداد المستفيدين بالمعلومات عن المنشأة أو المشروع وبالتالي ترشيد عملية اتخاذ القر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استخدام الموارد الاقتصادية المتاحة بكفاءة وفعالية، بمعنى آخر يساعد على تخصيص وإعادة تخصيص الموارد بين المنشآت الاقتصاد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C418-559A-4684-BE7B-7704A59D748B}" type="slidenum">
              <a:t>4</a:t>
            </a:fld>
          </a:p>
        </p:txBody>
      </p: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736200"/>
            <a:ext cx="7772760" cy="835200"/>
          </a:xfrm>
          <a:prstGeom prst="rect">
            <a:avLst/>
          </a:prstGeom>
          <a:solidFill>
            <a:srgbClr val="fde7b1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وامل المؤثرة على الافصا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37640" y="2185200"/>
            <a:ext cx="2182320" cy="96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تتعل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448680" y="2257920"/>
            <a:ext cx="1960920" cy="894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بيئ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10360" y="3971880"/>
            <a:ext cx="2514600" cy="212112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قتصا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جتماع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ياس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قانونية (قوانين الشركات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3997440"/>
            <a:ext cx="2514600" cy="209556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55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لائمة المعلومات لاتخاذ القرارات (خصائص المعلومات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2600" y="4016520"/>
            <a:ext cx="2590560" cy="207648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جم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د المساهم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داول الاسه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راجع الخارج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43480" y="2133720"/>
            <a:ext cx="228600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تتعل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6308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238880" y="3206880"/>
            <a:ext cx="646200" cy="726840"/>
          </a:xfrm>
          <a:prstGeom prst="downArrow">
            <a:avLst>
              <a:gd name="adj1" fmla="val 50000"/>
              <a:gd name="adj2" fmla="val 28120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93720" y="3213000"/>
            <a:ext cx="601920" cy="792360"/>
          </a:xfrm>
          <a:prstGeom prst="downArrow">
            <a:avLst>
              <a:gd name="adj1" fmla="val 50000"/>
              <a:gd name="adj2" fmla="val 32910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02080" y="3213000"/>
            <a:ext cx="601560" cy="792360"/>
          </a:xfrm>
          <a:prstGeom prst="downArrow">
            <a:avLst>
              <a:gd name="adj1" fmla="val 50000"/>
              <a:gd name="adj2" fmla="val 32929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C4CA-A27E-4A05-A59C-B7F8C8478EC2}" type="slidenum">
              <a:t>5</a:t>
            </a:fld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1920" y="1819440"/>
          <a:ext cx="9304200" cy="838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1819440"/>
                    <a:ext cx="9304200" cy="83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6019920" y="63849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52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0D3C-B5ED-42AA-A081-DAFF690C3CB4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6560" y="2860560"/>
          <a:ext cx="8498160" cy="805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860560"/>
                    <a:ext cx="8498160" cy="805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43496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38ED-2DE8-46DB-86C8-FA6895A3F295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68360" y="2300400"/>
          <a:ext cx="8424720" cy="84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00400"/>
                    <a:ext cx="8424720" cy="84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C357-B360-4CA7-B419-42460636D639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68360" y="2133720"/>
          <a:ext cx="8136000" cy="835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133720"/>
                    <a:ext cx="8136000" cy="83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E5F2-AB31-4A14-9375-F751723BC6BE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saeed dawas</cp:lastModifiedBy>
  <dcterms:modified xsi:type="dcterms:W3CDTF">2004-05-30T23:05:20Z</dcterms:modified>
  <cp:revision>28</cp:revision>
  <dc:subject/>
  <dc:title>التحليل المالي والائتماني</dc:title>
</cp:coreProperties>
</file>