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956-30FB-43FC-96A3-4417CC90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E19-87EA-4125-A5A3-DE99BC7D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DD26-0D34-4E58-8889-289734E1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791A-0F97-46E2-821B-D1D96D01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CFEC-183A-4295-B780-50027829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9B4-6C6F-4251-A3CE-217D6200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209-E05B-405B-94C4-47D26D8D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D013-F46C-417B-824A-09311038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F05-21AF-45B8-95A6-2D31056D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21DF-3AF3-4DD3-96A8-2DAAC7DB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840-3B28-43CB-98BD-CAE779B8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08F-EAC8-429D-962A-6CF6492B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1CC8-FC8D-4F18-BFC4-BEDC92F07E9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860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شائعة الاستخد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خام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A6E4-9B4E-4842-9CC1-B3241C723B43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73920" y="1916280"/>
            <a:ext cx="358920" cy="1728720"/>
          </a:xfrm>
          <a:prstGeom prst="upDownArrow">
            <a:avLst>
              <a:gd name="adj1" fmla="val 50000"/>
              <a:gd name="adj2" fmla="val 95883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27664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6920" y="3679920"/>
            <a:ext cx="309744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3139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– توزيعات الأسهم الممتا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توسط المرجح لعدد الاسهم الع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3822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74880" y="4076640"/>
            <a:ext cx="338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92564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BC0E-BD0E-4551-8321-E4EE01530FCD}" type="slidenum">
              <a:t>10</a:t>
            </a:fld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صافي الربح إلى الفوائ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قبل الفوائ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وائد المستحق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مجموع الأصو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287D-4BE0-4D6C-8537-F7E3DE3E4F56}" type="slidenum">
              <a:t>11</a:t>
            </a:fld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6920" y="4832280"/>
            <a:ext cx="331308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خصوم طويلة الأجل إلى    الخصوم طويلة الأجل مضافاً إليها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طويلة الأج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خصوم طويلة الأجل + حقوق الملك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AD0C-3799-4E15-8D47-E6BAA3080667}" type="slidenum">
              <a:t>12</a:t>
            </a:fld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84280" y="1838520"/>
            <a:ext cx="17762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738840" y="1838520"/>
            <a:ext cx="17456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 fontScale="92000"/>
          </a:bodyPr>
          <a:p>
            <a:pPr marL="315360" indent="-3153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 (سداد الالتزامات قصير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3260880"/>
            <a:ext cx="1847880" cy="314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257640"/>
            <a:ext cx="2016000" cy="3124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المبيع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إجمالي الأ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360" y="1793880"/>
            <a:ext cx="1764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الوفاء بالديون (طويل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68840" y="3260880"/>
            <a:ext cx="1847880" cy="314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الى مجموع الا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إ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فائد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اعباء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92280"/>
            <a:ext cx="7848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رئي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708280"/>
            <a:ext cx="142920" cy="433440"/>
          </a:xfrm>
          <a:prstGeom prst="downArrow">
            <a:avLst>
              <a:gd name="adj1" fmla="val 50000"/>
              <a:gd name="adj2" fmla="val 758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180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7972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811160"/>
            <a:ext cx="176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7813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79760" y="3259080"/>
            <a:ext cx="1847880" cy="3146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453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8252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BB55-B932-471D-8840-82EC59FF58A2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02000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47280" y="177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-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262160" y="515772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97B-CF57-431A-BD91-B6A526BE54A4}" type="slidenum">
              <a:t>3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دية في الصندوق والبنوك + استثمارات في اوراق ما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06520" y="198900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– 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4CE-46CD-4C31-9E33-DDF3995F3560}" type="slidenum">
              <a:t>4</a:t>
            </a:fld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9080" y="1447920"/>
            <a:ext cx="273672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صافي المبيعات الآج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065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حص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7744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6DBD-A1C8-4C59-A56B-EEAFDF4271EB}" type="slidenum">
              <a:t>5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1447920"/>
            <a:ext cx="273708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907920"/>
            <a:ext cx="403884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كلفة البضاعة المبا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86920" y="191628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108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4832280"/>
            <a:ext cx="280836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خز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292640"/>
            <a:ext cx="403884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108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237-BCE5-4718-B68B-419E56C3B8ED}" type="slidenum">
              <a:t>6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متدا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589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رأس المال العا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58920" y="5183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244C-1FC6-433D-A1D0-1A05583A40AF}" type="slidenum">
              <a:t>7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إجمالي الأصول (إجمالي الاستثما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FE33-08A0-4529-AF45-D20A46E1182F}" type="slidenum">
              <a:t>8</a:t>
            </a:fld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من النشاط الرئيس إلى صافي المبيع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دخل من العمليات الرئيس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حقوق المساهم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64C-DAA4-4CAA-A516-2F93F38F317E}" type="slidenum">
              <a:t>9</a:t>
            </a:fld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8:19:27Z</dcterms:created>
  <dc:creator>**</dc:creator>
  <dc:description/>
  <dc:language>en-US</dc:language>
  <cp:lastModifiedBy>****</cp:lastModifiedBy>
  <dcterms:modified xsi:type="dcterms:W3CDTF">2003-12-07T23:54:56Z</dcterms:modified>
  <cp:revision>23</cp:revision>
  <dc:subject/>
  <dc:title>المؤشرات المالية</dc:title>
</cp:coreProperties>
</file>