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5555-C86A-4187-A7FA-F786A75B2A1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B584-4EA2-4B1A-ABBA-91E756C494D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8D86-FF36-4CCD-A6AB-E9949FDD9B2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B9C8-0C1D-4BAE-8C20-CB424947C2C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194F-3B32-4665-9181-B98A0C2190C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C3C9-1E98-41EC-92A9-1748CC03E99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D7F3-FF21-4C25-B577-DBD9BFA744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A759-134E-47E1-9401-0AAC2E4B836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D178-E541-4D30-8C05-E4FFB80B97D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C2A6-9788-41C7-869D-731CC0D1B16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6631-EF13-4433-B8CF-4DBF0181C00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39F5-D1BE-4B62-8B9F-FA5E0902952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E5AF-48C0-430D-B104-86388712FC0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EF3C-0BDA-4BBC-A847-D27EE70E74A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67A2-A09D-4910-A8D5-E437BD8A83A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01CE-8450-43C9-AA8D-77062A3855F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FA24-F00C-4863-A2DC-C08123F0D85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AE6A-1A67-4B1D-B054-F786A5B33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9A8E-AA4A-491E-9715-FAA818CAD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0B14-D9F3-413E-9A20-E15DF1B20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51E8-E394-4B45-9047-8E1C6C21E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D812-8C29-4E94-BE77-F87E46BDB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6336-91EC-4909-A3D2-FC504E825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B698-AB02-4530-BA3F-5A417C9CC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B46E-ABBF-4765-A2F1-F93DD1B5E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AA0B-0916-4B5A-9449-112D9AE9A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E212-86EF-484A-82A3-C8CA6257D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C8A7-3C7F-4CA2-90FA-08DBEC1F3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1649-F0E2-4A16-8553-C36BD1AD5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2-</a:t>
            </a:r>
            <a:fld id="{21526477-CD92-4641-A744-BE989B120EF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©2003 Prentice Hall Business Publishing,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, 9/e, Romney/Steinbar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7086240" y="60958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B4F4C562-0AB6-4ABA-9C91-A96F9FDB9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3720" y="60958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©2003 Prentice Hall Business Publish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, 9/e, Romney/Steinb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صل الثاني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Business Processe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لسلسلة العمليات التج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ch processing is the periodic updating of the data stored about resources and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عالجة الرزم هي تحديث للبيانات المخزنة عن المصادر والعملاء بشكل 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, real-time processing is the immediate updating as each transaction occu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عالجة المباشرة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ي الوقت الحقيق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تحديث للبيانات في وقت وقوع كل حدث تجا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Process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4CF7-03F1-4E30-9163-8C3DA8C8BBA6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tity is something about which informatio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كيانات أو الأشياء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ضاعة، موظف، زبون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الأشياء التي يتم تخزين معلومات ع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attributes or characteristics of interest, which need to be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لكل كيان صفات أو خصائص ذات أهمية، والتي بحاجة لتخز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Storag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تخزين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6A8F-F8B2-4628-A0DA-304A6DF6FF94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أحداث التجارية في اليو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ransaction data have been captured on source documents, the next step is to record the data in a jour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أخذ بيانات الحدث التجاري على وثائق أصلية، تكون الخطوة التالية بتسجيلها في اليوم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al entry is made for each transaction showing the accounts and amounts to be debited and cred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د يومية يعمل لكل حدث تجاري، ويظهر الحسابات وقيمها المدينة والدائن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journal records infrequent or nonroutin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دفتر اليومية نادرة أو ليست روتينية الأحداث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journals simplify the process of recording large numbers of repetitiv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يات المتخصصة تسهل إجراءات تسجيل الأرقام الكبيرة للأحداث التجارية السابق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most common types of transactions: Credit sales, Cash receipts, Purchases on account, Cash disburs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02A4-10E3-452C-B26F-B63CC58FF768}" type="slidenum">
              <a:t>12</a:t>
            </a:fld>
          </a:p>
        </p:txBody>
      </p:sp>
    </p:spTree>
  </p:cSld>
  <p:transition advTm="4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gers are used to summarize the financial status, including the current balance, of individual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يستخدم لتلخيص الوضع المالي لكل حساب على حده، إضافة لرصيد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contains summary-level data for every asset, liability, equity, revenue, and expense account of an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دفتر الأستاذ العام على بيانات ملخصة لحسابات الأصول، والخصوم، وحقوق الملكية، والإيرادات، والمصاريف في للمنشأ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idiary ledger records all the detailed data for any general ledger account that has many individual sub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يسجل كل البيانات المفصلة لأي حساب أستاذ عام له العديد من الحسابات الفرع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FDB5-C4A9-4E43-8FAA-3B1E3EED8F40}" type="slidenum">
              <a:t>13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monly used subsidiary ledgers: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اتر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المساعد المست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receiv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ory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للمخزو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pay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account corresponding to a subsidiary ledger called control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ى حساب الأستاذ العام الممثل للأستاذ الفرعي بحساب السيطرة أو التحك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rol account contains the total amount for all individual accounts in the subsidiary led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وي حساب التحكم القيمة الكاملة لكل الحسابات المنفردة في الأستاذ المساع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B5F7-51A2-4701-9F03-AC3135412969}" type="slidenum">
              <a:t>14</a:t>
            </a:fld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hart of Accounts</a:t>
            </a:r>
            <a:br>
              <a:rPr sz="3400"/>
            </a:b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خريطة الحسا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rt of accounts is a list of all general ledger accounts used by an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خريطة الحسابات هي قائمة بكل حسابات الأستاذ العام والتي تستخدم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hat the chart of accounts contains sufficient detail to meet the information needs of the organ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ن المهم تحتوي خريطة الحسابات على تفاصيل كافية لتقابل المعلومات التي تحتاج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BCAF-ACFD-4B9F-9940-25E2C174A9AC}" type="slidenum">
              <a:t>15</a:t>
            </a:fld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formation for Decision Making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معلومات لاتخاذ القرار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AIS is to provide management with information useful for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نية لنظام المعلومات المحاسبية هي تزويد الإدارة بمعلومات نافعة في اتخاذ الق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an AIS provides falls into two main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تي يزودها نظام المعلومات المحاسبية تقع ضمن فئتان رئيسيتان 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4B78-D0C5-4E85-A06B-1C56248A413E}" type="slidenum">
              <a:t>16</a:t>
            </a:fld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ancial Statements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الكشوف/التقارير المال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تسو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adjusted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 بعد التسويات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income statemen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دخل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los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إغلاق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balance shee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مركز المال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يزان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statement of cash flow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قائمة التدفقات النقد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7D97-2890-47F5-91EC-2283A145A9EF}" type="slidenum">
              <a:t>17</a:t>
            </a:fld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       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S must also be able to provide managers with detailed operational information about the organization’s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يكون نظام المعلومات المحاسبية قادراً على تزويد الإداريين بمعلومات عملية ومفصلة عن أداء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types of managerial reports are:    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تقريران إداري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: which is the formal expression of goals in financial terms (e.g. Cash Budge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 التقديرية: وهي تعبير منهجي عن الأهداف من خلال بنود مالية (مثل موازنة نقدي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reports: lists the budgeted and actual amounts of revenues and expenses and also shows the variances, or differences, between these two amou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: يقارن بين الموازنة التقديرية والقيم الحقيقية للإيرادات والمصاريف والفروقات بينهم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E7F4A-3B5D-46F3-A631-4B8324A72F02}" type="slidenum">
              <a:t>18</a:t>
            </a:fld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Co. Monthly Performance Report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 الشهري لشركة ماجي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علي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ر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od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لفة البضائع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4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Margin 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مالي الدخل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ريف أخر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Income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خل من التشغي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ial Reports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قارير الإدار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CE9E-61E7-4D4D-8C68-F9BDABBDD716}" type="slidenum">
              <a:t>19</a:t>
            </a:fld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and store data about the organization’s business activities and transactions efficiently and effective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ميع وتخزين البيانات المتعلقة بالأشطة والأحداث التجارية للمنشأة التجارية بكفائة وفاعلي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transaction data on source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بيانات الحدث التجاري على وثائق أصل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, which present a chronological record of what occur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حدث التجاري في دفتر اليومية، بشكل يظهر ترتيب حدوثها الزمن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data from journals to ledgers, which sort data by accoun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بيانات من اليومية إلى الأستاذ، والذي يخزن البيانات حسب نوع الحسا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B8A0-8453-40A8-8F26-57D6415D2BF8}" type="slidenum">
              <a:t>2</a:t>
            </a:fld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ontrol Consideration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بارات الرقابة الداخل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function of an AIS is to provide adequate internal controls to accomplish three basic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لثة لنظام المعلومات المحاسبية هي التزويد بمراقة داخلية ملائمة لتحقيق ثلاثة أهداف رئيس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is reliable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يعتمد عليها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ثوقٌ ب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ُنجزت بشكل فعّ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important methods for accomplishing these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رقتان المهمتان لتحقيق تلك الأهدا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adequate documentation of all business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د بالتوثيق الملائم لكل الأنشطة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AIS for effective segregation of du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ميم نظام معلومات محاسبي فعّال في فصل الواجب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C38E-2022-4094-A4AE-D7958FFDF373}" type="slidenum">
              <a:t>20</a:t>
            </a:fld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Documentation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الملائ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allows management to verify that assigned responsibilities were comple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يتيح للإدارة للتحقق من أن المسؤوليات المخصصة (المحددة) أنجزت بشكل صحيح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438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     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8120"/>
            <a:ext cx="746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refers to dividing responsibility for different portions of a transaction among several peopl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 تعزى إلى تقسيم المسؤوليات لمختلف أجزاء الحدث التجاري بين عدّة أشخاص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should be performed by different people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ائف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هام الواجب إنجازها من قبل الأشخاص المختلفين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z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ويض ب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custody of asset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حتفاظ برعاية الأصول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0EAE-574D-4C08-B0B3-C6C126E21C52}" type="slidenum">
              <a:t>21</a:t>
            </a:fld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management with information useful for decision mak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إدارة بمعلومات نافعة في اتخاذ القرار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 systems, this information is provided in the form of reports that fall into two main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نظام اليدوي يتم تزويد هذه المعلومات على شكل تقارير تقع ضمن فئتان رئيستان هما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المال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3880" y="419040"/>
            <a:ext cx="746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6EC7-40A8-4A9A-BF1E-A5DDBA766427}" type="slidenum">
              <a:t>3</a:t>
            </a:fld>
          </a:p>
        </p:txBody>
      </p:sp>
    </p:spTree>
  </p:cSld>
  <p:transition advTm="4000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dequate internal contr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يد بمراقبة داخلية ملائم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produced by the system is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الناتجة عن النظام يعتمد عليها (موثوقٌ بها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 and in accordance with management’s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نجزت بشكل فعّال ومنسجم مع أهداف الإدا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A254-B6F3-42EE-A292-2721BD98EE86}" type="slidenum">
              <a:t>4</a:t>
            </a:fld>
          </a:p>
        </p:txBody>
      </p:sp>
    </p:spTree>
  </p:cSld>
  <p:transition advTm="5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evenue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selling goods or services and collecting payment for those s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يراد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بيع البضائع والخدمات وتحصيل التسديدات لتلك المبي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xpenditure cycle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activities of buying and paying for goods or services used by the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صروف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شراء البضائع والخدمات المستخدمة من قبل المنشأة، وتسديد ثم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human resources/payroll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hiring and paying employ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وارد البشرية/رواتب العاملين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عيين ودفع رواتب الموظف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10B6-7D7F-420A-ADC7-33C606AC4AEE}" type="slidenum">
              <a:t>5</a:t>
            </a:fld>
          </a:p>
        </p:txBody>
      </p:sp>
    </p:spTree>
  </p:cSld>
  <p:transition advTm="4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duction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converting raw materials and labor into finished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نتاج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حويل للمواد الخام والعمالة إلى بضائع جاهز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financing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obtaining necessary funds to run the organization, repay creditors, and distribute profits to inv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تمويل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الحصول على الاعتمادات المالية اللازمة لتشغيل المنشأة، وتسديد المقرضين، وتوزيع الأرباح على المستثمر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77BD-6500-4723-88FB-B41D788ED2CB}" type="slidenum">
              <a:t>6</a:t>
            </a:fld>
          </a:p>
        </p:txBody>
      </p:sp>
    </p:spTree>
  </p:cSld>
  <p:transition advTm="3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371600" y="1752480"/>
            <a:ext cx="6781320" cy="3733560"/>
            <a:chOff x="1371600" y="1752480"/>
            <a:chExt cx="6781320" cy="3733560"/>
          </a:xfrm>
        </p:grpSpPr>
        <p:sp>
          <p:nvSpPr>
            <p:cNvPr id="108" name=""/>
            <p:cNvSpPr/>
            <p:nvPr/>
          </p:nvSpPr>
          <p:spPr>
            <a:xfrm>
              <a:off x="36914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Expenditur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مصروف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16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Human Resource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الموارد البشرية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8248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Production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نتاج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40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Revenu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يراد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Financing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تمويل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7160" y="3293640"/>
              <a:ext cx="5829840" cy="8888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1a00"/>
                  </a:solidFill>
                  <a:latin typeface="Times New Roman"/>
                </a:rPr>
                <a:t>General Ledger &amp; Reporting System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الأستاذ العام  </a:t>
              </a:r>
              <a:r>
                <a:rPr b="0" lang="ar-JO" sz="2000" spc="-1" strike="noStrike">
                  <a:solidFill>
                    <a:srgbClr val="1a1a00"/>
                  </a:solidFill>
                  <a:latin typeface="Times New Roman"/>
                </a:rPr>
                <a:t>+  </a:t>
              </a: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ونظام التقارير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224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534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228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62440" y="2761200"/>
              <a:ext cx="0" cy="53208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0760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F088-98BD-42E7-BD78-4A553B9836F0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 consists of four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ألف دورة معالجة البيانات من خمسة خطوات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خال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orage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زين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الجة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ut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راج المعلوم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gger for data input is usually business activity.  Data must be collected abo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در البيانات عادة ما يكون الأنشطة التجارية. ويجب جمع البيانات ع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vent of interest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حدث ذا أهم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ources affected by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ادر المتأثرة ب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ents who participate in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 المشاركين في 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F1F9-59EC-45EF-8500-39AA2C7AC720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Inpu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إدخال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ly, most businesses used paper source documents to collect data and then transferred that data into a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ريخياً، معظم الأعمال التجارية استخدمت وثائق أصلية ورقية لتجميع البيانات ومن ثم نقلها على الحاسب الآل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most data are recorded directly through data entry scre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، يتم تسجيل معظم البيانات من خلال شاشات إدخال مباش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ver data collection is improved by: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يطرة على تجميع البيانات تحسن ب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umbering each source document  and using turnaround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قيم المسبق لكل وثيقة أصلية واستخدام إعادة الوثائ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ystem automatically assign a sequential number to each new transac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عل النظام يعين رقماً تسلسلي لكل حدت جد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ing source data automa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صدر آلي ل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FC4C-C488-4565-B0E4-4E1191297935}" type="slidenum">
              <a:t>9</a:t>
            </a:fld>
          </a:p>
        </p:txBody>
      </p:sp>
    </p:spTree>
  </p:cSld>
  <p:transition advTm="5000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7:18:51Z</dcterms:created>
  <dc:creator>S. Bhattacharya</dc:creator>
  <dc:description/>
  <dc:language>en-US</dc:language>
  <cp:lastModifiedBy>dr-mahmood</cp:lastModifiedBy>
  <cp:lastPrinted>2004-09-25T05:48:13Z</cp:lastPrinted>
  <dcterms:modified xsi:type="dcterms:W3CDTF">2005-03-04T04:55:49Z</dcterms:modified>
  <cp:revision>112</cp:revision>
  <dc:subject/>
  <dc:title>Accounting  Information  Systems 9th Edition</dc:title>
</cp:coreProperties>
</file>