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0fef9"/>
          </a:solidFill>
          <a:ln w="5724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05600" y="231840"/>
            <a:ext cx="201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- </a:t>
            </a:r>
            <a:fld id="{C42C7899-A6E7-4A33-86DD-B1C6BC28F60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400800"/>
            <a:ext cx="792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right © 2002 by Harcourt, Inc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09480" y="685800"/>
            <a:ext cx="7925040" cy="14479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85800" y="779400"/>
            <a:ext cx="777240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CHAPTER 1</a:t>
            </a:r>
            <a:br>
              <a:rPr sz="3600"/>
            </a:b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n Overview of Financial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2286000"/>
            <a:ext cx="681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le of financial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eer opportun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s of business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 of the 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sues of the new millen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cy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mer welfare is higher in capitalist free market economies than in communist or socialist economi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rtu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lists the most admired firms.  In addition to high stock returns, these firms hav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quality from customers’ 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loyees who like working the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914400" y="26301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moun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cash flows expected by sharehold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im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the cash flow stre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Risk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the cash flo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7240" y="809640"/>
            <a:ext cx="7693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actors that Affect Stock Pr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914400" y="19051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rent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rt-term growth rate in sa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-term sustainable growth rate in sa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expen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al expen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7240" y="809640"/>
            <a:ext cx="7693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hree Determinants of Cash F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5040" y="711360"/>
            <a:ext cx="7899480" cy="9651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actors that Affect the Level and 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Risk of Cash Flows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s made by financial manager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stment decisions (product lines, production processes, geographic market, use of technology, marketing strateg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ncing decisions (choice of debt policy and dividend policy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external environ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5040" y="711360"/>
            <a:ext cx="789948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99920" y="2590920"/>
            <a:ext cx="754380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of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omputer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electronic transfer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globaliz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busin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7240" y="765000"/>
            <a:ext cx="76932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Financial Management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ssues of the New Millen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1904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gency relationsh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xists whenever a principal hires an agent to act on his or her behalf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in a corporation, agency relationships exist between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eholders and manag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eholders and credi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809640"/>
            <a:ext cx="7925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gency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440" y="20574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rs are naturally inclined to act in their own best interes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the following factors affect managerial behavior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erial compensation pla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 intervention by sharehold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hreat of fi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hreat of takeov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9040" y="762120"/>
            <a:ext cx="7692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hareholders versus Mana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716292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eholders (through managers) could take actions to maximize stock price that are detrimental to creditor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the long run, such actions will raise the cost of debt and ultimately lower stock pric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7240" y="809640"/>
            <a:ext cx="7693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hareholders versus Credi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5040" y="711360"/>
            <a:ext cx="7873920" cy="104112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90720" y="228600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causes a company to have a particular stock valu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can managers make choices that add value to their compani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can managers ensure that their companies don’t run out of cash while executing their plan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685800"/>
            <a:ext cx="77691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What three questions does financial management seek to answ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5040" y="711360"/>
            <a:ext cx="787392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90720" y="25905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itutions and capital marke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st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ncial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7240" y="795240"/>
            <a:ext cx="7769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areer Opportunities in Fi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711360"/>
            <a:ext cx="7899480" cy="11937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638360" y="2590920"/>
            <a:ext cx="586728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e proprietor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ner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po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7240" y="733320"/>
            <a:ext cx="76932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Alternative Forms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Business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se of 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bject to few regul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corporate income tax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ed lif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limited li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fficult to raise capit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7240" y="762120"/>
            <a:ext cx="7693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ole Proprieto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799920" y="259056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partnership has roughly the same advantages and disadvantages as a sole proprietorship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809640"/>
            <a:ext cx="7772400" cy="576360"/>
          </a:xfrm>
          <a:prstGeom prst="rect">
            <a:avLst/>
          </a:prstGeom>
          <a:solidFill>
            <a:srgbClr val="c0fe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Partn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limited lif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sy transfer of ownershi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mited li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se of raising capit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uble tax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 of set-up and report fi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7240" y="809640"/>
            <a:ext cx="7693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35040" y="711360"/>
            <a:ext cx="7899480" cy="736560"/>
          </a:xfrm>
          <a:prstGeom prst="rect">
            <a:avLst/>
          </a:prstGeom>
          <a:solidFill>
            <a:srgbClr val="c0fef9"/>
          </a:solidFill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rimary goal is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hareholder wealth maximiz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which translates to maximizing stock pric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uld firms behave ethically? 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YES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firms have any responsibilities to society at large?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YES!  Shareholders are also members of societ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240" y="809640"/>
            <a:ext cx="7693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Goals of the 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solidFill>
            <a:srgbClr val="c0fef9"/>
          </a:solidFill>
          <a:ln w="57240">
            <a:solidFill>
              <a:srgbClr val="ff00f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Is maximizing stock price good for society, employees, and customers?</a:t>
            </a:r>
            <a:endParaRPr b="1" lang="en-US" sz="32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loyment growth is higher in firms that try to maximize stock price. On average, employment goes up in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ms that make managers into owners (such as LBO fir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ms that were owned by the government but that have been sold to private inves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8T14:21:22Z</dcterms:created>
  <dc:creator>Lou Gapenski and Mike Ehrhardt</dc:creator>
  <dc:description/>
  <dc:language>en-US</dc:language>
  <cp:lastModifiedBy>Brian E. Moffitt</cp:lastModifiedBy>
  <cp:lastPrinted>1998-05-18T17:39:09Z</cp:lastPrinted>
  <dcterms:modified xsi:type="dcterms:W3CDTF">2001-05-15T16:46:09Z</dcterms:modified>
  <cp:revision>30</cp:revision>
  <dc:subject>Powerpoint Show</dc:subject>
  <dc:title>FM10 Ch 01</dc:title>
</cp:coreProperties>
</file>