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Img"/>
          </p:nvPr>
        </p:nvSpPr>
        <p:spPr>
          <a:xfrm>
            <a:off x="118080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8116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360" y="635040"/>
            <a:ext cx="772128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1360" y="635040"/>
            <a:ext cx="7721280" cy="109224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99120" y="16020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</a:t>
            </a:r>
            <a:fld id="{9C82156C-B7E8-4154-9CC5-398DA40325D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877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ment of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ounting income versus cash fl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and E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1120" y="809640"/>
            <a:ext cx="77058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ial Statements,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sh Flow, and T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net operating working capital (NOWC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1760" y="3657600"/>
            <a:ext cx="853452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($7,282 + $632,160 + $1,287,3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($524,160 + $489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913,04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1706400"/>
                <a:tab algn="r" pos="748188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93,8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94560" y="2577960"/>
            <a:ext cx="32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      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4120" y="238428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3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W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expansion have on capital used i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263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WC + Net fixed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913,042 + $939,7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852,832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828800"/>
                <a:tab algn="r" pos="313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3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9920" y="340668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9920" y="5159520"/>
            <a:ext cx="2100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9920" y="2057400"/>
            <a:ext cx="2100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89948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id the expansion create additional net operating profit after taxes (NOPAT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 = EBIT(1 - Tax rat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1 - 0.4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690,560(0.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14,336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1886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25,4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your initial assessment of the expansion’s effect on operation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1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0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834,40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3,432,0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P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$414,336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46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913,04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793,800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ng capit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852,83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13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r" pos="52578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038480" y="2743200"/>
            <a:ext cx="19814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743200"/>
            <a:ext cx="1828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5040" y="711360"/>
            <a:ext cx="7873920" cy="16938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did the company’s expansion have on its net cash flow and operating cash f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9360" y="262584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I + D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519,9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402,9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2600" y="3500280"/>
            <a:ext cx="821052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r" pos="206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87,960 + $18,90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6,8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9360" y="4103640"/>
            <a:ext cx="8210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NOPAT + D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+ $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297,37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8560" y="5419800"/>
            <a:ext cx="82105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C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25,460 + $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20816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44,36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as the free cash flow (FCF)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or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CF = NOPAT - Net capital investmen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($1,852,832 - $1,138,6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-$414,336 - $714,23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1,128,568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you suppose investors reac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5040" y="711360"/>
            <a:ext cx="7873920" cy="2108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560" y="804960"/>
            <a:ext cx="77058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company’s E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the firm’s after-tax cost of capital (COC) was 11% i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nd 13%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000" y="3124080"/>
            <a:ext cx="6926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NOPAT- (COC)(Capi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(0.13)($1,852,8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-$414,336 - $240,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-$655,2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51040" y="5024520"/>
            <a:ext cx="739116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(0.11)($1,138,6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$125,460 - $125,2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254240"/>
                <a:tab algn="l" pos="3368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$21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80496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you co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at the expansion increased or decreased MV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2640" y="3014640"/>
            <a:ext cx="743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VA =                         -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82720" y="4267080"/>
            <a:ext cx="741996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the last year stock price has decreased 73%, so market value of equity has declined.  Consequently, MVA has decl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63560" y="2820960"/>
            <a:ext cx="282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quity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06880" y="2820960"/>
            <a:ext cx="264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467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no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P increased 260% over the past year, while sales increased by only 70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is continues, suppliers may cut off trade credi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 pay its suppliers on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47880" y="3074760"/>
            <a:ext cx="7248240" cy="22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negative NOPAT shows that the company is spending more on it’s operations than it is taking 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it appear that the sales price exceeds the cost per unit so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lance Sheets:  Asse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62120" y="1676520"/>
          <a:ext cx="7619760" cy="4635360"/>
        </p:xfrm>
        <a:graphic>
          <a:graphicData uri="http://schemas.openxmlformats.org/drawingml/2006/table">
            <a:tbl>
              <a:tblPr/>
              <a:tblGrid>
                <a:gridCol w="3124080"/>
                <a:gridCol w="2133720"/>
                <a:gridCol w="304560"/>
                <a:gridCol w="2057400"/>
              </a:tblGrid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8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-term inv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nto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87,3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26,8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4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2,9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1,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: Depr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,1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F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9,79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4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asse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6,59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68,8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120" y="2895480"/>
            <a:ext cx="797544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571680" indent="-5716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offers 60-day credit terms.  The improved terms are matched by its competitors, so sales remain con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2560" y="762120"/>
            <a:ext cx="77058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effect would each of these actions have on the cash accou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0600" y="5102280"/>
            <a:ext cx="6853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/R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would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7600" y="1190520"/>
            <a:ext cx="77425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 double as a result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credit ter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93480" y="2403000"/>
            <a:ext cx="6853320" cy="376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-run:  Inventory and fixed asset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eet increased sales.  A/R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Ca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 Company may have to seek additional financi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run:  Collections increase and the company’s 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666520"/>
            <a:ext cx="75042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pansion was financed primarily with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xternal capi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mpany issue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hich reduced its financial strength and flexibil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2560" y="80496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ow was the expansion finan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ould external capital have been required if they had broken even in 2001 (Net income = 0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1960" y="3471480"/>
            <a:ext cx="7480080" cy="12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company would still have to finance its increase in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happens if fixed assets are depreciated over 7 years (as opposed to the current 10 years)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23400" y="2952360"/>
            <a:ext cx="7504200" cy="350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effect on physical asse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d assets on balance sheet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payments would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position would improv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policies tha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n affect financial statement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0440" y="3016080"/>
            <a:ext cx="7504200" cy="23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valuation metho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ization of R&amp;D expens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cies for funding the company’s retirement pla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175248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Does the company’s positive stock price ($2.25), in the face of large losses, suggest that investors are irrational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6720" y="3457080"/>
            <a:ext cx="6551640" cy="22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N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means that investors expect things to get better in the futu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y did the stock price fal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fter the dividend was cut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7713720" cy="302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ment was “signaling” that the firm’s operations were in troubl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idend cut lowered investors’ expectations for future cash flows, which caused the stock price to declin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12193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were some other sources of financing used in 2001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2440" y="2322000"/>
            <a:ext cx="7899120" cy="415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elling financial asse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Short term investments decreased by $48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ank loan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Notes payable increased by $520,0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redit from supplier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/P increased by $378,5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mploye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Accruals increased by $353,60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5040" y="711360"/>
            <a:ext cx="787392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9200" y="774720"/>
            <a:ext cx="7721640" cy="109224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is the effect of the $346,624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credit received in 2001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4520" y="2425680"/>
            <a:ext cx="8293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suggests the company paid at least $346,624 in taxes during the past 2 years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payments over the past 2 years were less than $346,624 the firm would have had to carry forward the amount of its loss that was not carried back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f the firm did not receive a full refund its cash position would be even wor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8640" y="37242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733,7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762120"/>
            <a:ext cx="77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Liabilities and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44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95680" y="216072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2760" y="2550960"/>
            <a:ext cx="2912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t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6496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4,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14520" y="25509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5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8520" y="2941560"/>
            <a:ext cx="293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6496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2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4520" y="294156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960" y="3333600"/>
            <a:ext cx="1897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8640" y="33336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9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84120" y="33336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8520" y="372420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14520" y="37242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1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7800" y="4114800"/>
            <a:ext cx="3162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-term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8640" y="411480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4520" y="41148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,4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240" y="4505400"/>
            <a:ext cx="3116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6496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914520" y="450540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800" y="4897440"/>
            <a:ext cx="3703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489744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60360" y="48974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8160" y="5288040"/>
            <a:ext cx="302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42760" y="52880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8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0360" y="528804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63,7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880" y="5678640"/>
            <a:ext cx="2079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L&amp;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86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6,5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44440" y="567864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468,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419360" y="2629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419360" y="3809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400280" y="5353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19360" y="57531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419360" y="61340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19360" y="62103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553080" y="26290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3809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534000" y="5353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553080" y="57531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553080" y="613404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621036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711360"/>
            <a:ext cx="792504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762120"/>
            <a:ext cx="79250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Tax Year Single Individual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7240" y="188604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68520" y="188604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46000" y="188604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1480" y="25970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4840" y="25970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7600" y="25970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1480" y="30700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,620 - 63,5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80800" y="3068640"/>
            <a:ext cx="1760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937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0" y="30700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1120" y="354168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3,550 - 132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3360" y="3541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,381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167600" y="35416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1120" y="401652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2,600 -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63360" y="4016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,78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7600" y="4016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1480" y="4489560"/>
            <a:ext cx="2687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288,3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1280" y="4495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1,857.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67240" y="4489560"/>
            <a:ext cx="13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274320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your salary is $45,000, and you received $3,000 in dividends.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ou are single, so your personal exemption is $2,800 and your itemized deductions are $4,550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68996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the basis of the information above and the 2000 tax year tax rate schedule, what is your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800" y="804960"/>
            <a:ext cx="769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lculation of 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8680" y="2386080"/>
            <a:ext cx="140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6000" y="2386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880" y="3014640"/>
            <a:ext cx="212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0600" y="30146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6520" y="3641760"/>
            <a:ext cx="426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exe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55280" y="364176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,8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160" y="4272120"/>
            <a:ext cx="239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61400" y="4272120"/>
            <a:ext cx="146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,5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7240" y="49006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79880" y="49006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816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54100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81680" y="54864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923400" y="1905120"/>
            <a:ext cx="7534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Liabilit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3,937.50 + 0.28($14,4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7,969.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ginal Tax Rate =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Tax Rat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 rate =                 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9.6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659480" y="880920"/>
            <a:ext cx="3587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 - $26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5759280" y="1712520"/>
            <a:ext cx="838440" cy="460440"/>
          </a:xfrm>
          <a:prstGeom prst="rightArrow">
            <a:avLst>
              <a:gd name="adj1" fmla="val 50000"/>
              <a:gd name="adj2" fmla="val 91056"/>
            </a:avLst>
          </a:prstGeom>
          <a:solidFill>
            <a:srgbClr val="fafd00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2760" y="4873680"/>
            <a:ext cx="19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$9,969.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6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9040" y="79524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2000 Corporate Tax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7240" y="176688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68520" y="17668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ax on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6000" y="1766880"/>
            <a:ext cx="1220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te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600" y="2478240"/>
            <a:ext cx="200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- 5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01680" y="247824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67600" y="247824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7600" y="2951280"/>
            <a:ext cx="302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,000 - 7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09680" y="295128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67600" y="295128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7240" y="3422520"/>
            <a:ext cx="324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5,000 - 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83960" y="342252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,7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7600" y="342252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87600" y="3897360"/>
            <a:ext cx="347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 - 33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683960" y="389736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,2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167600" y="389736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7600" y="4680000"/>
            <a:ext cx="2348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 18.3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3800" y="468000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4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7600" y="4680000"/>
            <a:ext cx="99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42840" y="5402160"/>
            <a:ext cx="76996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*Plus this percentage on the amount over the                bracket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5187960"/>
            <a:ext cx="229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56000" y="4243320"/>
            <a:ext cx="6966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                     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...          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925040" cy="21337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ssume a corporation has $100,000 of taxable income from operations, $5,000 of interest income, and $10,000 of dividend income.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s tax liabilit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895320"/>
            <a:ext cx="363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69840" y="89532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880" y="1401840"/>
            <a:ext cx="3183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48080" y="140184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1908000"/>
            <a:ext cx="347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divid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960" y="2298600"/>
            <a:ext cx="160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57440" y="2298600"/>
            <a:ext cx="135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000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7240" y="2689200"/>
            <a:ext cx="3227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able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69840" y="268920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0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7240" y="3701880"/>
            <a:ext cx="57898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22,250 + 0.39 ($8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25,37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4720" y="5221440"/>
            <a:ext cx="66553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Dividends - Ex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$10,000 - 0.7($10,000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,0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43640" y="31939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443640" y="327672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443640" y="2801880"/>
            <a:ext cx="166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971640" y="2577600"/>
            <a:ext cx="7434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 and local government bonds (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unicipa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or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“munis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are generally exempt from federal tax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axable versus Tax Exempt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82760" y="1523880"/>
            <a:ext cx="833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 bonds at 10% versus California muni bonds at 7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Tax rate = 28%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ter-tax interest incom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x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 - 0.10($5,000)(0.2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528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0.10($5,000)(0.72)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6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560" indent="0">
              <a:spcBef>
                <a:spcPts val="799"/>
              </a:spcBef>
              <a:buNone/>
              <a:tabLst>
                <a:tab algn="l" pos="0"/>
                <a:tab algn="l" pos="1649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 = 0.07($5,000) - 0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35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152360" y="2558520"/>
            <a:ext cx="6824880" cy="33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ve for T in this equ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ni yie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Corp Yield(1-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0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10.0%(1-T)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216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30.0%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9040" y="762120"/>
            <a:ext cx="77230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t what tax rate would you be indifferent between the muni and the corporate bo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53200" y="565452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ncome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2600" y="2104920"/>
            <a:ext cx="124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6644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834,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55680" y="21049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432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160" y="249552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44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,72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55680" y="2495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,864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" y="2886120"/>
            <a:ext cx="322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0628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8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95520" y="28861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5760" y="327672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6644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6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55680" y="32767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720" y="3666960"/>
            <a:ext cx="338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. op.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6644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,524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55680" y="366696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222,9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1880" y="4091040"/>
            <a:ext cx="167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7320" y="4091040"/>
            <a:ext cx="1918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690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95520" y="409104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9,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4680" y="4483080"/>
            <a:ext cx="257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est ex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7912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76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68360" y="4483080"/>
            <a:ext cx="187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2,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880" y="4873680"/>
            <a:ext cx="1559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53200" y="48736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866,56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5680" y="48736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6,6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520" y="5264280"/>
            <a:ext cx="2528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xes (4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53200" y="5264280"/>
            <a:ext cx="2031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46,62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55680" y="526428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8,6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1520" y="56545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55680" y="5654520"/>
            <a:ext cx="1985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7,9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9060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9320" y="16239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419360" y="21337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419360" y="3733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360" y="41148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419360" y="4952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419360" y="57150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419360" y="60958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360" y="617220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629400" y="2133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6294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629400" y="4114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629400" y="4952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29400" y="5715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609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629400" y="61722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969480" y="2593800"/>
            <a:ext cx="755820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gt; 30%, buy tax exempt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 &lt; 30%, buy corporate bon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 high income, and hence high tax bracket, individuals should buy muni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9040" y="762120"/>
            <a:ext cx="772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Othe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680" y="3070080"/>
            <a:ext cx="275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. of sh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5088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5360" y="307008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9840" y="3699000"/>
            <a:ext cx="995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2600" y="3699000"/>
            <a:ext cx="16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5.1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09720" y="369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840" y="4329000"/>
            <a:ext cx="101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80920" y="4329000"/>
            <a:ext cx="142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9720" y="432900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0.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8760" y="4957920"/>
            <a:ext cx="2371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900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2.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9720" y="4957920"/>
            <a:ext cx="1196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8.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" y="5587920"/>
            <a:ext cx="2415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se pm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5088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95360" y="5587920"/>
            <a:ext cx="1647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4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1772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9000" y="2322360"/>
            <a:ext cx="1083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308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8560" y="2770200"/>
            <a:ext cx="148428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40" y="685800"/>
            <a:ext cx="7873920" cy="762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2560" y="7621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Retained Earnings (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1480" y="2471760"/>
            <a:ext cx="80712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0                   $203,76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:  Net income, 20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:  Dividends p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1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 of re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r" pos="771372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nings, 12/31/0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$327,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18160" y="5827680"/>
            <a:ext cx="1702080" cy="23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7880" y="592596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7880" y="4678200"/>
            <a:ext cx="1701720" cy="24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711360"/>
            <a:ext cx="792504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atement of Cash Flows:  2001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Inc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19,936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justment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reciation                          116,9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80,9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inventor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72,16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P378,5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accruals               353,6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r" pos="77691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provided by op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5562720"/>
            <a:ext cx="1968480" cy="59688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523,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400800" y="4191120"/>
            <a:ext cx="1968480" cy="457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1143000"/>
            <a:ext cx="196848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562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60958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61722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-T INVESTIN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 in fixed assets      (711,95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ACTIVITI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s-t investme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,6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notes pay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20,00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in long-term deb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76,568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ment of cash dividends     (11,00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financ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,234,168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:  net change in cash            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(1,718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us:  cash at beginning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,000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sh at end of y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,28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r" pos="754056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0520" y="2590920"/>
            <a:ext cx="8354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 cash from operations =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-$523,93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mainly because of negative net inco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m borrowe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185,56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sold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48,60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short-term investments to meet its cash requirem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after borrowing, the cash account fell by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$1,71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5040" y="711360"/>
            <a:ext cx="7873920" cy="1726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762120"/>
            <a:ext cx="77058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can you conclude about the company’s financial condition from its statement of cash flow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2T07:26:23Z</dcterms:created>
  <dc:creator>Mike Ehrhardt</dc:creator>
  <dc:description/>
  <dc:language>en-US</dc:language>
  <cp:lastModifiedBy>Brian E. Moffitt</cp:lastModifiedBy>
  <cp:lastPrinted>1998-05-27T15:19:04Z</cp:lastPrinted>
  <dcterms:modified xsi:type="dcterms:W3CDTF">2001-05-15T16:49:20Z</dcterms:modified>
  <cp:revision>70</cp:revision>
  <dc:subject>Powerpoint Show</dc:subject>
  <dc:title>FM10 Ch 02</dc:title>
</cp:coreProperties>
</file>