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71F7F-8B12-452D-BF33-7CD2A6B2F2D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67FF0-558C-4561-9828-B06B4E0F0F8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A808B-27A3-4276-B78F-5DF27D607D6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8C493-3DA4-43FC-B49C-923B02C369E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D47FE-D3E9-4C98-8D31-3B7AE5DAAAC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992C-AE05-48D9-B060-2B8978A7586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A5FA5-B7FF-427E-8214-1C436455853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E0186-7D61-46FE-8A23-3594055873A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D42B2-325A-4D1D-A8C0-9BD2982B5BF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550FC-B8FB-4CE8-A925-15F367080C2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8A784-FAB0-4F34-8948-463449A09F3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D1E99-F9B4-493C-9F56-8CEDF684FBD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5D10-5413-4EFF-8305-82A1F380916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F86B0-DECE-4737-9F80-D37DC682A3C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63586-480F-4D1C-8897-72C4993A67B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756EA-690B-46B8-B54C-D09A771547B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B72AE-CE4F-497C-B0E2-38906CD5F05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88560-B4FB-430F-8CB5-78EADF9352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D7CA7-353B-4295-988B-4E56B7FC2D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049C0-23CD-4289-A679-0F12037795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44E3A-DDAC-42A1-973B-60D20E5B9F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314B3-A28A-4CFA-81C5-977CF48A56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DDB3F-DDD6-409C-A16C-ACEB5D952A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3382C-1C52-4FB2-BA78-47C1ADF971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EA368-C19F-46FB-B983-EBF9764088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08BA0-9684-4CA1-A022-1A1706FE02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8D0F7-E0C1-4300-8D35-D8160BA855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78063-48F9-4CF3-8C58-FB731C402B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4F74B-D659-40D1-870B-9A23E51B15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238520" y="617220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2-</a:t>
            </a:r>
            <a:fld id="{15E24B19-C106-4710-91F6-EA78341036D4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2590920" y="617220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Arial"/>
              </a:rPr>
              <a:t>©2003 Prentice Hall Business Publishing,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ff"/>
                </a:solidFill>
                <a:latin typeface="Arial"/>
                <a:ea typeface="Arial"/>
              </a:rPr>
              <a:t>Accounting Information Systems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Arial"/>
              </a:rPr>
              <a:t>, 9/e, Romney/Steinbart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7086240" y="609588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441DC68B-BBD1-4414-9607-88153B6937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3123720" y="6095880"/>
            <a:ext cx="358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Times New Roman"/>
              </a:rPr>
              <a:t>©2003 Prentice Hall Business Publishing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ff"/>
                </a:solidFill>
                <a:latin typeface="Times New Roman"/>
              </a:rPr>
              <a:t>Accounting Information Systems</a:t>
            </a:r>
            <a:r>
              <a:rPr b="0" lang="en-US" sz="1000" spc="-1" strike="noStrike">
                <a:solidFill>
                  <a:srgbClr val="0000ff"/>
                </a:solidFill>
                <a:latin typeface="Times New Roman"/>
              </a:rPr>
              <a:t>, 9/e, Romney/Steinba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81080" y="457200"/>
            <a:ext cx="701064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سم الله الرحمن الرحيم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2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فصل الثاني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view of Business Processes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لسلسلة العمليات التجار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tch processing is the periodic updating of the data stored about resources and ag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معالجة الرزم هي تحديث للبيانات المخزنة عن المصادر والعملاء بشكل دوري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-line, real-time processing is the immediate updating as each transaction occur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المعالجة المباشرة </a:t>
            </a:r>
            <a:r>
              <a:rPr b="0" lang="ar-JO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في الوقت الحقيقي</a:t>
            </a:r>
            <a:r>
              <a:rPr b="0" lang="ar-JO" sz="2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هي تحديث للبيانات في وقت وقوع كل حدث تجاري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523880" y="190080"/>
            <a:ext cx="7010640" cy="15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Processing Cycle: Data Processing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ورة معالجة البيانات: معالجة البيانا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C9106-72DD-44BD-BF02-034CF8A0D7D5}" type="slidenum">
              <a:t>10</a:t>
            </a:fld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ntity is something about which information is sto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الكيانات أو الأشياء </a:t>
            </a:r>
            <a:r>
              <a:rPr b="0" lang="ar-JO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بضاعة، موظف، زبون</a:t>
            </a:r>
            <a:r>
              <a:rPr b="0" lang="ar-JO" sz="2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هي الأشياء التي يتم تخزين معلومات عنها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ch entity has attributes or characteristics of interest, which need to be sto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لكل كيان صفات أو خصائص ذات أهمية، والتي بحاجة لتخزين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Processing Cycle: Data Storage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ورة معالجة البيانات: تخزين البيانا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228EC-FD44-4ED7-96DF-E46BB414D171}" type="slidenum">
              <a:t>11</a:t>
            </a:fld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701064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rd Transaction Data in Journals</a:t>
            </a:r>
            <a:br>
              <a:rPr sz="3000"/>
            </a:b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سجيل بيانات الأحداث التجارية في اليومي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transaction data have been captured on source documents, the next step is to record the data in a journ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عد أخذ بيانات الحدث التجاري على وثائق أصلية، تكون الخطوة التالية بتسجيلها في اليومي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journal entry is made for each transaction showing the accounts and amounts to be debited and credi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يد يومية يعمل لكل حدث تجاري، ويظهر الحسابات وقيمها المدينة والدائنة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eneral journal records infrequent or nonroutine transac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جلات دفتر اليومية نادرة أو ليست روتينية الأحداث التجاري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alized journals simplify the process of recording large numbers of repetitive transac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يوميات المتخصصة تسهل إجراءات تسجيل الأرقام الكبيرة للأحداث التجارية السابقة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our most common types of transactions: Credit sales, Cash receipts, Purchases on account, Cash disburseme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8C848-EE69-40AC-997C-DA0DC45292EA}" type="slidenum">
              <a:t>12</a:t>
            </a:fld>
          </a:p>
        </p:txBody>
      </p:sp>
    </p:spTree>
  </p:cSld>
  <p:transition advTm="4000">
    <p:blinds dir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70106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 Transactions to Ledgers</a:t>
            </a:r>
            <a:br>
              <a:rPr sz="3000"/>
            </a:b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رحيل الأحداث التجارية إلى الأستا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899172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dgers are used to summarize the financial status, including the current balance, of individual accou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ستاذ يستخدم لتلخيص الوضع المالي لكل حساب على حده، إضافة لرصيده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eneral ledger contains summary-level data for every asset, liability, equity, revenue, and expense account of an organiz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حتوي دفتر الأستاذ العام على بيانات ملخصة لحسابات الأصول، والخصوم، وحقوق الملكية، والإيرادات، والمصاريف في للمنشأ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ubsidiary ledger records all the detailed data for any general ledger account that has many individual sub accou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فتر الأستاذ المساعد يسجل كل البيانات المفصلة لأي حساب أستاذ عام له العديد من الحسابات الفرعية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832F0-82B1-44E6-B34B-E8D1A6ADA9BC}" type="slidenum">
              <a:t>13</a:t>
            </a:fld>
          </a:p>
        </p:txBody>
      </p:sp>
    </p:spTree>
  </p:cSld>
  <p:transition>
    <p:blinds dir="ver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70106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 Transactions to Ledgers</a:t>
            </a:r>
            <a:br>
              <a:rPr sz="3000"/>
            </a:b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رحيل الأحداث التجارية إلى الأستا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commonly used subsidiary ledgers: 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فاتر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ستاذ المساعد المستخدم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unts receivable -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فتر الأستاذ المساعد للذمم المدين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entory -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فتر الأستاذ للمخزو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unts payable -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فتر الأستاذ المساعد للذمم المدين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eneral ledger account corresponding to a subsidiary ledger called control accou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سمى حساب الأستاذ العام الممثل للأستاذ الفرعي بحساب السيطرة أو التحك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ntrol account contains the total amount for all individual accounts in the subsidiary led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حوي حساب التحكم القيمة الكاملة لكل الحسابات المنفردة في الأستاذ المساعد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DE47A-4787-4248-851D-38E2469FA39B}" type="slidenum">
              <a:t>14</a:t>
            </a:fld>
          </a:p>
        </p:txBody>
      </p:sp>
    </p:spTree>
  </p:cSld>
  <p:transition>
    <p:blinds dir="ver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Chart of Accounts</a:t>
            </a:r>
            <a:br>
              <a:rPr sz="3400"/>
            </a:br>
            <a:r>
              <a:rPr b="0" lang="ar-SA" sz="3400" spc="-1" strike="noStrike">
                <a:solidFill>
                  <a:srgbClr val="000000"/>
                </a:solidFill>
                <a:latin typeface="Arial"/>
              </a:rPr>
              <a:t>خريطة الحسابات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15364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hart of accounts is a list of all general ledger accounts used by an organiz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خريطة الحسابات هي قائمة بكل حسابات الأستاذ العام والتي تستخدمها المنشأ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is important that the chart of accounts contains sufficient detail to meet the information needs of the organizatio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من المهم تحتوي خريطة الحسابات على تفاصيل كافية لتقابل المعلومات التي تحتاجها المنشأ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EF0B2-E950-4EDA-939B-4FD46C8046E0}" type="slidenum">
              <a:t>15</a:t>
            </a:fld>
          </a:p>
        </p:txBody>
      </p:sp>
    </p:spTree>
  </p:cSld>
  <p:transition>
    <p:blinds dir="ver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ing Information for Decision Making</a:t>
            </a:r>
            <a:br>
              <a:rPr sz="3000"/>
            </a:b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زويد المعلومات لاتخاذ القرارا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cond fun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 AIS is to provide management with information useful for decision ma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ن الوظيفة الثانية لنظام المعلومات المحاسبية هي تزويد الإدارة بمعلومات نافعة في اتخاذ القرا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formation an AIS provides falls into two main categor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علومات التي يزودها نظام المعلومات المحاسبية تقع ضمن فئتان رئيسيتان هم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 Statements - (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كشوف </a:t>
            </a:r>
            <a:r>
              <a:rPr b="0" lang="ar-JO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الي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ial Reports - (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ارير </a:t>
            </a:r>
            <a:r>
              <a:rPr b="0" lang="ar-JO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دارية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62BAB-73B6-4B46-926A-C1CBBFBC82DC}" type="slidenum">
              <a:t>16</a:t>
            </a:fld>
          </a:p>
        </p:txBody>
      </p:sp>
    </p:spTree>
  </p:cSld>
  <p:transition>
    <p:blinds dir="ver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7560" y="4572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nancial Statements </a:t>
            </a:r>
            <a:r>
              <a:rPr b="0" lang="ar-SA" sz="3400" spc="-1" strike="noStrike">
                <a:solidFill>
                  <a:srgbClr val="000000"/>
                </a:solidFill>
                <a:latin typeface="Arial"/>
              </a:rPr>
              <a:t>الكشوف/التقارير المالية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pare a trial balance. 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إعداد ميزان المراجعة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 adjusting entries. 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عمل قيود التسوية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pare the adjusted trial balance. 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إعداد ميزان المراجعة بعد التسويات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e the income statement. 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عمل قائمة الدخل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 closing entries. 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عمل قيود الإغلاق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e the balance sheet. 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عمل قائمة المركز المالي</a:t>
            </a:r>
            <a:r>
              <a:rPr b="0" lang="ar-JO" sz="2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الميزانية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pare the statement of cash flows. 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إعداد قائمة التدفقات النقدية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72EA2-A8A3-41FD-99EA-2C2BD618732C}" type="slidenum">
              <a:t>17</a:t>
            </a:fld>
          </a:p>
        </p:txBody>
      </p:sp>
    </p:spTree>
  </p:cSld>
  <p:transition>
    <p:blinds dir="ver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47560" y="3045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ial Reports         </a:t>
            </a:r>
            <a:r>
              <a:rPr b="0" lang="ar-SA" sz="3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ارير الإدارية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IS must also be able to provide managers with detailed operational information about the organization’s performan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أن يكون نظام المعلومات المحاسبية قادراً على تزويد الإداريين بمعلومات عملية ومفصلة عن أداء المنشأ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important types of managerial reports are:       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هم تقريران إداريا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dget: which is the formal expression of goals in financial terms (e.g. Cash Budget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 algn="r" rtl="1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وازنة التقديرية: وهي تعبير منهجي عن الأهداف من خلال بنود مالية (مثل موازنة نقدي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reports: lists the budgeted and actual amounts of revenues and expenses and also shows the variances, or differences, between these two amou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 algn="r" rtl="1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رير الأداء: يقارن بين الموازنة التقديرية والقيم الحقيقية للإيرادات والمصاريف والفروقات بينهما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A9DDA-341B-4870-8986-636300862E64}" type="slidenum">
              <a:t>18</a:t>
            </a:fld>
          </a:p>
        </p:txBody>
      </p:sp>
    </p:spTree>
  </p:cSld>
  <p:transition>
    <p:blinds dir="ver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51920" y="167652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ic Co. Monthly Performance Report -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رير الأداء الشهري لشركة ماجي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udg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c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ari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وازنة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فعلي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فر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 (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بيعات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4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5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 of Goods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كلفة البضائع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20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40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000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ss Margin (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جمالي الدخل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4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5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Expenses (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صاريف أخرى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90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70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ng Income (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خل من التشغيل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4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5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1523880" y="380880"/>
            <a:ext cx="7010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agerial Reports        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التقارير الإداري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5DAF1-316B-4D98-B36E-5CFD7F604E0D}" type="slidenum">
              <a:t>19</a:t>
            </a:fld>
          </a:p>
        </p:txBody>
      </p:sp>
    </p:spTree>
  </p:cSld>
  <p:transition>
    <p:blinds dir="vert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520" y="38088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hree Basic Functions Performed by an AI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ثلاثة وظائف الأساسية التي يؤديه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نظام المعلومات المحاسب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ollect and store data about the organization’s business activities and transactions efficiently and effectivel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جميع وتخزين البيانات المتعلقة بالأشطة والأحداث التجارية للمنشأة التجارية بكفائة وفاعلية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ture transaction data on source docume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 algn="r" rtl="1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خذ بيانات الحدث التجاري على وثائق أصلي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rd transaction data in journals, which present a chronological record of what occurre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 algn="r" rtl="1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سجيل بيانات الحدث التجاري في دفتر اليومية، بشكل يظهر ترتيب حدوثها الزمني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 data from journals to ledgers, which sort data by account typ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 algn="r" rtl="1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رحيل البيانات من اليومية إلى الأستاذ، والذي يخزن البيانات حسب نوع الحساب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3018C-BD6C-4C6F-9B8F-C26FF17955DE}" type="slidenum">
              <a:t>2</a:t>
            </a:fld>
          </a:p>
        </p:txBody>
      </p:sp>
    </p:spTree>
  </p:cSld>
  <p:transition advTm="5000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l Control Considerations</a:t>
            </a:r>
            <a:br>
              <a:rPr sz="3000"/>
            </a:b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عتبارات الرقابة الداخلي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917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hird function of an AIS is to provide adequate internal controls to accomplish three basic objectiv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10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ن الوظيفة الثالثة لنظام المعلومات المحاسبية هي التزويد بمراقة داخلية ملائمة لتحقيق ثلاثة أهداف رئيسة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that the information is reliable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أكد من أن المعلومات يعتمد عليها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وثوقٌ بها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that business activities are performed efficientl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أكد من أن الأنشطة التجارية أُنجزت بشكل فعّا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feguard organizational assets.   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ماية أصول المنشأ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wo important methods for accomplishing these objectiv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طرقتان المهمتان لتحقيق تلك الأهداف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for adequate documentation of all business activiti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زود بالتوثيق الملائم لكل الأنشطة التجاري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the AIS for effective segregation of duti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صميم نظام معلومات محاسبي فعّال في فصل الواجبات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0AAAD-E051-45F0-B828-1FC6197AF736}" type="slidenum">
              <a:t>20</a:t>
            </a:fld>
          </a:p>
        </p:txBody>
      </p:sp>
    </p:spTree>
  </p:cSld>
  <p:transition>
    <p:blinds dir="vert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equate Documentation      </a:t>
            </a: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وثيق الملائ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47560" y="91440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umentation allows management to verify that assigned responsibilities were completed correctl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وثيق يتيح للإدارة للتحقق من أن المسؤوليات المخصصة (المحددة) أنجزت بشكل صحيح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00200" y="2438280"/>
            <a:ext cx="701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regation of Duties            </a:t>
            </a: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صل الواجبات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47920" y="28954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3048120"/>
            <a:ext cx="746784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regation of duties refers to dividing responsibility for different portions of a transaction among several people.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صل الواجبات تعزى إلى تقسيم المسؤوليات لمختلف أجزاء الحدث التجاري بين عدّة أشخاص.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s that should be performed by different people: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وظائف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هام الواجب إنجازها من قبل الأشخاص المختلفين: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orizing transactions -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فويض بالأحداث التجارية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rding transactions -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سجيل الأحداث التجارية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taining custody of assets -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احتفاظ برعاية الأصول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86CFC-2302-4CA3-895D-BF555D84C3A2}" type="slidenum">
              <a:t>21</a:t>
            </a:fld>
          </a:p>
        </p:txBody>
      </p:sp>
    </p:spTree>
  </p:cSld>
  <p:transition>
    <p:blinds dir="vert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provide management with information useful for decision mak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زويد الإدارة بمعلومات نافعة في اتخاذ القرار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manual systems, this information is provided in the form of reports that fall into two main categori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ي النظام اليدوي يتم تزويد هذه المعلومات على شكل تقارير تقع ضمن فئتان رئيستان هما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cc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 statements (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كشوف المالية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cc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ial reports (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ارير الإدارية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1523880" y="419040"/>
            <a:ext cx="746784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hree Basic Functions Performed by an AI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ثلاثة وظائف الأساسية التي يؤديه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نظام المعلومات المحاسب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73402-B486-4809-9231-63C1358785E9}" type="slidenum">
              <a:t>3</a:t>
            </a:fld>
          </a:p>
        </p:txBody>
      </p:sp>
    </p:spTree>
  </p:cSld>
  <p:transition advTm="4000">
    <p:blinds dir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52280" y="1752480"/>
            <a:ext cx="868680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provide adequate internal control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زويد بمراقبة داخلية ملائمة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that the information produced by the system is reliab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 rtl="1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أكد من أن المعلومات الناتجة عن النظام يعتمد عليها (موثوقٌ بها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that business activities are performed efficiently and in accordance with management’s objectiv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 rtl="1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أكد من أن الأنشطة التجارية أنجزت بشكل فعّال ومنسجم مع أهداف الإدار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feguard organizational asse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 rtl="1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ماية أصول المنشأ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523880" y="30456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hree Basic Functions Performed by an AI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ثلاثة وظائف الأساسية التي يؤديه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نظام المعلومات المحاسب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375B9-D8A0-4BA5-97A1-052DBFC44979}" type="slidenum">
              <a:t>4</a:t>
            </a:fld>
          </a:p>
        </p:txBody>
      </p:sp>
    </p:spTree>
  </p:cSld>
  <p:transition advTm="5000">
    <p:blinds dir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70106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ubsystems in the AIS</a:t>
            </a:r>
            <a:br>
              <a:rPr sz="2800"/>
            </a:b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نظمة الفرعية الأساسية في نظام المعلومات المحاسب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455400" indent="-4554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revenue cycle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volves activities of selling goods or services and collecting payment for those sal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5400" indent="-45540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دورة الإيرادات: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تشمل عمليات بيع البضائع والخدمات وتحصيل التسديدات لتلك المبيعات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5400" indent="-4554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expenditure cycle: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lves activities of buying and paying for goods or services used by the organiz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5400" indent="-45540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دورة المصروفات: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تشمل عمليات شراء البضائع والخدمات المستخدمة من قبل المنشأة، وتسديد ثمنها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5400" indent="-4554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human resources/payroll cycle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volves activities of hiring and paying employe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5400" indent="-45540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دورة الموارد البشرية/رواتب العاملين: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تشمل عمليات تعيين ودفع رواتب الموظفين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4703E-DF08-4B6D-9891-9E5B6B20EF58}" type="slidenum">
              <a:t>5</a:t>
            </a:fld>
          </a:p>
        </p:txBody>
      </p:sp>
    </p:spTree>
  </p:cSld>
  <p:transition advTm="4000">
    <p:blinds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28600" y="205740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-5716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production cycle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volves activities converting raw materials and labor into finished goo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دورة الإنتاج: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تشمل عمليات تحويل للمواد الخام والعمالة إلى بضائع جاهز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financing cycle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volves activities of obtaining necessary funds to run the organization, repay creditors, and distribute profits to investo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دورة التمويل: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تشمل عمليات الحصول على الاعتمادات المالية اللازمة لتشغيل المنشأة، وتسديد المقرضين، وتوزيع الأرباح على المستثمرين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ubsystems in the AIS</a:t>
            </a:r>
            <a:br>
              <a:rPr sz="2800"/>
            </a:b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نظمة الفرعية الأساسية في نظام المعلومات المحاسب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2089D-1290-432B-B28C-AD68CFF324F5}" type="slidenum">
              <a:t>6</a:t>
            </a:fld>
          </a:p>
        </p:txBody>
      </p:sp>
    </p:spTree>
  </p:cSld>
  <p:transition advTm="3000">
    <p:blinds dir="ver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1371600" y="1752480"/>
            <a:ext cx="6781320" cy="3733560"/>
            <a:chOff x="1371600" y="1752480"/>
            <a:chExt cx="6781320" cy="3733560"/>
          </a:xfrm>
        </p:grpSpPr>
        <p:sp>
          <p:nvSpPr>
            <p:cNvPr id="108" name=""/>
            <p:cNvSpPr/>
            <p:nvPr/>
          </p:nvSpPr>
          <p:spPr>
            <a:xfrm>
              <a:off x="3691440" y="1752480"/>
              <a:ext cx="2141280" cy="1007640"/>
            </a:xfrm>
            <a:prstGeom prst="ellipse">
              <a:avLst/>
            </a:prstGeom>
            <a:solidFill>
              <a:srgbClr val="99cccc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1a00"/>
                  </a:solidFill>
                  <a:latin typeface="Times New Roman"/>
                </a:rPr>
                <a:t>Expenditure Cycle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1a1a00"/>
                  </a:solidFill>
                  <a:latin typeface="Times New Roman"/>
                </a:rPr>
                <a:t>دورة المصروفات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011640" y="1752480"/>
              <a:ext cx="2141280" cy="1007640"/>
            </a:xfrm>
            <a:prstGeom prst="ellipse">
              <a:avLst/>
            </a:prstGeom>
            <a:solidFill>
              <a:srgbClr val="99cccc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1a00"/>
                  </a:solidFill>
                  <a:latin typeface="Times New Roman"/>
                </a:rPr>
                <a:t>Human Resources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1a1a00"/>
                  </a:solidFill>
                  <a:latin typeface="Times New Roman"/>
                </a:rPr>
                <a:t>الموارد البشرية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382480" y="4478760"/>
              <a:ext cx="2141280" cy="1007280"/>
            </a:xfrm>
            <a:prstGeom prst="ellipse">
              <a:avLst/>
            </a:prstGeom>
            <a:solidFill>
              <a:srgbClr val="99cccc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1a00"/>
                  </a:solidFill>
                  <a:latin typeface="Times New Roman"/>
                </a:rPr>
                <a:t>Production Cycle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1a1a00"/>
                  </a:solidFill>
                  <a:latin typeface="Times New Roman"/>
                </a:rPr>
                <a:t>دورة الإنتاج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0400" y="4478760"/>
              <a:ext cx="2141280" cy="1007280"/>
            </a:xfrm>
            <a:prstGeom prst="ellipse">
              <a:avLst/>
            </a:prstGeom>
            <a:solidFill>
              <a:srgbClr val="99cccc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1a00"/>
                  </a:solidFill>
                  <a:latin typeface="Times New Roman"/>
                </a:rPr>
                <a:t>Revenue Cycle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1a1a00"/>
                  </a:solidFill>
                  <a:latin typeface="Times New Roman"/>
                </a:rPr>
                <a:t>دورة الإيرادات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371600" y="1752480"/>
              <a:ext cx="2141280" cy="1007640"/>
            </a:xfrm>
            <a:prstGeom prst="ellipse">
              <a:avLst/>
            </a:prstGeom>
            <a:solidFill>
              <a:srgbClr val="99cccc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1a00"/>
                  </a:solidFill>
                  <a:latin typeface="Times New Roman"/>
                </a:rPr>
                <a:t>Financing Cycle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1a1a00"/>
                  </a:solidFill>
                  <a:latin typeface="Times New Roman"/>
                </a:rPr>
                <a:t>دورة التمويل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47160" y="3293640"/>
              <a:ext cx="5829840" cy="888840"/>
            </a:xfrm>
            <a:prstGeom prst="ellipse">
              <a:avLst/>
            </a:prstGeom>
            <a:solidFill>
              <a:srgbClr val="99cccc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1a00"/>
                  </a:solidFill>
                  <a:latin typeface="Times New Roman"/>
                </a:rPr>
                <a:t>General Ledger &amp; Reporting System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1a1a00"/>
                  </a:solidFill>
                  <a:latin typeface="Times New Roman"/>
                </a:rPr>
                <a:t>الأستاذ العام  </a:t>
              </a:r>
              <a:r>
                <a:rPr b="0" lang="ar-JO" sz="2000" spc="-1" strike="noStrike">
                  <a:solidFill>
                    <a:srgbClr val="1a1a00"/>
                  </a:solidFill>
                  <a:latin typeface="Times New Roman"/>
                </a:rPr>
                <a:t>+  </a:t>
              </a:r>
              <a:r>
                <a:rPr b="0" lang="ar-SA" sz="2000" spc="-1" strike="noStrike">
                  <a:solidFill>
                    <a:srgbClr val="1a1a00"/>
                  </a:solidFill>
                  <a:latin typeface="Times New Roman"/>
                </a:rPr>
                <a:t>ونظام التقارير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442240" y="2761200"/>
              <a:ext cx="0" cy="709920"/>
            </a:xfrm>
            <a:prstGeom prst="line">
              <a:avLst/>
            </a:prstGeom>
            <a:ln w="12600">
              <a:solidFill>
                <a:srgbClr val="33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3453480" y="4124160"/>
              <a:ext cx="0" cy="354240"/>
            </a:xfrm>
            <a:prstGeom prst="line">
              <a:avLst/>
            </a:prstGeom>
            <a:ln w="12600">
              <a:solidFill>
                <a:srgbClr val="33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82280" y="2761200"/>
              <a:ext cx="0" cy="709920"/>
            </a:xfrm>
            <a:prstGeom prst="line">
              <a:avLst/>
            </a:prstGeom>
            <a:ln w="12600">
              <a:solidFill>
                <a:srgbClr val="33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762440" y="2761200"/>
              <a:ext cx="0" cy="532080"/>
            </a:xfrm>
            <a:prstGeom prst="line">
              <a:avLst/>
            </a:prstGeom>
            <a:ln w="12600">
              <a:solidFill>
                <a:srgbClr val="33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6076080" y="4124160"/>
              <a:ext cx="0" cy="354240"/>
            </a:xfrm>
            <a:prstGeom prst="line">
              <a:avLst/>
            </a:prstGeom>
            <a:ln w="12600">
              <a:solidFill>
                <a:srgbClr val="33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0106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ubsystems in the AIS</a:t>
            </a:r>
            <a:br>
              <a:rPr sz="2800"/>
            </a:b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نظمة الفرعية الأساسية في نظام المعلومات المحاسب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098C6-54B3-4318-B798-B4B7C108C2EE}" type="slidenum">
              <a:t>7</a:t>
            </a:fld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3880" y="380880"/>
            <a:ext cx="701064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ata Processing Cycle</a:t>
            </a:r>
            <a:br>
              <a:rPr sz="3000"/>
            </a:b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ورة معالجة البيانا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ata processing cycle consists of four step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r" rtl="1">
              <a:lnSpc>
                <a:spcPct val="8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ألف دورة معالجة البيانات من خمسة خطوات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input 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دخال البيانات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storage 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خزين البيانات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processing 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عالجة البيانات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Output 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خراج المعلومات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rigger for data input is usually business activity.  Data must be collected abou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r" rtl="1">
              <a:lnSpc>
                <a:spcPct val="8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صدر البيانات عادة ما يكون الأنشطة التجارية. ويجب جمع البيانات عن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event of interest   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ل حدث ذا أهمي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sources affected by each event 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صادر المتأثرة بكل حدث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gents who participate in each event 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ملاء المشاركين في كل حدث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728B5-2A86-4047-927F-E85650C6644F}" type="slidenum">
              <a:t>8</a:t>
            </a:fld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0106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Processing Cycle: Data Input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ورة معالجة البيانات: إدخال البيانا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torically, most businesses used paper source documents to collect data and then transferred that data into a compu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اريخياً، معظم الأعمال التجارية استخدمت وثائق أصلية ورقية لتجميع البيانات ومن ثم نقلها على الحاسب الآلي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ay, most data are recorded directly through data entry scree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يوم، يتم تسجيل معظم البيانات من خلال شاشات إدخال مباشر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over data collection is improved by: 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سيطرة على تجميع البيانات تحسن ب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numbering each source document  and using turnaround docu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r" rtl="1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رقيم المسبق لكل وثيقة أصلية واستخدام إعادة الوثائ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ing the system automatically assign a sequential number to each new transaction -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عل النظام يعين رقماً تسلسلي لكل حدت جدي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loying source data automation -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مصدر آلي للبيانات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74033-1741-4E33-BA83-6F7B1E2453EB}" type="slidenum">
              <a:t>9</a:t>
            </a:fld>
          </a:p>
        </p:txBody>
      </p:sp>
    </p:spTree>
  </p:cSld>
  <p:transition advTm="5000">
    <p:blinds dir="ver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9T17:18:51Z</dcterms:created>
  <dc:creator>S. Bhattacharya</dc:creator>
  <dc:description/>
  <dc:language>en-US</dc:language>
  <cp:lastModifiedBy>dr-mahmood</cp:lastModifiedBy>
  <cp:lastPrinted>2004-09-25T05:48:13Z</cp:lastPrinted>
  <dcterms:modified xsi:type="dcterms:W3CDTF">2005-03-04T04:55:49Z</dcterms:modified>
  <cp:revision>112</cp:revision>
  <dc:subject/>
  <dc:title>Accounting  Information  Systems 9th Edition</dc:title>
</cp:coreProperties>
</file>