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6FAC-186C-4342-96C1-5971996BEF6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1B4E-5226-4CDD-9130-79CB1F9EACA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3624-EC71-4D6C-B0A4-DAE6B82846C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196C-9D1A-4B6E-826C-3C72B0469E6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FF6F-E339-48D4-A6F4-83016FB53F8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0E71-091D-4C9E-BA04-6A72BA80B89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554A-B3C6-4B06-B156-E008E7BA0C7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D649-F157-463E-9670-4FB91B36018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7545-3399-42BF-B282-04606331B74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2CBA-DBC8-49E0-96BF-6644240CE6E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187F-7324-4580-9DE7-24E917A902B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8E3A-1F6B-4175-9CE8-F72DABC4DC9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9F8A-5744-4FE0-8260-E37AB671800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08F4-647D-4531-BC8C-23ABE65BB2B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372E-E258-4158-80CA-40988851D89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8F7B-D5DC-4F0A-9A20-9FED2BE7503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5A13-7F07-49FF-AD4A-4A3F4A65FC1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92517-2820-4C60-94E9-E6A64A0C4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A04E2-3BC2-46C2-8B0B-FC82DA0E8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C5FA9-CF9C-4372-827F-B0BEC973D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A4FBB-D68E-4417-B48B-1437DB6911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6CF95-8935-46A8-84A1-F8F7BD011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5B542-C787-4F8C-BFEB-B041DE8B1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F1276-56BD-482B-A1B4-5C7D4A71B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D320-000E-4EF1-838F-D61B2BC1D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EA7B1-81C2-4428-BBCC-98DE9A205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86D56-CFE5-4C98-B21B-C65C68BB6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B899F-49CF-4DEB-B9F9-CC5FEB0E0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45CC8-72F5-4017-A3EC-3CA1EB79C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2-</a:t>
            </a:r>
            <a:fld id="{CFB74C14-F677-4DDE-9DFC-354F7221BAC2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5909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©2003 Prentice Hall Business Publishing,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Accounting Information Systems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, 9/e, Romney/Steinbart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7086240" y="609588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4F5E7F74-A15A-4F0E-B814-25BBE5411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3720" y="609588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©2003 Prentice Hall Business Publishing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Accounting Information Systems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, 9/e, Romney/Steinb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م الله الرحمن الرحيم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صل الثاني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of Business Processes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لسلسلة العمليات التجار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tch processing is the periodic updating of the data stored about resources and ag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عالجة الرزم هي تحديث للبيانات المخزنة عن المصادر والعملاء بشكل دور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-line, real-time processing is the immediate updating as each transaction occu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معالجة المباشرة 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في الوقت الحقيقي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هي تحديث للبيانات في وقت وقوع كل حدث تجار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Process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معالجة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3B9E5-4BE7-40A6-9B15-630A32E8579F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ntity is something about which information is st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كيانات أو الأشياء 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بضاعة، موظف، زبون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هي الأشياء التي يتم تخزين معلومات عنه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entity has attributes or characteristics of interest, which need to be st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لكل كيان صفات أو خصائص ذات أهمية، والتي بحاجة لتخز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Storag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تخزين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5594B-1DDF-4FC5-B2E5-CCBA871A4767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010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Transaction Data in Journal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بيانات الأحداث التجارية في اليوم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transaction data have been captured on source documents, the next step is to record the data in a jour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عد أخذ بيانات الحدث التجاري على وثائق أصلية، تكون الخطوة التالية بتسجيلها في اليوم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ournal entry is made for each transaction showing the accounts and amounts to be debited and credi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د يومية يعمل لكل حدث تجاري، ويظهر الحسابات وقيمها المدينة والدائنة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journal records infrequent or nonroutine trans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دفتر اليومية نادرة أو ليست روتينية الأحداث التجار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ed journals simplify the process of recording large numbers of repetitive trans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يوميات المتخصصة تسهل إجراءات تسجيل الأرقام الكبيرة للأحداث التجارية السابقة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ur most common types of transactions: Credit sales, Cash receipts, Purchases on account, Cash disburs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4B03C-20AB-4436-BA60-E6D767D6918A}" type="slidenum">
              <a:t>12</a:t>
            </a:fld>
          </a:p>
        </p:txBody>
      </p:sp>
    </p:spTree>
  </p:cSld>
  <p:transition advTm="4000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0106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Transactions to Ledger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أحداث التجارية إلى الأستا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gers are used to summarize the financial status, including the current balance, of individual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ستاذ يستخدم لتلخيص الوضع المالي لكل حساب على حده، إضافة لرصيد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ledger contains summary-level data for every asset, liability, equity, revenue, and expense account of an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توي دفتر الأستاذ العام على بيانات ملخصة لحسابات الأصول، والخصوم، وحقوق الملكية، والإيرادات، والمصاريف في للمنشأ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sidiary ledger records all the detailed data for any general ledger account that has many individual sub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يسجل كل البيانات المفصلة لأي حساب أستاذ عام له العديد من الحسابات الفرعية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2E57D-AD59-4D46-85C6-D0A5700FFD08}" type="slidenum">
              <a:t>13</a:t>
            </a:fld>
          </a:p>
        </p:txBody>
      </p:sp>
    </p:spTree>
  </p:cSld>
  <p:transition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0106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Transactions to Ledger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أحداث التجارية إلى الأستا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commonly used subsidiary ledgers: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اتر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ستاذ المساعد المستخدم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s receivable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للذمم المدين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ntory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للمخزو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s payable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للذمم المدين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ledger account corresponding to a subsidiary ledger called control accou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مى حساب الأستاذ العام الممثل للأستاذ الفرعي بحساب السيطرة أو التحك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rol account contains the total amount for all individual accounts in the subsidiary led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وي حساب التحكم القيمة الكاملة لكل الحسابات المنفردة في الأستاذ المساع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90C61-5BFF-4B3B-976F-4768D57D1585}" type="slidenum">
              <a:t>14</a:t>
            </a:fld>
          </a:p>
        </p:txBody>
      </p:sp>
    </p:spTree>
  </p:cSld>
  <p:transition>
    <p:blinds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Chart of Accounts</a:t>
            </a:r>
            <a:br>
              <a:rPr sz="3400"/>
            </a:b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خريطة الحسابا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hart of accounts is a list of all general ledger accounts used by an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خريطة الحسابات هي قائمة بكل حسابات الأستاذ العام والتي تستخدمها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important that the chart of accounts contains sufficient detail to meet the information needs of the organiz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ن المهم تحتوي خريطة الحسابات على تفاصيل كافية لتقابل المعلومات التي تحتاجها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5DCC5-E380-4BF4-B6F6-8A31D0057FBF}" type="slidenum">
              <a:t>15</a:t>
            </a:fld>
          </a:p>
        </p:txBody>
      </p:sp>
    </p:spTree>
  </p:cSld>
  <p:transition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Information for Decision Making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ويد المعلومات لاتخاذ القرار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cond 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AIS is to provide management with information useful for decision m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 الوظيفة الثانية لنظام المعلومات المحاسبية هي تزويد الإدارة بمعلومات نافعة في اتخاذ القر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ormation an AIS provides falls into two main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تي يزودها نظام المعلومات المحاسبية تقع ضمن فئتان رئيسيتان ه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tatements - 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شوف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ل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- 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اري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F8512-1A62-44D4-8E6A-3341E1A59501}" type="slidenum">
              <a:t>16</a:t>
            </a:fld>
          </a:p>
        </p:txBody>
      </p:sp>
    </p:spTree>
  </p:cSld>
  <p:transition>
    <p:blinds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nancial Statements 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الكشوف/التقارير المال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a trial balance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ميزان المراجع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adjusting entrie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يود التسو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the adjusted trial balance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ميزان المراجعة بعد التسويات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the income statement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ائمة الدخل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closing entrie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يود الإغلاق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the balance sheet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ائمة المركز المالي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ميزان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the statement of cash flow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قائمة التدفقات النقد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2B067-A0F8-405E-BBD5-891F07C27B92}" type="slidenum">
              <a:t>17</a:t>
            </a:fld>
          </a:p>
        </p:txBody>
      </p:sp>
    </p:spTree>
  </p:cSld>
  <p:transition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        </a:t>
            </a:r>
            <a:r>
              <a:rPr b="0" lang="ar-SA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الإدار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IS must also be able to provide managers with detailed operational information about the organization’s perform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ن يكون نظام المعلومات المحاسبية قادراً على تزويد الإداريين بمعلومات عملية ومفصلة عن أداء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important types of managerial reports are:      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م تقريران إداريا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: which is the formal expression of goals in financial terms (e.g. Cash Budge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زنة التقديرية: وهي تعبير منهجي عن الأهداف من خلال بنود مالية (مثل موازنة نقدي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reports: lists the budgeted and actual amounts of revenues and expenses and also shows the variances, or differences, between these two amou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ير الأداء: يقارن بين الموازنة التقديرية والقيم الحقيقية للإيرادات والمصاريف والفروقات بينهم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FDD8E-21FC-4928-804E-9B02BAAD7D03}" type="slidenum">
              <a:t>18</a:t>
            </a:fld>
          </a:p>
        </p:txBody>
      </p:sp>
    </p:spTree>
  </p:cSld>
  <p:transition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ic Co. Monthly Performance Report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ير الأداء الشهري لشركة ماجي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d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r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زن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فعلي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ر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Goods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لفة البضائع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2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4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0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s Margin 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مالي الدخل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Expense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صاريف أخرى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7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Income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خل من التشغي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rial Reports        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التقارير الإدار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5BA4A-20D5-4C7A-B8DB-80A81A87339B}" type="slidenum">
              <a:t>19</a:t>
            </a:fld>
          </a:p>
        </p:txBody>
      </p:sp>
    </p:spTree>
  </p:cSld>
  <p:transition>
    <p:blinds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llect and store data about the organization’s business activities and transactions efficiently and effective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جميع وتخزين البيانات المتعلقة بالأشطة والأحداث التجارية للمنشأة التجارية بكفائة وفاعلي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ure transaction data on source docu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خذ بيانات الحدث التجاري على وثائق أصل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transaction data in journals, which present a chronological record of what occur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بيانات الحدث التجاري في دفتر اليومية، بشكل يظهر ترتيب حدوثها الزمني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data from journals to ledgers, which sort data by account typ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بيانات من اليومية إلى الأستاذ، والذي يخزن البيانات حسب نوع الحساب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D4119-33A4-4E28-80F1-F21FD05B72BA}" type="slidenum">
              <a:t>2</a:t>
            </a:fld>
          </a:p>
        </p:txBody>
      </p:sp>
    </p:spTree>
  </p:cSld>
  <p:transition advTm="5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Control Consideration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بارات الرقابة الداخل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ird function of an AIS is to provide adequate internal controls to accomplish three basic obj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 الوظيفة الثالثة لنظام المعلومات المحاسبية هي التزويد بمراقة داخلية ملائمة لتحقيق ثلاثة أهداف رئيس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information is reliable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معلومات يعتمد عليها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ثوقٌ به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business activities are performed efficien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أنشطة التجارية أُنجزت بشكل فعّا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guard organizational assets.   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اية أصول المنشأ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important methods for accomplishing these obj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طرقتان المهمتان لتحقيق تلك الأهداف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for adequate documentation of all business activ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زود بالتوثيق الملائم لكل الأنشطة التجار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AIS for effective segregation of du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صميم نظام معلومات محاسبي فعّال في فصل الواجبا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8D4B0-781A-4056-8D2D-EF66AF28E89B}" type="slidenum">
              <a:t>20</a:t>
            </a:fld>
          </a:p>
        </p:txBody>
      </p:sp>
    </p:spTree>
  </p:cSld>
  <p:transition>
    <p:blinds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Documentation     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ثيق الملائ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560" y="9144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 allows management to verify that assigned responsibilities were completed correc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ثيق يتيح للإدارة للتحقق من أن المسؤوليات المخصصة (المحددة) أنجزت بشكل صحيح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243828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regation of Duties           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صل الواجبات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2895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3048120"/>
            <a:ext cx="74678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regation of duties refers to dividing responsibility for different portions of a transaction among several people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صل الواجبات تعزى إلى تقسيم المسؤوليات لمختلف أجزاء الحدث التجاري بين عدّة أشخاص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that should be performed by different people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ظائف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هام الواجب إنجازها من قبل الأشخاص المختلفين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izing transaction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فويض بالأحداث التجارية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ing transaction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الأحداث التجارية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ing custody of asset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حتفاظ برعاية الأصول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280C0-EB40-4345-BB28-57E20B6272BA}" type="slidenum">
              <a:t>21</a:t>
            </a:fld>
          </a:p>
        </p:txBody>
      </p:sp>
    </p:spTree>
  </p:cSld>
  <p:transition>
    <p:blinds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management with information useful for decision mak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ويد الإدارة بمعلومات نافعة في اتخاذ القرار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ual systems, this information is provided in the form of reports that fall into two main categ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نظام اليدوي يتم تزويد هذه المعلومات على شكل تقارير تقع ضمن فئتان رئيستان هما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tatement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شوف المال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الإدار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523880" y="419040"/>
            <a:ext cx="7467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34340-6672-4923-9550-0D8ECD241F2D}" type="slidenum">
              <a:t>3</a:t>
            </a:fld>
          </a:p>
        </p:txBody>
      </p:sp>
    </p:spTree>
  </p:cSld>
  <p:transition advTm="4000">
    <p:blinds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adequate internal contro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زويد بمراقبة داخلية ملائم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information produced by the system is reli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معلومات الناتجة عن النظام يعتمد عليها (موثوقٌ بها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business activities are performed efficiently and in accordance with management’s object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أنشطة التجارية أنجزت بشكل فعّال ومنسجم مع أهداف الإدار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guard organizational ass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اية أصول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821AD-5E30-4717-9CB8-B0D0461AC897}" type="slidenum">
              <a:t>4</a:t>
            </a:fld>
          </a:p>
        </p:txBody>
      </p:sp>
    </p:spTree>
  </p:cSld>
  <p:transition advTm="5000"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revenue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selling goods or services and collecting payment for those s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إيرادات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بيع البضائع والخدمات وتحصيل التسديدات لتلك المبيعا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expenditure cycle: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s activities of buying and paying for goods or services used by the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مصروفات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شراء البضائع والخدمات المستخدمة من قبل المنشأة، وتسديد ثمنه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human resources/payroll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hiring and paying employe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موارد البشرية/رواتب العاملين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تعيين ودفع رواتب الموظف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0FD2A-6DA1-4BEC-8667-6E46469BDDB7}" type="slidenum">
              <a:t>5</a:t>
            </a:fld>
          </a:p>
        </p:txBody>
      </p:sp>
    </p:spTree>
  </p:cSld>
  <p:transition advTm="4000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600" y="20574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roduction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converting raw materials and labor into finished go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إنتاج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تحويل للمواد الخام والعمالة إلى بضائع جاهز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financing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obtaining necessary funds to run the organization, repay creditors, and distribute profits to inves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تمويل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الحصول على الاعتمادات المالية اللازمة لتشغيل المنشأة، وتسديد المقرضين، وتوزيع الأرباح على المستثمر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D0A6B-0EC9-4A2D-A37D-FA7534765DB8}" type="slidenum">
              <a:t>6</a:t>
            </a:fld>
          </a:p>
        </p:txBody>
      </p:sp>
    </p:spTree>
  </p:cSld>
  <p:transition advTm="3000"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371600" y="1752480"/>
            <a:ext cx="6781320" cy="3733560"/>
            <a:chOff x="1371600" y="1752480"/>
            <a:chExt cx="6781320" cy="3733560"/>
          </a:xfrm>
        </p:grpSpPr>
        <p:sp>
          <p:nvSpPr>
            <p:cNvPr id="108" name=""/>
            <p:cNvSpPr/>
            <p:nvPr/>
          </p:nvSpPr>
          <p:spPr>
            <a:xfrm>
              <a:off x="369144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Expenditure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مصروفات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1164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Human Resources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الموارد البشرية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82480" y="4478760"/>
              <a:ext cx="2141280" cy="100728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Production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إنتاج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0400" y="4478760"/>
              <a:ext cx="2141280" cy="100728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Revenue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إيرادات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160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Financing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تمويل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47160" y="3293640"/>
              <a:ext cx="5829840" cy="8888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1a00"/>
                  </a:solidFill>
                  <a:latin typeface="Times New Roman"/>
                </a:rPr>
                <a:t>General Ledger &amp; Reporting System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1a1a00"/>
                  </a:solidFill>
                  <a:latin typeface="Times New Roman"/>
                </a:rPr>
                <a:t>الأستاذ العام  </a:t>
              </a:r>
              <a:r>
                <a:rPr b="0" lang="ar-JO" sz="2000" spc="-1" strike="noStrike">
                  <a:solidFill>
                    <a:srgbClr val="1a1a00"/>
                  </a:solidFill>
                  <a:latin typeface="Times New Roman"/>
                </a:rPr>
                <a:t>+  </a:t>
              </a:r>
              <a:r>
                <a:rPr b="0" lang="ar-SA" sz="2000" spc="-1" strike="noStrike">
                  <a:solidFill>
                    <a:srgbClr val="1a1a00"/>
                  </a:solidFill>
                  <a:latin typeface="Times New Roman"/>
                </a:rPr>
                <a:t>ونظام التقارير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42240" y="2761200"/>
              <a:ext cx="0" cy="70992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53480" y="4124160"/>
              <a:ext cx="0" cy="354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82280" y="2761200"/>
              <a:ext cx="0" cy="70992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62440" y="2761200"/>
              <a:ext cx="0" cy="53208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076080" y="4124160"/>
              <a:ext cx="0" cy="354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99EEF-55A9-4F41-9C11-7A10CC3D5271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Processing Cycle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processing cycle consists of four ste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ألف دورة معالجة البيانات من خمسة خطوات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npu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خال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orage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خزين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الجة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Outpu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راج المعلوم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igger for data input is usually business activity.  Data must be collected abou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صدر البيانات عادة ما يكون الأنشطة التجارية. ويجب جمع البيانات عن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event of interest  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حدث ذا أهم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ources affected by each even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صادر المتأثرة بكل حد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gents who participate in each even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 المشاركين في كل حد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3883E-EDE4-4C97-B60B-9AB74FC3E445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Inpu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إدخال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cally, most businesses used paper source documents to collect data and then transferred that data into a compu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ريخياً، معظم الأعمال التجارية استخدمت وثائق أصلية ورقية لتجميع البيانات ومن ثم نقلها على الحاسب الآلي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, most data are recorded directly through data entry scre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يوم، يتم تسجيل معظم البيانات من خلال شاشات إدخال مباشر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over data collection is improved by: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يطرة على تجميع البيانات تحسن ب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numbering each source document  and using turnaround doc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رقيم المسبق لكل وثيقة أصلية واستخدام إعادة الوثائ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the system automatically assign a sequential number to each new transaction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عل النظام يعين رقماً تسلسلي لكل حدت جدي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ing source data automation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صدر آلي ل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41CCF-BA8D-49A8-B317-E926B4EE442C}" type="slidenum">
              <a:t>9</a:t>
            </a:fld>
          </a:p>
        </p:txBody>
      </p:sp>
    </p:spTree>
  </p:cSld>
  <p:transition advTm="5000">
    <p:blinds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7:18:51Z</dcterms:created>
  <dc:creator>S. Bhattacharya</dc:creator>
  <dc:description/>
  <dc:language>en-US</dc:language>
  <cp:lastModifiedBy>dr-mahmood</cp:lastModifiedBy>
  <cp:lastPrinted>2004-09-25T05:48:13Z</cp:lastPrinted>
  <dcterms:modified xsi:type="dcterms:W3CDTF">2005-03-04T04:55:49Z</dcterms:modified>
  <cp:revision>112</cp:revision>
  <dc:subject/>
  <dc:title>Accounting  Information  Systems 9th Edition</dc:title>
</cp:coreProperties>
</file>