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954600" y="0"/>
            <a:ext cx="3024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98040" y="4343400"/>
            <a:ext cx="5583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30243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954600" y="8685360"/>
            <a:ext cx="30240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A17F-84C3-4D4E-9BC2-8AB3321AE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B2D3-BB89-455C-8353-65132890E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12840" y="692280"/>
            <a:ext cx="4554720" cy="3416040"/>
          </a:xfrm>
          <a:prstGeom prst="rect">
            <a:avLst/>
          </a:prstGeom>
          <a:ln w="0">
            <a:noFill/>
          </a:ln>
        </p:spPr>
      </p:sp>
      <p:sp>
        <p:nvSpPr>
          <p:cNvPr id="17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74A8-7F66-4729-A06F-354553C53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12840" y="692280"/>
            <a:ext cx="4554720" cy="3416040"/>
          </a:xfrm>
          <a:prstGeom prst="rect">
            <a:avLst/>
          </a:prstGeom>
          <a:ln w="0">
            <a:noFill/>
          </a:ln>
        </p:spPr>
      </p:sp>
      <p:sp>
        <p:nvSpPr>
          <p:cNvPr id="17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6E8E-236B-4C22-8EB5-22A469C6F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212840" y="692280"/>
            <a:ext cx="4554720" cy="3416040"/>
          </a:xfrm>
          <a:prstGeom prst="rect">
            <a:avLst/>
          </a:prstGeom>
          <a:ln w="0">
            <a:noFill/>
          </a:ln>
        </p:spPr>
      </p:sp>
      <p:sp>
        <p:nvSpPr>
          <p:cNvPr id="18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77A7-E560-4938-8C71-83B0B510E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212840" y="692280"/>
            <a:ext cx="4554720" cy="3416040"/>
          </a:xfrm>
          <a:prstGeom prst="rect">
            <a:avLst/>
          </a:prstGeom>
          <a:ln w="0">
            <a:noFill/>
          </a:ln>
        </p:spPr>
      </p:sp>
      <p:sp>
        <p:nvSpPr>
          <p:cNvPr id="18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FEF3-E10C-45E6-9B41-7F7349CF6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2840" y="692280"/>
            <a:ext cx="4554720" cy="3416040"/>
          </a:xfrm>
          <a:prstGeom prst="rect">
            <a:avLst/>
          </a:prstGeom>
          <a:ln w="0">
            <a:noFill/>
          </a:ln>
        </p:spPr>
      </p:sp>
      <p:sp>
        <p:nvSpPr>
          <p:cNvPr id="19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F13F-7555-499C-9CA7-60194DFC2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2840" y="692280"/>
            <a:ext cx="4554720" cy="3416040"/>
          </a:xfrm>
          <a:prstGeom prst="rect">
            <a:avLst/>
          </a:prstGeom>
          <a:ln w="0">
            <a:noFill/>
          </a:ln>
        </p:spPr>
      </p:sp>
      <p:sp>
        <p:nvSpPr>
          <p:cNvPr id="19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730B-746F-478A-9672-3244DF439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2840" y="692280"/>
            <a:ext cx="4554720" cy="3416040"/>
          </a:xfrm>
          <a:prstGeom prst="rect">
            <a:avLst/>
          </a:prstGeom>
          <a:ln w="0">
            <a:noFill/>
          </a:ln>
        </p:spPr>
      </p:sp>
      <p:sp>
        <p:nvSpPr>
          <p:cNvPr id="20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1CBD-1191-4DBA-B73D-8C4B3EE45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2840" y="692280"/>
            <a:ext cx="4554720" cy="3416040"/>
          </a:xfrm>
          <a:prstGeom prst="rect">
            <a:avLst/>
          </a:prstGeom>
          <a:ln w="0">
            <a:noFill/>
          </a:ln>
        </p:spPr>
      </p:sp>
      <p:sp>
        <p:nvSpPr>
          <p:cNvPr id="20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EDED-4814-41D4-99E1-2B4815DB7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2840" y="692280"/>
            <a:ext cx="4554720" cy="3416040"/>
          </a:xfrm>
          <a:prstGeom prst="rect">
            <a:avLst/>
          </a:prstGeom>
          <a:ln w="0">
            <a:noFill/>
          </a:ln>
        </p:spPr>
      </p:sp>
      <p:sp>
        <p:nvSpPr>
          <p:cNvPr id="21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7151-0FB5-4C5D-B3DE-4042D8924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2840" y="692280"/>
            <a:ext cx="4554720" cy="3416040"/>
          </a:xfrm>
          <a:prstGeom prst="rect">
            <a:avLst/>
          </a:prstGeom>
          <a:ln w="0">
            <a:noFill/>
          </a:ln>
        </p:spPr>
      </p:sp>
      <p:sp>
        <p:nvSpPr>
          <p:cNvPr id="21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590E-30EF-4093-8CBD-9C56B9B93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2840" y="692280"/>
            <a:ext cx="4554720" cy="3416040"/>
          </a:xfrm>
          <a:prstGeom prst="rect">
            <a:avLst/>
          </a:prstGeom>
          <a:ln w="0">
            <a:noFill/>
          </a:ln>
        </p:spPr>
      </p:sp>
      <p:sp>
        <p:nvSpPr>
          <p:cNvPr id="22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BE81-5A8B-43C3-AC49-CA0CF5094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2840" y="692280"/>
            <a:ext cx="4554720" cy="3416040"/>
          </a:xfrm>
          <a:prstGeom prst="rect">
            <a:avLst/>
          </a:prstGeom>
          <a:ln w="0">
            <a:noFill/>
          </a:ln>
        </p:spPr>
      </p:sp>
      <p:sp>
        <p:nvSpPr>
          <p:cNvPr id="22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BFC0-4059-41C8-B535-610716FF1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2840" y="692280"/>
            <a:ext cx="4554720" cy="3416040"/>
          </a:xfrm>
          <a:prstGeom prst="rect">
            <a:avLst/>
          </a:prstGeom>
          <a:ln w="0">
            <a:noFill/>
          </a:ln>
        </p:spPr>
      </p:sp>
      <p:sp>
        <p:nvSpPr>
          <p:cNvPr id="23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7E77-AE70-426A-9464-2085C187D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2840" y="692280"/>
            <a:ext cx="4554720" cy="3416040"/>
          </a:xfrm>
          <a:prstGeom prst="rect">
            <a:avLst/>
          </a:prstGeom>
          <a:ln w="0">
            <a:noFill/>
          </a:ln>
        </p:spPr>
      </p:sp>
      <p:sp>
        <p:nvSpPr>
          <p:cNvPr id="23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0592-56F5-4C93-99D8-828CC27A5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2840" y="692280"/>
            <a:ext cx="4554720" cy="3416040"/>
          </a:xfrm>
          <a:prstGeom prst="rect">
            <a:avLst/>
          </a:prstGeom>
          <a:ln w="0">
            <a:noFill/>
          </a:ln>
        </p:spPr>
      </p:sp>
      <p:sp>
        <p:nvSpPr>
          <p:cNvPr id="24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37E5-E020-40B0-B494-C251FA649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2840" y="692280"/>
            <a:ext cx="4554720" cy="3416040"/>
          </a:xfrm>
          <a:prstGeom prst="rect">
            <a:avLst/>
          </a:prstGeom>
          <a:ln w="0">
            <a:noFill/>
          </a:ln>
        </p:spPr>
      </p:sp>
      <p:sp>
        <p:nvSpPr>
          <p:cNvPr id="24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A1CA-41E4-42FA-A738-330A29368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2840" y="692280"/>
            <a:ext cx="4554720" cy="3416040"/>
          </a:xfrm>
          <a:prstGeom prst="rect">
            <a:avLst/>
          </a:prstGeom>
          <a:ln w="0">
            <a:noFill/>
          </a:ln>
        </p:spPr>
      </p:sp>
      <p:sp>
        <p:nvSpPr>
          <p:cNvPr id="25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326D-3026-4D03-B48F-580252571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212840" y="692280"/>
            <a:ext cx="4554720" cy="3416040"/>
          </a:xfrm>
          <a:prstGeom prst="rect">
            <a:avLst/>
          </a:prstGeom>
          <a:ln w="0">
            <a:noFill/>
          </a:ln>
        </p:spPr>
      </p:sp>
      <p:sp>
        <p:nvSpPr>
          <p:cNvPr id="16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16818C-C283-4E7A-AA59-D16F7114C3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C5D2C0-6EA9-4F06-8B9C-1775EC4A91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03F7C3-6DFD-499B-9574-E3130C381F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877961-AA35-472B-AE1B-FAF88065D6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8FA920B-47F2-40AF-9C57-7CC7381ADD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814784-A970-49C9-848A-105509872D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80CC18-9272-45DA-9FB0-3F18B32426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92726D-69E1-4F52-94CF-753F13B31E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4A5455-688C-4D24-8D61-B121BB7F20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27DC68-EC6F-4325-8179-10708A8249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2A1B6A-6CFB-4B97-A227-714D1E74A0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3D3AA8-97BB-4D9A-B63F-8965479B87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98F95D-EB31-4AA1-901F-E585697CD4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2FF6FA-5C8E-472C-92CC-DB5A12E70A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E433AA-2DB0-49F0-98AA-9F69BAE021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E8C1B65-0141-4F2D-8C49-C940AE469A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748803-818A-4E82-A3B1-21D02BF497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2EDA39-EFAB-4B2E-B396-8A9BDB781E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34725D-2163-499A-9CC8-94AD60B921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621DE3-078C-4B19-BE8C-6F8B70E391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22EE0D-1B66-4BE2-BB7E-9457CFBA0B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7BC7C6-C86F-4246-8F52-07439D0CEC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E7912D-F967-451F-96C4-4BD31624CF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8D325B-1F3B-49FD-A927-919638D946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715922AF-6260-4184-B1E8-C86248BB479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C9C5B10A-E9CD-4270-A14A-5DA72529E6D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762120"/>
            <a:ext cx="7010640" cy="3657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من</a:t>
            </a:r>
            <a:br>
              <a:rPr sz="3200"/>
            </a:br>
            <a:br>
              <a:rPr sz="3200"/>
            </a:br>
            <a:r>
              <a:rPr b="0" lang="en-US" sz="3200" spc="-1" strike="noStrike">
                <a:solidFill>
                  <a:srgbClr val="000000"/>
                </a:solidFill>
                <a:latin typeface="Times New Roman"/>
                <a:ea typeface="Times New Roman"/>
              </a:rPr>
              <a:t>Computer-Based</a:t>
            </a:r>
            <a:br>
              <a:rPr sz="3200"/>
            </a:br>
            <a:r>
              <a:rPr b="0" lang="en-US" sz="3200" spc="-1" strike="noStrike">
                <a:solidFill>
                  <a:srgbClr val="000000"/>
                </a:solidFill>
                <a:latin typeface="Times New Roman"/>
                <a:ea typeface="Times New Roman"/>
              </a:rPr>
              <a:t>Information Systems Controls</a:t>
            </a:r>
            <a:br>
              <a:rPr sz="3200"/>
            </a:br>
            <a:r>
              <a:rPr b="0" lang="ar-SA" sz="3200" spc="-1" strike="noStrike">
                <a:solidFill>
                  <a:srgbClr val="000000"/>
                </a:solidFill>
                <a:latin typeface="Times New Roman"/>
                <a:cs typeface="Times New Roman"/>
              </a:rPr>
              <a:t>رقابة نظام المعلومات المستند على الحاسوب</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46F843E7-2070-4D19-95C5-E7709DCA89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3915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ar-SA" sz="2600" spc="-1" strike="noStrike">
                <a:solidFill>
                  <a:srgbClr val="000000"/>
                </a:solidFill>
                <a:latin typeface="Times New Roman"/>
              </a:rPr>
              <a:t>) </a:t>
            </a:r>
            <a:r>
              <a:rPr b="0" lang="en-US" sz="2600" spc="-1" strike="noStrike">
                <a:solidFill>
                  <a:srgbClr val="000000"/>
                </a:solidFill>
                <a:latin typeface="Times New Roman"/>
              </a:rPr>
              <a:t>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sp>
        <p:nvSpPr>
          <p:cNvPr id="113" name="PlaceHolder 2"/>
          <p:cNvSpPr>
            <a:spLocks noGrp="1"/>
          </p:cNvSpPr>
          <p:nvPr>
            <p:ph/>
          </p:nvPr>
        </p:nvSpPr>
        <p:spPr>
          <a:xfrm>
            <a:off x="0" y="1676520"/>
            <a:ext cx="9144000" cy="449568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 highly integrated AIS, procedures that used to be performed by separate individuals are combine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نظام المعلومات المحاسبية المترابطة بشكل فائق، الإجراءات التي في العادة تنفذ من قبل أشخاص مختلفين يتم جمعها.</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 person who has unrestricted access to the computer, its programs, and live data could have the opportunity to both perpetrate and conceal frau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فرد الذي يمكنه الدخول إلى الحواسيب وبرامجها والبيانات دون أي قيد يملك فرصة الاحتيال دون أن يكتشف.</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ombat this threat, organizations must implement compensating control procedures such as the effective segregation of duties within the information system  function.</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لمواجهة هذا التهديد، يجب على على المنشأة أن تطبق إجراءات رقابة صارمة مثل الفصل الفع</a:t>
            </a:r>
            <a:r>
              <a:rPr b="0" lang="ar-JO" sz="2200" spc="-1" strike="noStrike">
                <a:solidFill>
                  <a:srgbClr val="000000"/>
                </a:solidFill>
                <a:latin typeface="Arial"/>
              </a:rPr>
              <a:t>ّ</a:t>
            </a:r>
            <a:r>
              <a:rPr b="0" lang="ar-SA" sz="2200" spc="-1" strike="noStrike">
                <a:solidFill>
                  <a:srgbClr val="000000"/>
                </a:solidFill>
                <a:latin typeface="Arial"/>
              </a:rPr>
              <a:t>ال للواجبات في نظام المعلوم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7775174-A8D8-499A-8282-110DCDE8DDA9}" type="slidenum">
              <a:t>10</a:t>
            </a:fld>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447920"/>
            <a:ext cx="9144000" cy="5029200"/>
          </a:xfrm>
          <a:prstGeom prst="rect">
            <a:avLst/>
          </a:prstGeom>
          <a:noFill/>
          <a:ln w="0">
            <a:noFill/>
          </a:ln>
        </p:spPr>
        <p:txBody>
          <a:bodyPr lIns="90360" rIns="90360" tIns="44280" bIns="44280" anchor="t">
            <a:normAutofit fontScale="98000"/>
          </a:bodyPr>
          <a:p>
            <a:pPr marL="391680" indent="-39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ty and responsibility must be clearly divided among the following functions:</a:t>
            </a:r>
            <a:endParaRPr b="0" lang="en-US" sz="2000" spc="-1" strike="noStrike">
              <a:solidFill>
                <a:srgbClr val="000000"/>
              </a:solidFill>
              <a:latin typeface="Arial"/>
            </a:endParaRPr>
          </a:p>
          <a:p>
            <a:pPr marL="391680" indent="-39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سلطات والمسؤوليات يجب أن تقسم بوضوح بين الوظائف التالي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ion </a:t>
            </a:r>
            <a:r>
              <a:rPr b="0" lang="ar-JO" sz="2000" spc="-1" strike="noStrike">
                <a:solidFill>
                  <a:srgbClr val="000000"/>
                </a:solidFill>
                <a:latin typeface="Times New Roman"/>
              </a:rPr>
              <a:t>إدارة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management </a:t>
            </a:r>
            <a:r>
              <a:rPr b="0" lang="ar-JO" sz="2000" spc="-1" strike="noStrike">
                <a:solidFill>
                  <a:srgbClr val="000000"/>
                </a:solidFill>
                <a:latin typeface="Times New Roman"/>
              </a:rPr>
              <a:t>إدارة الشبك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management </a:t>
            </a:r>
            <a:r>
              <a:rPr b="0" lang="ar-JO" sz="2000" spc="-1" strike="noStrike">
                <a:solidFill>
                  <a:srgbClr val="000000"/>
                </a:solidFill>
                <a:latin typeface="Times New Roman"/>
              </a:rPr>
              <a:t>إدارة الأم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management </a:t>
            </a:r>
            <a:r>
              <a:rPr b="0" lang="ar-JO" sz="2000" spc="-1" strike="noStrike">
                <a:solidFill>
                  <a:srgbClr val="000000"/>
                </a:solidFill>
                <a:latin typeface="Times New Roman"/>
              </a:rPr>
              <a:t>إدارة التغيير</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t>
            </a:r>
            <a:r>
              <a:rPr b="0" lang="ar-SA" sz="2000" spc="-1" strike="noStrike">
                <a:solidFill>
                  <a:srgbClr val="000000"/>
                </a:solidFill>
                <a:latin typeface="Times New Roman"/>
              </a:rPr>
              <a:t>المستخدمو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nalysis </a:t>
            </a:r>
            <a:r>
              <a:rPr b="0" lang="ar-JO" sz="2000" spc="-1" strike="noStrike">
                <a:solidFill>
                  <a:srgbClr val="000000"/>
                </a:solidFill>
                <a:latin typeface="Times New Roman"/>
              </a:rPr>
              <a:t>محلل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a:t>
            </a:r>
            <a:r>
              <a:rPr b="0" lang="ar-SA" sz="2000" spc="-1" strike="noStrike">
                <a:solidFill>
                  <a:srgbClr val="000000"/>
                </a:solidFill>
                <a:latin typeface="Times New Roman"/>
              </a:rPr>
              <a:t>البرمج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operations </a:t>
            </a:r>
            <a:r>
              <a:rPr b="0" lang="ar-JO" sz="2000" spc="-1" strike="noStrike">
                <a:solidFill>
                  <a:srgbClr val="000000"/>
                </a:solidFill>
                <a:latin typeface="Times New Roman"/>
              </a:rPr>
              <a:t>تشغيل الحاسوب</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ystem library </a:t>
            </a:r>
            <a:r>
              <a:rPr b="0" lang="ar-JO" sz="2000" spc="-1" strike="noStrike">
                <a:solidFill>
                  <a:srgbClr val="000000"/>
                </a:solidFill>
                <a:latin typeface="Times New Roman"/>
              </a:rPr>
              <a:t>مكتبة نظم المعلومات</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a:t>
            </a:r>
            <a:r>
              <a:rPr b="0" lang="ar-JO" sz="2000" spc="-1" strike="noStrike">
                <a:solidFill>
                  <a:srgbClr val="000000"/>
                </a:solidFill>
                <a:latin typeface="Times New Roman"/>
              </a:rPr>
              <a:t>رقابة البيانات</a:t>
            </a:r>
            <a:endParaRPr b="0" lang="en-US" sz="2000" spc="-1" strike="noStrike">
              <a:solidFill>
                <a:srgbClr val="000000"/>
              </a:solidFill>
              <a:latin typeface="Arial"/>
            </a:endParaRPr>
          </a:p>
          <a:p>
            <a:pPr marL="391680" indent="-39168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ortant that different people perform these functions. Allowing a person to perform two or more of them exposes the company to the possibility of fraud.</a:t>
            </a:r>
            <a:endParaRPr b="0" lang="en-US" sz="2000" spc="-1" strike="noStrike">
              <a:solidFill>
                <a:srgbClr val="000000"/>
              </a:solidFill>
              <a:latin typeface="Arial"/>
            </a:endParaRPr>
          </a:p>
          <a:p>
            <a:pPr marL="391680" indent="-39168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من المهم أن ينفذ تلك الوظائف أشخاص مختلفين. والسماح لشخص واحد بتنفيذ وظيفتان أو أكثر يعرض المنشأة لإحتمالية الغش.</a:t>
            </a:r>
            <a:endParaRPr b="0" lang="en-US" sz="2000" spc="-1" strike="noStrike">
              <a:solidFill>
                <a:srgbClr val="000000"/>
              </a:solidFill>
              <a:latin typeface="Arial"/>
            </a:endParaRPr>
          </a:p>
        </p:txBody>
      </p:sp>
      <p:sp>
        <p:nvSpPr>
          <p:cNvPr id="115" name="PlaceHolder 2"/>
          <p:cNvSpPr>
            <a:spLocks noGrp="1"/>
          </p:cNvSpPr>
          <p:nvPr>
            <p:ph type="title"/>
          </p:nvPr>
        </p:nvSpPr>
        <p:spPr>
          <a:xfrm>
            <a:off x="1523520" y="380880"/>
            <a:ext cx="7620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pic>
        <p:nvPicPr>
          <p:cNvPr id="116" name="" descr=""/>
          <p:cNvPicPr/>
          <p:nvPr/>
        </p:nvPicPr>
        <p:blipFill>
          <a:blip r:embed="rId1"/>
          <a:stretch/>
        </p:blipFill>
        <p:spPr>
          <a:xfrm>
            <a:off x="6324480" y="2743200"/>
            <a:ext cx="2087640" cy="191772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8CDF6F4-7C89-43AF-9A43-D04DBB30BC27}" type="slidenum">
              <a:t>11</a:t>
            </a:fld>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4">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14">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4">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4">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4">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4">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4">
                                            <p:txEl>
                                              <p:pRg st="4" end="4"/>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4">
                                            <p:txEl>
                                              <p:pRg st="5" end="5"/>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18"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89000"/>
          </a:bodyPr>
          <a:p>
            <a:pPr marL="305280" indent="-3052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تتحقق بـ</a:t>
            </a:r>
            <a:r>
              <a:rPr b="0" lang="ar-SA" sz="2200" spc="-1" strike="noStrike">
                <a:solidFill>
                  <a:srgbClr val="000000"/>
                </a:solidFill>
                <a:latin typeface="Times New Roman"/>
              </a:rPr>
              <a:t> </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ce computer equipment in locked rooms and restrict access to authorized personnel</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ضع معدات الحاسوب في غرف مغلقة، والسماح للأشخاص المخولين فقط بالدخول</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only one or two entrances to the computer roo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جود فقط مدخل واحد أو مدخلين لغرف الحاسوب</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proper employee ID</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موظفين المخولين بحمل هوية</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that visitors sign a log</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زائر بالتوقيع</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a security alarm syste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استخدام إنذار أمني</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to private secured telephone lines and terminals or PCs.</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دخول إلى خطوط الاتصالات وطرفيات الحواسيب الشخص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1D67ACA-4B37-4FEC-BC91-0AE60DEF6909}" type="slidenum">
              <a:t>12</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18">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18">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8">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8">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8">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20"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يتحقق بـ</a:t>
            </a:r>
            <a:r>
              <a:rPr b="0" lang="ar-SA"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locks on PC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تركيب أقفال على الحواسيب الشخصية</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of off-line programs, data and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وصول للبرامج والبيانات والمعد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e hardware and other critical system components away from hazardous material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ضع الأجهزة والأنظمة الحساسة بعيدة عن المواد المنطوية على مخاطر.</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fire and smoke detectors and fire extinguishers that don not damage computer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rPr>
              <a:t>تركيب نظام للكشف عن الحريق والدخان، ونظام الإطفاء بمواد لا تضر أجهزة الحاسوب.</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EF2FC0C-988B-4F52-B5C1-47800AE82689}" type="slidenum">
              <a:t>13</a:t>
            </a:fld>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0">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20">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120">
                                            <p:txEl>
                                              <p:pRg st="4" end="4"/>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0">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0">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20">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0">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0">
                                            <p:txEl>
                                              <p:pRg st="7" end="7"/>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0">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676160"/>
            <a:ext cx="9144000" cy="4343400"/>
          </a:xfrm>
          <a:prstGeom prst="rect">
            <a:avLst/>
          </a:prstGeom>
          <a:noFill/>
          <a:ln w="0">
            <a:noFill/>
          </a:ln>
        </p:spPr>
        <p:txBody>
          <a:bodyPr lIns="90360" rIns="90360" tIns="44280" bIns="4428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be allowed access only to the data they are authorized to use and then only to perform specific authorized function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من المفترض أن يسمح للمستخدمين بالوصول فقط إلى البيانات المصرح لهم باستخدامها، ومن ثم يؤدوا الوظائف المحددة والمصرح لهم بها.</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logical access controls are: </a:t>
            </a:r>
            <a:r>
              <a:rPr b="0" lang="ar-JO" sz="2400" spc="-1" strike="noStrike">
                <a:solidFill>
                  <a:srgbClr val="000000"/>
                </a:solidFill>
                <a:latin typeface="Times New Roman"/>
              </a:rPr>
              <a:t>بعض أشكال الرقابة على الدخول المنطقي</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s </a:t>
            </a:r>
            <a:r>
              <a:rPr b="0" lang="ar-JO" sz="2400" spc="-1" strike="noStrike">
                <a:solidFill>
                  <a:srgbClr val="000000"/>
                </a:solidFill>
                <a:latin typeface="Times New Roman"/>
              </a:rPr>
              <a:t>كلمة سر</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possession identification </a:t>
            </a:r>
            <a:r>
              <a:rPr b="0" lang="ar-JO" sz="2400" spc="-1" strike="noStrike">
                <a:solidFill>
                  <a:srgbClr val="000000"/>
                </a:solidFill>
                <a:latin typeface="Times New Roman"/>
              </a:rPr>
              <a:t>حيازة تهريف ملموس كالهوية</a:t>
            </a:r>
            <a:r>
              <a:rPr b="0" lang="ar-SA"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trics identification </a:t>
            </a:r>
            <a:r>
              <a:rPr b="0" lang="ar-JO" sz="2400" spc="-1" strike="noStrike">
                <a:solidFill>
                  <a:srgbClr val="000000"/>
                </a:solidFill>
                <a:latin typeface="Times New Roman"/>
              </a:rPr>
              <a:t>تعريف حيوي (بصمة الإصبع)</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tests    </a:t>
            </a:r>
            <a:r>
              <a:rPr b="0" lang="ar-JO" sz="2400" spc="-1" strike="noStrike">
                <a:solidFill>
                  <a:srgbClr val="000000"/>
                </a:solidFill>
                <a:latin typeface="Times New Roman"/>
              </a:rPr>
              <a:t>فحص التوافق</a:t>
            </a:r>
            <a:endParaRPr b="0" lang="en-US" sz="2400" spc="-1" strike="noStrike">
              <a:solidFill>
                <a:srgbClr val="000000"/>
              </a:solidFill>
              <a:latin typeface="Arial"/>
            </a:endParaRPr>
          </a:p>
        </p:txBody>
      </p:sp>
      <p:sp>
        <p:nvSpPr>
          <p:cNvPr id="122" name="PlaceHolder 2"/>
          <p:cNvSpPr>
            <a:spLocks noGrp="1"/>
          </p:cNvSpPr>
          <p:nvPr>
            <p:ph type="title"/>
          </p:nvPr>
        </p:nvSpPr>
        <p:spPr>
          <a:xfrm>
            <a:off x="1523880" y="304920"/>
            <a:ext cx="70106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3</a:t>
            </a:r>
            <a:r>
              <a:rPr b="0" lang="ar-SA" sz="3400" spc="-1" strike="noStrike">
                <a:solidFill>
                  <a:srgbClr val="000000"/>
                </a:solidFill>
                <a:latin typeface="Times New Roman"/>
              </a:rPr>
              <a:t>) </a:t>
            </a:r>
            <a:r>
              <a:rPr b="0" lang="en-US" sz="3400" spc="-1" strike="noStrike">
                <a:solidFill>
                  <a:srgbClr val="000000"/>
                </a:solidFill>
                <a:latin typeface="Times New Roman"/>
              </a:rPr>
              <a:t>Logical Access Controls</a:t>
            </a:r>
            <a:br>
              <a:rPr sz="3400"/>
            </a:br>
            <a:r>
              <a:rPr b="0" lang="ar-SA" sz="3400" spc="-1" strike="noStrike">
                <a:solidFill>
                  <a:srgbClr val="000000"/>
                </a:solidFill>
                <a:latin typeface="Times New Roman"/>
              </a:rPr>
              <a:t>الرقابة على الدخول المنطقي</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C0C66C4-6484-4C86-B480-485C328A4D98}" type="slidenum">
              <a:t>14</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1">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2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1">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1">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45720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a:t>
            </a:r>
            <a:r>
              <a:rPr b="0" lang="ar-SA" sz="3000" spc="-1" strike="noStrike">
                <a:solidFill>
                  <a:srgbClr val="000000"/>
                </a:solidFill>
                <a:latin typeface="Times New Roman"/>
              </a:rPr>
              <a:t>) </a:t>
            </a:r>
            <a:r>
              <a:rPr b="0" lang="en-US" sz="3000" spc="-1" strike="noStrike">
                <a:solidFill>
                  <a:srgbClr val="000000"/>
                </a:solidFill>
                <a:latin typeface="Times New Roman"/>
              </a:rPr>
              <a:t>Protection of PCs and Client/Server Networks</a:t>
            </a:r>
            <a:br>
              <a:rPr sz="3000"/>
            </a:br>
            <a:r>
              <a:rPr b="0" lang="ar-SA" sz="3000" spc="-1" strike="noStrike">
                <a:solidFill>
                  <a:srgbClr val="000000"/>
                </a:solidFill>
                <a:latin typeface="Times New Roman"/>
              </a:rPr>
              <a:t>حماية الحواسيب الشخصية وشبكة العملاء المقدم للخدمة</a:t>
            </a:r>
            <a:endParaRPr b="0" lang="en-US" sz="3000" spc="-1" strike="noStrike">
              <a:solidFill>
                <a:srgbClr val="000000"/>
              </a:solidFill>
              <a:latin typeface="Arial"/>
            </a:endParaRPr>
          </a:p>
        </p:txBody>
      </p:sp>
      <p:sp>
        <p:nvSpPr>
          <p:cNvPr id="124" name="PlaceHolder 2"/>
          <p:cNvSpPr>
            <a:spLocks noGrp="1"/>
          </p:cNvSpPr>
          <p:nvPr>
            <p:ph/>
          </p:nvPr>
        </p:nvSpPr>
        <p:spPr>
          <a:xfrm>
            <a:off x="228600" y="1676160"/>
            <a:ext cx="876312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in users in PC-related control concept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دريب المستخدمين على مفاهيم الرقابة الم</a:t>
            </a:r>
            <a:r>
              <a:rPr b="0" lang="ar-JO" sz="2200" spc="-1" strike="noStrike">
                <a:solidFill>
                  <a:srgbClr val="000000"/>
                </a:solidFill>
                <a:latin typeface="Times New Roman"/>
              </a:rPr>
              <a:t>ت</a:t>
            </a:r>
            <a:r>
              <a:rPr b="0" lang="ar-SA" sz="2200" spc="-1" strike="noStrike">
                <a:solidFill>
                  <a:srgbClr val="000000"/>
                </a:solidFill>
                <a:latin typeface="Times New Roman"/>
              </a:rPr>
              <a:t>علقة</a:t>
            </a:r>
            <a:r>
              <a:rPr b="0" lang="ar-JO" sz="2200" spc="-1" strike="noStrike">
                <a:solidFill>
                  <a:srgbClr val="000000"/>
                </a:solidFill>
                <a:latin typeface="Times New Roman"/>
              </a:rPr>
              <a:t>  بالحواسيب الشخصي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by using locks and keys on PC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منع الدخول إلى الحواسب باستخدام المفا</a:t>
            </a:r>
            <a:r>
              <a:rPr b="0" lang="ar-JO" sz="2200" spc="-1" strike="noStrike">
                <a:solidFill>
                  <a:srgbClr val="000000"/>
                </a:solidFill>
                <a:latin typeface="Times New Roman"/>
              </a:rPr>
              <a:t>تيح والأقفا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blish policies and procedures. </a:t>
            </a:r>
            <a:r>
              <a:rPr b="0" lang="ar-SA" sz="2200" spc="-1" strike="noStrike">
                <a:solidFill>
                  <a:srgbClr val="000000"/>
                </a:solidFill>
                <a:latin typeface="Times New Roman"/>
              </a:rPr>
              <a:t>انشاء سياسات واجراء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able PCs should not be stored in car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حواسيب المحمولة يجب أن لا تترك في السيا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ep sensitive data in the most secure environment possibl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حفظ البيانات الحساسة</a:t>
            </a:r>
            <a:r>
              <a:rPr b="0" lang="ar-JO" sz="2200" spc="-1" strike="noStrike">
                <a:solidFill>
                  <a:srgbClr val="000000"/>
                </a:solidFill>
                <a:latin typeface="Times New Roman"/>
              </a:rPr>
              <a:t> في أكثر البيآت الأمان الممك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A2CFBF5-D519-4BA8-B2C8-F893FD7ACB1C}" type="slidenum">
              <a:t>15</a:t>
            </a:fld>
          </a:p>
        </p:txBody>
      </p:sp>
    </p:spTree>
  </p:cSld>
  <p:transition>
    <p:blinds dir="vert"/>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xEl>
                                              <p:pRg st="1" end="1"/>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24">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2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6"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software that automatically shuts down a terminal after its been idle for a certain amount of tim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ثبيت برامج تغلق الطرفيات أوتوماتيكياً في حال عدم استخدامها لفت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 up hard disks regularly.</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عمل نسخ احتياط بشكل دوري</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 or password to protect file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شفير (ترميز) أو استخدام كلمة سر لحماية الملف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ild protective walls around operating system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بناء جدار حماية (وهمي) حول نظام الـ</a:t>
            </a:r>
            <a:r>
              <a:rPr b="0" lang="ar-JO" sz="2200" spc="-1" strike="noStrike">
                <a:solidFill>
                  <a:srgbClr val="000000"/>
                </a:solidFill>
                <a:latin typeface="Times New Roman"/>
              </a:rPr>
              <a:t>تشغيل.</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35E9F58-47D4-46D5-86E0-7773810B4042}" type="slidenum">
              <a:t>16</a:t>
            </a:fld>
          </a:p>
        </p:txBody>
      </p:sp>
    </p:spTree>
  </p:cSld>
  <p:transition>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6">
                                            <p:txEl>
                                              <p:pRg st="1" end="1"/>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26">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6">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8" name="PlaceHolder 2"/>
          <p:cNvSpPr>
            <a:spLocks noGrp="1"/>
          </p:cNvSpPr>
          <p:nvPr>
            <p:ph/>
          </p:nvPr>
        </p:nvSpPr>
        <p:spPr>
          <a:xfrm>
            <a:off x="76320" y="1523520"/>
            <a:ext cx="906768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that PCs are booted up within a secure system.</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تأكد من أن الحواسيب تعمل من</a:t>
            </a:r>
            <a:r>
              <a:rPr b="0" lang="ar-JO" sz="2200" spc="-1" strike="noStrike">
                <a:solidFill>
                  <a:srgbClr val="000000"/>
                </a:solidFill>
                <a:latin typeface="Times New Roman"/>
              </a:rPr>
              <a:t> خلال نظام آمن.</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multilevel password controls to limit employee access to incompatible data.</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 للحماية من عدة مستويات  للحد من دخول الموظفين للبيانات المتعذرة دخولها من قبل شخص واحد.</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pecialists to detect holes in the network.</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ستعانة بالمتخصصين لكشف فجوات الشب</a:t>
            </a:r>
            <a:r>
              <a:rPr b="0" lang="ar-JO" sz="2200" spc="-1" strike="noStrike">
                <a:solidFill>
                  <a:srgbClr val="000000"/>
                </a:solidFill>
                <a:latin typeface="Times New Roman"/>
              </a:rPr>
              <a:t>ك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6C9CC9B-A0BB-41E0-A3CE-B4F6D3D6B54B}" type="slidenum">
              <a:t>17</a:t>
            </a:fld>
          </a:p>
        </p:txBody>
      </p:sp>
    </p:spTree>
  </p:cSld>
  <p:transition>
    <p:blinds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28">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2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0" name="PlaceHolder 2"/>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ution should be exercised when conducting business on the Internet becau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يجب أخذ الحذر عند ممارسة العمل التجاري على الإنتر نت، وذلك بسبب</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 and global base of people that depend on the Internet</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كثرة وتنوع مستخدمي الإنترنت</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riability in quality, compatibility, completeness, and stability of network products and servic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تنوع في الجودة والمنافسة والاستقرار في بضائع وخدمات الشبك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of messages by others           </a:t>
            </a:r>
            <a:r>
              <a:rPr b="0" lang="ar-JO" sz="2200" spc="-1" strike="noStrike">
                <a:solidFill>
                  <a:srgbClr val="000000"/>
                </a:solidFill>
                <a:latin typeface="Times New Roman"/>
              </a:rPr>
              <a:t>امكانية اطلاع الآخرين على الرسائ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urity flaws in Web sites                      </a:t>
            </a:r>
            <a:r>
              <a:rPr b="0" lang="ar-JO" sz="2200" spc="-1" strike="noStrike">
                <a:solidFill>
                  <a:srgbClr val="000000"/>
                </a:solidFill>
                <a:latin typeface="Times New Roman"/>
              </a:rPr>
              <a:t>اختراق أمن الكثير من المواقع</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raction of hackers to the Internet              </a:t>
            </a:r>
            <a:r>
              <a:rPr b="0" lang="ar-JO" sz="2200" spc="-1" strike="noStrike">
                <a:solidFill>
                  <a:srgbClr val="000000"/>
                </a:solidFill>
                <a:latin typeface="Times New Roman"/>
              </a:rPr>
              <a:t>الإنترنت تجذب القراص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54BF730-744E-48CE-BEA9-86791DAEB592}" type="slidenum">
              <a:t>18</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0">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2" name="PlaceHolder 2"/>
          <p:cNvSpPr>
            <a:spLocks noGrp="1"/>
          </p:cNvSpPr>
          <p:nvPr>
            <p:ph/>
          </p:nvPr>
        </p:nvSpPr>
        <p:spPr>
          <a:xfrm>
            <a:off x="0" y="1600200"/>
            <a:ext cx="9144000" cy="51055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s that can be used to secure Internet activity ar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رقابات (التحكمات) التي يجب الأخذ بها لتأمين الأنشطة التجارية على الإنترنت</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word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ion technology</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رميز التكنولوجيا المستخدم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ing verification procedur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مراجعة إجراءات التحقق</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a firewall</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ثبيت ما يسمى بجدار النار</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39D7E0B-82DF-4AB5-B9A4-A64848B69E10}" type="slidenum">
              <a:t>19</a:t>
            </a:fld>
          </a:p>
        </p:txBody>
      </p:sp>
    </p:spTree>
  </p:cSld>
  <p:transition>
    <p:blinds dir="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2">
                                            <p:txEl>
                                              <p:pRg st="0" end="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32">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7"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5000"/>
          </a:bodyPr>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oday’s world more and more companies depend on IT to process business information electronically. They use It to operate their business, manufacture products, and perform services.</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عالمنا اليوم العديد من المنشآت تعتمد على تكنولوجيا المعلومات لمعالجة معلوماتها التجارية بشكل إلكتروني، فهي تستخدم تكنولوجيا المعلومات حتى تسير أعمالها وتصنع منتجاتها وتقدم خدماتها.</a:t>
            </a:r>
            <a:endParaRPr b="0" lang="en-US" sz="2000" spc="-1" strike="noStrike">
              <a:solidFill>
                <a:srgbClr val="000000"/>
              </a:solidFill>
              <a:latin typeface="Arial"/>
            </a:endParaRPr>
          </a:p>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nies can no longer build a mount around their information systems and lock everyone else out. Instead, they must share information and use IT to link their information system to their customers, vendors, employees, business partners, and shareholders and governmental entities, which has made information systems more vulnerable.</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م تعد تستطيع المنشآت حجر أنظمة معلوماتها عن الآخرين، بل على العكس من ذلك صار لابد لها من المشاركة في المعلومات واستخدام تكنولوجيا المعلومات لربط نظم معلوماتها مع عملائها ومورديها وموظفوها والمساهمين فيها بالإضافة إلى الجهات الرسمية الحكومية، الأمر الذي جعل أنظمة المعلومات أكثر عطب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B4DFA3B-FB5F-4421-999F-809B9CB75CC7}"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intainability</a:t>
            </a:r>
            <a:br>
              <a:rPr sz="3200"/>
            </a:br>
            <a:r>
              <a:rPr b="0" lang="ar-SA" sz="3200" spc="-1" strike="noStrike">
                <a:solidFill>
                  <a:srgbClr val="000000"/>
                </a:solidFill>
                <a:latin typeface="Times New Roman"/>
                <a:cs typeface="Times New Roman"/>
              </a:rPr>
              <a:t>إمكانية الصيانة (التعديل</a:t>
            </a:r>
            <a:r>
              <a:rPr b="0" lang="ar-JO"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34" name="PlaceHolder 2"/>
          <p:cNvSpPr>
            <a:spLocks noGrp="1"/>
          </p:cNvSpPr>
          <p:nvPr>
            <p:ph/>
          </p:nvPr>
        </p:nvSpPr>
        <p:spPr>
          <a:xfrm>
            <a:off x="75960" y="1523880"/>
            <a:ext cx="89154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tegories of controls help ensure the maintainability of a system:</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تين من المراقبة تساعد في التأكد من امكانية صيانة النظام:</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oject development and acquisition controls:</a:t>
            </a:r>
            <a:r>
              <a:rPr b="0" lang="ar-SA" sz="2000" spc="-1" strike="noStrike">
                <a:solidFill>
                  <a:srgbClr val="000000"/>
                </a:solidFill>
                <a:latin typeface="Times New Roman"/>
              </a:rPr>
              <a:t>تطوير المشروع ومراقبة تطبيقه، وتشمل</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Master Plan </a:t>
            </a:r>
            <a:r>
              <a:rPr b="0" lang="ar-SA" sz="2000" spc="-1" strike="noStrike">
                <a:solidFill>
                  <a:srgbClr val="000000"/>
                </a:solidFill>
                <a:latin typeface="Times New Roman"/>
              </a:rPr>
              <a:t>الخطة الاستراتيجية الأساس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Controls </a:t>
            </a:r>
            <a:r>
              <a:rPr b="0" lang="ar-SA" sz="2000" spc="-1" strike="noStrike">
                <a:solidFill>
                  <a:srgbClr val="000000"/>
                </a:solidFill>
                <a:latin typeface="Times New Roman"/>
              </a:rPr>
              <a:t>مراقبة المشروع</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Schedule </a:t>
            </a:r>
            <a:r>
              <a:rPr b="0" lang="ar-SA" sz="2000" spc="-1" strike="noStrike">
                <a:solidFill>
                  <a:srgbClr val="000000"/>
                </a:solidFill>
                <a:latin typeface="Times New Roman"/>
              </a:rPr>
              <a:t>جدولة معالجة البيانات</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Performance Measurements </a:t>
            </a:r>
            <a:r>
              <a:rPr b="0" lang="ar-SA" sz="2000" spc="-1" strike="noStrike">
                <a:solidFill>
                  <a:srgbClr val="000000"/>
                </a:solidFill>
                <a:latin typeface="Times New Roman"/>
              </a:rPr>
              <a:t>قياس أداء النظام</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implementation Review </a:t>
            </a:r>
            <a:r>
              <a:rPr b="0" lang="ar-SA" sz="2000" spc="-1" strike="noStrike">
                <a:solidFill>
                  <a:srgbClr val="000000"/>
                </a:solidFill>
                <a:latin typeface="Times New Roman"/>
              </a:rPr>
              <a:t>مراجعة ما قبل التنفيذ</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a:t>
            </a:r>
            <a:r>
              <a:rPr b="0" lang="ar-SA" sz="2000" spc="-1" strike="noStrike">
                <a:solidFill>
                  <a:srgbClr val="000000"/>
                </a:solidFill>
                <a:latin typeface="Times New Roman"/>
              </a:rPr>
              <a:t>تغيير إدارة الرقابة وتشمل، وتشمل</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eriodically review all systems for needed changes</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جعة دورية للتغيرات المطلوبة لكل الأنظمة</a:t>
            </a:r>
            <a:r>
              <a:rPr b="0" lang="ar-SA" sz="1900" spc="-1" strike="noStrike">
                <a:solidFill>
                  <a:srgbClr val="000000"/>
                </a:solidFill>
                <a:latin typeface="Times New Roman"/>
              </a:rPr>
              <a:t> </a:t>
            </a:r>
            <a:endParaRPr b="0" lang="en-US" sz="19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all requests to be submitted in standardized format</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زام كل طلبات التغيير بصيغة معيارية</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C035FFF-551E-450F-B866-58920D6B4B91}" type="slidenum">
              <a:t>20</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4">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499"/>
                                          </p:stCondLst>
                                        </p:cTn>
                                        <p:tgtEl>
                                          <p:spTgt spid="134">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6"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g and review requests form authorized users for changes and additions to systems   </a:t>
            </a:r>
            <a:r>
              <a:rPr b="0" lang="ar-SA" sz="1900" spc="-1" strike="noStrike">
                <a:solidFill>
                  <a:srgbClr val="000000"/>
                </a:solidFill>
                <a:latin typeface="Times New Roman"/>
              </a:rPr>
              <a:t>مراجعة نماذج الطلبات للتغيرات والاضافات إلى الأنظمة من قبل المستخدمين المصرحين</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ess the impact of requested changes on system reliability objectives, policies and standards        </a:t>
            </a:r>
            <a:r>
              <a:rPr b="0" lang="ar-SA" sz="1900" spc="-1" strike="noStrike">
                <a:solidFill>
                  <a:srgbClr val="000000"/>
                </a:solidFill>
                <a:latin typeface="Times New Roman"/>
              </a:rPr>
              <a:t>تقييم أثر التغييرات المطلوبة على معايير وسياسات </a:t>
            </a:r>
            <a:r>
              <a:rPr b="0" lang="ar-JO" sz="1900" spc="-1" strike="noStrike">
                <a:solidFill>
                  <a:srgbClr val="000000"/>
                </a:solidFill>
                <a:latin typeface="Times New Roman"/>
              </a:rPr>
              <a:t>و</a:t>
            </a:r>
            <a:r>
              <a:rPr b="0" lang="ar-SA" sz="1900" spc="-1" strike="noStrike">
                <a:solidFill>
                  <a:srgbClr val="000000"/>
                </a:solidFill>
                <a:latin typeface="Times New Roman"/>
              </a:rPr>
              <a:t>أهداف الاعتماد على النظام</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tegorize and rank all changes using established prioritie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صنيف وترتيب كل التغيرات حسب الأولوي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procedures to handle urgent matters </a:t>
            </a:r>
            <a:r>
              <a:rPr b="0" lang="ar-SA" sz="1900" spc="-1" strike="noStrike">
                <a:solidFill>
                  <a:srgbClr val="000000"/>
                </a:solidFill>
                <a:latin typeface="Times New Roman"/>
              </a:rPr>
              <a:t>وضع إجراءات معالجة الأمور الطارئ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mmunicate all changes to management </a:t>
            </a:r>
            <a:r>
              <a:rPr b="0" lang="ar-SA" sz="1900" spc="-1" strike="noStrike">
                <a:solidFill>
                  <a:srgbClr val="000000"/>
                </a:solidFill>
                <a:latin typeface="Times New Roman"/>
              </a:rPr>
              <a:t>إيصال  كل التغيرات إلى الإدار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IT management to review, monitor, and approve all changes to software, hardware and personnel responsibilities </a:t>
            </a:r>
            <a:r>
              <a:rPr b="0" lang="ar-SA" sz="1900" spc="-1" strike="noStrike">
                <a:solidFill>
                  <a:srgbClr val="000000"/>
                </a:solidFill>
                <a:latin typeface="Times New Roman"/>
              </a:rPr>
              <a:t>إلزام إدارة نظام المعلومات بمراجعة وإصدار الموافقة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على كل التغيرات للبرامج والأجهزة ومسؤوليات الأفراد</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ign specific responsibilities to those involved in the change and monitor their work. </a:t>
            </a:r>
            <a:r>
              <a:rPr b="0" lang="ar-SA" sz="1900" spc="-1" strike="noStrike">
                <a:solidFill>
                  <a:srgbClr val="000000"/>
                </a:solidFill>
                <a:latin typeface="Times New Roman"/>
              </a:rPr>
              <a:t>تعيين المسؤوليات المحددة على ذوي العلاقة بالتغير ومراقبة عملهم</a:t>
            </a:r>
            <a:r>
              <a:rPr b="0" lang="ar-SA" sz="1900" spc="-1" strike="noStrike">
                <a:solidFill>
                  <a:srgbClr val="000000"/>
                </a:solidFill>
                <a:latin typeface="Times New Roman"/>
              </a:rPr>
              <a:t> </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4C7387-07F7-41F6-A9B3-A0D9CE89ABB9}" type="slidenum">
              <a:t>21</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34">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134">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8"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 system access rights to avoid unauthorized systems and data acces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قبة حق الدخول للنظام للحيلولة دون الدخول غير المصرح به للأنظمة والبيان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all changes go through the appropriate step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كل التغييرات تمر عبر الخطوات الملائم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st all changes </a:t>
            </a:r>
            <a:r>
              <a:rPr b="0" lang="ar-SA" sz="1900" spc="-1" strike="noStrike">
                <a:solidFill>
                  <a:srgbClr val="000000"/>
                </a:solidFill>
                <a:latin typeface="Times New Roman"/>
              </a:rPr>
              <a:t>فحص كل التغيير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there is a plan for backing our of any changes in the event they don’t work properly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هناك خطة بديلة لكل تغير لا يعمل بشكل ملائم</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a quality assurance function </a:t>
            </a:r>
            <a:r>
              <a:rPr b="0" lang="ar-SA" sz="1900" spc="-1" strike="noStrike">
                <a:solidFill>
                  <a:srgbClr val="000000"/>
                </a:solidFill>
                <a:latin typeface="Times New Roman"/>
              </a:rPr>
              <a:t>تطبيق وظيفة التأكد من الجود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pdate all documentation and procedures when change is implemented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حديث كل الوثائق والإجراءات عندما يطبق التغيير</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6291D34-781F-47A3-B5AB-ED9677F969DF}" type="slidenum">
              <a:t>22</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34">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a:t>
            </a:r>
            <a:r>
              <a:rPr b="0" lang="ar-SA" sz="3400" spc="-1" strike="noStrike">
                <a:solidFill>
                  <a:srgbClr val="000000"/>
                </a:solidFill>
                <a:latin typeface="Times New Roman"/>
              </a:rPr>
              <a:t>التكامل</a:t>
            </a:r>
            <a:endParaRPr b="0" lang="en-US" sz="3400" spc="-1" strike="noStrike">
              <a:solidFill>
                <a:srgbClr val="000000"/>
              </a:solidFill>
              <a:latin typeface="Arial"/>
            </a:endParaRPr>
          </a:p>
        </p:txBody>
      </p:sp>
      <p:sp>
        <p:nvSpPr>
          <p:cNvPr id="140"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pany designs general controls to ensure that its overall computer system is stable and well managed.</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نشأة تصمم مراقبات شاملة للتأكد من أن نظام الحاسوب لديها مستقر ومدار بشكل جيد.</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controls prevent, detect and correct errors in transactions as they flow through the various stages of a specific data processing program. These integrity controls includes: Source Data Controls, Input Validation routines, on-line data entry controls, data processing and data storage control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طبق الرقابات يمنع ويتتبع ويصحح الأخطاء في المعاملات التجارية، كلما جرت خلال المراحل المختلفة لبرامج معالجة البيانات المحددة. وهذه الرقابات المتكاملة تشمل: رقابة مصادر البيانات وإجراءات التحقق من المدخلات والرقابة المباشرة على وحدات إدخال البيانات والرقابة على معالجة وحفظ ا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E297720-B66C-4821-BBB8-FB4C67AD318D}" type="slidenum">
              <a:t>23</a:t>
            </a:fld>
          </a:p>
        </p:txBody>
      </p:sp>
    </p:spTree>
  </p:cSld>
  <p:transition>
    <p:blinds dir="ver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urce Data Controls</a:t>
            </a:r>
            <a:r>
              <a:rPr b="0" lang="en-US" sz="2000" spc="-1" strike="noStrike">
                <a:solidFill>
                  <a:srgbClr val="000000"/>
                </a:solidFill>
                <a:latin typeface="Times New Roman"/>
              </a:rPr>
              <a:t>: Companies must establish control procedures to ensure that all source documents are authorized, accurate, complete and properly accounted for, and entered into the system or sent to their intended destination in a timely manner. </a:t>
            </a:r>
            <a:r>
              <a:rPr b="0" lang="ar-SA" sz="2000" spc="-1" strike="noStrike">
                <a:solidFill>
                  <a:srgbClr val="000000"/>
                </a:solidFill>
                <a:latin typeface="Times New Roman"/>
              </a:rPr>
              <a:t>The following </a:t>
            </a:r>
            <a:r>
              <a:rPr b="0" lang="en-US" sz="2000" spc="-1" strike="noStrike">
                <a:solidFill>
                  <a:srgbClr val="000000"/>
                </a:solidFill>
                <a:latin typeface="Times New Roman"/>
              </a:rPr>
              <a:t>source data controls regulate the integrity of input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rPr>
              <a:t>رقابة مصادر البيانات:</a:t>
            </a:r>
            <a:r>
              <a:rPr b="0" lang="ar-JO" sz="2000" spc="-1" strike="noStrike">
                <a:solidFill>
                  <a:srgbClr val="000000"/>
                </a:solidFill>
                <a:latin typeface="Times New Roman"/>
              </a:rPr>
              <a:t> يجب على المنشأة إنشاء اجراءات أمنية للتأكد من أن كل مصادر الوثاثق مصرح بها ودقيقة ومكتملة وصحيحة محاسبياً ومدخلة في النظام أو مرسلة إلى جهة العلاقة بوقت قياسي. إن رقابات  مصادر البيانات التالية تضبط سلامة (تكامل) المدخل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design </a:t>
            </a:r>
            <a:r>
              <a:rPr b="0" lang="ar-JO" sz="2000" spc="-1" strike="noStrike">
                <a:solidFill>
                  <a:srgbClr val="000000"/>
                </a:solidFill>
                <a:latin typeface="Times New Roman"/>
              </a:rPr>
              <a:t>تصم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umbered forms sequence test  </a:t>
            </a:r>
            <a:r>
              <a:rPr b="0" lang="ar-JO" sz="2000" spc="-1" strike="noStrike">
                <a:solidFill>
                  <a:srgbClr val="000000"/>
                </a:solidFill>
                <a:latin typeface="Times New Roman"/>
              </a:rPr>
              <a:t>فحص تتابع ترق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around documents </a:t>
            </a:r>
            <a:r>
              <a:rPr b="0" lang="ar-JO" sz="2000" spc="-1" strike="noStrike">
                <a:solidFill>
                  <a:srgbClr val="000000"/>
                </a:solidFill>
                <a:latin typeface="Times New Roman"/>
              </a:rPr>
              <a:t>تدوي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cellation and storage of documents </a:t>
            </a:r>
            <a:r>
              <a:rPr b="0" lang="ar-JO" sz="2000" spc="-1" strike="noStrike">
                <a:solidFill>
                  <a:srgbClr val="000000"/>
                </a:solidFill>
                <a:latin typeface="Times New Roman"/>
              </a:rPr>
              <a:t>إلغاء وحفظ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 and segregation of duties </a:t>
            </a:r>
            <a:r>
              <a:rPr b="0" lang="ar-JO" sz="2000" spc="-1" strike="noStrike">
                <a:solidFill>
                  <a:srgbClr val="000000"/>
                </a:solidFill>
                <a:latin typeface="Times New Roman"/>
              </a:rPr>
              <a:t>التفويض والفصل للواجب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canning of source documents </a:t>
            </a:r>
            <a:r>
              <a:rPr b="0" lang="ar-JO" sz="2000" spc="-1" strike="noStrike">
                <a:solidFill>
                  <a:srgbClr val="000000"/>
                </a:solidFill>
                <a:latin typeface="Times New Roman"/>
              </a:rPr>
              <a:t>التدقيق المرئي لمصاد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digit verification </a:t>
            </a:r>
            <a:r>
              <a:rPr b="0" lang="ar-JO" sz="2000" spc="-1" strike="noStrike">
                <a:solidFill>
                  <a:srgbClr val="000000"/>
                </a:solidFill>
                <a:latin typeface="Times New Roman"/>
              </a:rPr>
              <a:t>التدقيق في تحقق عدد الخان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verification </a:t>
            </a:r>
            <a:r>
              <a:rPr b="0" lang="ar-JO" sz="2000" spc="-1" strike="noStrike">
                <a:solidFill>
                  <a:srgbClr val="000000"/>
                </a:solidFill>
                <a:latin typeface="Times New Roman"/>
              </a:rPr>
              <a:t>التحقق من المفاتيح</a:t>
            </a:r>
            <a:endParaRPr b="0" lang="en-US" sz="2000" spc="-1" strike="noStrike">
              <a:solidFill>
                <a:srgbClr val="000000"/>
              </a:solidFill>
              <a:latin typeface="Arial"/>
            </a:endParaRPr>
          </a:p>
        </p:txBody>
      </p:sp>
      <p:sp>
        <p:nvSpPr>
          <p:cNvPr id="142" name="PlaceHolder 2"/>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Source Data Controls      </a:t>
            </a:r>
            <a:r>
              <a:rPr b="0" lang="ar-SA" sz="3400" spc="-1" strike="noStrike">
                <a:solidFill>
                  <a:srgbClr val="000000"/>
                </a:solidFill>
                <a:latin typeface="Times New Roman"/>
              </a:rPr>
              <a:t>التكامل: رقابة مصادر البيانات</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ECB1F09-AC6C-44D7-B766-13147DD338D1}"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Input Validation Routines</a:t>
            </a:r>
            <a:r>
              <a:rPr b="0" lang="en-US" sz="3000" spc="-1" strike="noStrike">
                <a:solidFill>
                  <a:srgbClr val="000000"/>
                </a:solidFill>
                <a:latin typeface="Times New Roman"/>
              </a:rPr>
              <a:t>	</a:t>
            </a:r>
            <a:br>
              <a:rPr sz="3000"/>
            </a:br>
            <a:r>
              <a:rPr b="0" lang="ar-SA" sz="3000" spc="-1" strike="noStrike">
                <a:solidFill>
                  <a:srgbClr val="000000"/>
                </a:solidFill>
                <a:latin typeface="Times New Roman"/>
              </a:rPr>
              <a:t>التكامل: إجراءات التحقق من المدخلات</a:t>
            </a:r>
            <a:endParaRPr b="0" lang="en-US" sz="3000" spc="-1" strike="noStrike">
              <a:solidFill>
                <a:srgbClr val="000000"/>
              </a:solidFill>
              <a:latin typeface="Arial"/>
            </a:endParaRPr>
          </a:p>
        </p:txBody>
      </p:sp>
      <p:sp>
        <p:nvSpPr>
          <p:cNvPr id="144" name="PlaceHolder 2"/>
          <p:cNvSpPr>
            <a:spLocks noGrp="1"/>
          </p:cNvSpPr>
          <p:nvPr>
            <p:ph/>
          </p:nvPr>
        </p:nvSpPr>
        <p:spPr>
          <a:xfrm>
            <a:off x="0" y="1523520"/>
            <a:ext cx="9144000" cy="1143000"/>
          </a:xfrm>
          <a:prstGeom prst="rect">
            <a:avLst/>
          </a:prstGeom>
          <a:noFill/>
          <a:ln w="0">
            <a:noFill/>
          </a:ln>
        </p:spPr>
        <p:txBody>
          <a:bodyPr lIns="90000" rIns="90000" tIns="46800" bIns="46800" anchor="t">
            <a:normAutofit fontScale="97000"/>
          </a:bodyPr>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put validation routines are programs the check the integrity of input data. They include:</a:t>
            </a:r>
            <a:r>
              <a:rPr b="0" lang="en-US" sz="2600" spc="-1" strike="noStrike">
                <a:solidFill>
                  <a:srgbClr val="000000"/>
                </a:solidFill>
                <a:latin typeface="Arial"/>
              </a:rPr>
              <a:t> </a:t>
            </a:r>
            <a:r>
              <a:rPr b="0" lang="ar-SA" sz="2200" spc="-1" strike="noStrike">
                <a:solidFill>
                  <a:srgbClr val="000000"/>
                </a:solidFill>
                <a:latin typeface="Arial"/>
              </a:rPr>
              <a:t>إن إجراءات التحقق من المخلات هي برامج تراقب تكامل البيانات المدخلة إلى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  النظام، وتشمل</a:t>
            </a:r>
            <a:endParaRPr b="0" lang="en-US" sz="2200" spc="-1" strike="noStrike">
              <a:solidFill>
                <a:srgbClr val="000000"/>
              </a:solidFill>
              <a:latin typeface="Arial"/>
            </a:endParaRPr>
          </a:p>
        </p:txBody>
      </p:sp>
      <p:sp>
        <p:nvSpPr>
          <p:cNvPr id="145" name=""/>
          <p:cNvSpPr/>
          <p:nvPr/>
        </p:nvSpPr>
        <p:spPr>
          <a:xfrm>
            <a:off x="4191120" y="3062160"/>
            <a:ext cx="4724280" cy="36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check</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حد</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مدى</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sonableness tes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اختبار المعقولي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ndant data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بيانات المكررة</a:t>
            </a:r>
            <a:endParaRPr b="0" lang="en-US" sz="2200" spc="-1" strike="noStrike">
              <a:solidFill>
                <a:srgbClr val="336666"/>
              </a:solidFill>
              <a:latin typeface="Arial"/>
            </a:endParaRPr>
          </a:p>
        </p:txBody>
      </p:sp>
      <p:sp>
        <p:nvSpPr>
          <p:cNvPr id="146" name=""/>
          <p:cNvSpPr/>
          <p:nvPr/>
        </p:nvSpPr>
        <p:spPr>
          <a:xfrm>
            <a:off x="152280" y="2970360"/>
            <a:ext cx="381024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check    </a:t>
            </a:r>
            <a:r>
              <a:rPr b="0" lang="ar-SA" sz="2200" spc="-1" strike="noStrike">
                <a:solidFill>
                  <a:srgbClr val="000000"/>
                </a:solidFill>
                <a:latin typeface="Times New Roman"/>
              </a:rPr>
              <a:t>فحص التتابع</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eld check            </a:t>
            </a:r>
            <a:r>
              <a:rPr b="0" lang="ar-SA" sz="2200" spc="-1" strike="noStrike">
                <a:solidFill>
                  <a:srgbClr val="000000"/>
                </a:solidFill>
                <a:latin typeface="Times New Roman"/>
              </a:rPr>
              <a:t>فحص الحق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 check  </a:t>
            </a:r>
            <a:r>
              <a:rPr b="0" lang="ar-SA" sz="2200" spc="-1" strike="noStrike">
                <a:solidFill>
                  <a:srgbClr val="000000"/>
                </a:solidFill>
                <a:latin typeface="Times New Roman"/>
              </a:rPr>
              <a:t>فحص الإشارة (القيم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ity check    </a:t>
            </a:r>
            <a:r>
              <a:rPr b="0" lang="ar-SA" sz="2200" spc="-1" strike="noStrike">
                <a:solidFill>
                  <a:srgbClr val="000000"/>
                </a:solidFill>
                <a:latin typeface="Times New Roman"/>
              </a:rPr>
              <a:t>فحص الصلاحية </a:t>
            </a:r>
            <a:r>
              <a:rPr b="0" lang="en-US" sz="2200" spc="-1" strike="noStrike">
                <a:solidFill>
                  <a:srgbClr val="000000"/>
                </a:solidFill>
                <a:latin typeface="Times New Roman"/>
              </a:rPr>
              <a:t>	</a:t>
            </a:r>
            <a:r>
              <a:rPr b="0" lang="ar-SA" sz="2200" spc="-1" strike="noStrike">
                <a:solidFill>
                  <a:srgbClr val="000000"/>
                </a:solidFill>
                <a:latin typeface="Times New Roman"/>
              </a:rPr>
              <a:t>                (سريان لمفعو</a:t>
            </a:r>
            <a:r>
              <a:rPr b="0" lang="ar-JO" sz="2200" spc="-1" strike="noStrike">
                <a:solidFill>
                  <a:srgbClr val="000000"/>
                </a:solidFill>
                <a:latin typeface="Times New Roman"/>
              </a:rPr>
              <a:t>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acity check      </a:t>
            </a:r>
            <a:r>
              <a:rPr b="0" lang="ar-SA" sz="2200" spc="-1" strike="noStrike">
                <a:solidFill>
                  <a:srgbClr val="000000"/>
                </a:solidFill>
                <a:latin typeface="Times New Roman"/>
              </a:rPr>
              <a:t>فحص السع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82156D2-4836-4957-905B-11A752926AF6}"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On-line Data Entry Controls</a:t>
            </a:r>
            <a:br>
              <a:rPr sz="3000"/>
            </a:br>
            <a:r>
              <a:rPr b="0" lang="ar-SA" sz="3000" spc="-1" strike="noStrike">
                <a:solidFill>
                  <a:srgbClr val="000000"/>
                </a:solidFill>
                <a:latin typeface="Times New Roman"/>
              </a:rPr>
              <a:t>التكامل: الرقابة المباشر على وحدات إدخال البيانات</a:t>
            </a:r>
            <a:endParaRPr b="0" lang="en-US" sz="3000" spc="-1" strike="noStrike">
              <a:solidFill>
                <a:srgbClr val="000000"/>
              </a:solidFill>
              <a:latin typeface="Arial"/>
            </a:endParaRPr>
          </a:p>
        </p:txBody>
      </p:sp>
      <p:sp>
        <p:nvSpPr>
          <p:cNvPr id="148" name="PlaceHolder 2"/>
          <p:cNvSpPr>
            <a:spLocks noGrp="1"/>
          </p:cNvSpPr>
          <p:nvPr>
            <p:ph/>
          </p:nvPr>
        </p:nvSpPr>
        <p:spPr>
          <a:xfrm>
            <a:off x="-305280" y="1447920"/>
            <a:ext cx="9448920" cy="1218960"/>
          </a:xfrm>
          <a:prstGeom prst="rect">
            <a:avLst/>
          </a:prstGeom>
          <a:noFill/>
          <a:ln w="0">
            <a:noFill/>
          </a:ln>
        </p:spPr>
        <p:txBody>
          <a:bodyPr lIns="90000" rIns="90000" tIns="46800" bIns="46800" anchor="t">
            <a:normAutofit fontScale="91000"/>
          </a:bodyPr>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goal of on-line data entry control is to ensure the integrity of transaction data entered from on-line terminals and PCs by minimizing errors and omissions. They include:      </a:t>
            </a:r>
            <a:r>
              <a:rPr b="0" lang="ar-SA" sz="2000" spc="-1" strike="noStrike">
                <a:solidFill>
                  <a:srgbClr val="000000"/>
                </a:solidFill>
                <a:latin typeface="Times New Roman"/>
              </a:rPr>
              <a:t>إن هدف الرقابة المباشر على وحدات إدخال البيانات هو التأكد من سلامة (تكامل) بيانات الحدث </a:t>
            </a:r>
            <a:r>
              <a:rPr b="0" lang="en-US" sz="2000" spc="-1" strike="noStrike">
                <a:solidFill>
                  <a:srgbClr val="000000"/>
                </a:solidFill>
                <a:latin typeface="Times New Roman"/>
              </a:rPr>
              <a:t>	</a:t>
            </a:r>
            <a:r>
              <a:rPr b="0" lang="ar-SA" sz="2000" spc="-1" strike="noStrike">
                <a:solidFill>
                  <a:srgbClr val="000000"/>
                </a:solidFill>
                <a:latin typeface="Times New Roman"/>
              </a:rPr>
              <a:t>التجاري المدخل مباشرة من طرفية أو حاسب شخصي وذلك من خلال تقليل</a:t>
            </a:r>
            <a:r>
              <a:rPr b="0" lang="ar-JO" sz="2000" spc="-1" strike="noStrike">
                <a:solidFill>
                  <a:srgbClr val="000000"/>
                </a:solidFill>
                <a:latin typeface="Times New Roman"/>
              </a:rPr>
              <a:t> ا</a:t>
            </a:r>
            <a:r>
              <a:rPr b="0" lang="ar-SA" sz="2000" spc="-1" strike="noStrike">
                <a:solidFill>
                  <a:srgbClr val="000000"/>
                </a:solidFill>
                <a:latin typeface="Times New Roman"/>
              </a:rPr>
              <a:t>لأخطاء والإغفال</a:t>
            </a:r>
            <a:endParaRPr b="0" lang="en-US" sz="2000" spc="-1" strike="noStrike">
              <a:solidFill>
                <a:srgbClr val="000000"/>
              </a:solidFill>
              <a:latin typeface="Arial"/>
            </a:endParaRPr>
          </a:p>
        </p:txBody>
      </p:sp>
      <p:sp>
        <p:nvSpPr>
          <p:cNvPr id="149" name=""/>
          <p:cNvSpPr/>
          <p:nvPr/>
        </p:nvSpPr>
        <p:spPr>
          <a:xfrm>
            <a:off x="0" y="2971800"/>
            <a:ext cx="4191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limit, range, reasonableness, sign, validity, redundant data check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حص كلاً من الحقل والحد والمدى والمعقولية والإشارة (القيمة) والصلاحية وتكرار البيانات</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 numbers </a:t>
            </a:r>
            <a:r>
              <a:rPr b="0" lang="ar-SA" sz="2000" spc="-1" strike="noStrike">
                <a:solidFill>
                  <a:srgbClr val="000000"/>
                </a:solidFill>
                <a:latin typeface="Times New Roman"/>
              </a:rPr>
              <a:t>استخدام رقم تعريف</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tests </a:t>
            </a:r>
            <a:r>
              <a:rPr b="0" lang="ar-SA" sz="2000" spc="-1" strike="noStrike">
                <a:solidFill>
                  <a:srgbClr val="000000"/>
                </a:solidFill>
                <a:latin typeface="Times New Roman"/>
              </a:rPr>
              <a:t>اختبار التوافق</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 entry of transaction data, where possible</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تمتت إدخال بيانات الأحداث التجارية أينما أمكن</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pting </a:t>
            </a:r>
            <a:r>
              <a:rPr b="0" lang="ar-SA" sz="2000" spc="-1" strike="noStrike">
                <a:solidFill>
                  <a:srgbClr val="000000"/>
                </a:solidFill>
                <a:latin typeface="Times New Roman"/>
              </a:rPr>
              <a:t>التلقين</a:t>
            </a:r>
            <a:endParaRPr b="0" lang="en-US" sz="2000" spc="-1" strike="noStrike">
              <a:solidFill>
                <a:srgbClr val="336666"/>
              </a:solidFill>
              <a:latin typeface="Arial"/>
            </a:endParaRPr>
          </a:p>
        </p:txBody>
      </p:sp>
      <p:sp>
        <p:nvSpPr>
          <p:cNvPr id="150" name=""/>
          <p:cNvSpPr/>
          <p:nvPr/>
        </p:nvSpPr>
        <p:spPr>
          <a:xfrm>
            <a:off x="4343400" y="2971800"/>
            <a:ext cx="4800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ormatting </a:t>
            </a:r>
            <a:r>
              <a:rPr b="0" lang="ar-SA" sz="2000" spc="-1" strike="noStrike">
                <a:solidFill>
                  <a:srgbClr val="000000"/>
                </a:solidFill>
                <a:latin typeface="Times New Roman"/>
              </a:rPr>
              <a:t>النماذج المعدة مسبقاً</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ness check </a:t>
            </a:r>
            <a:r>
              <a:rPr b="0" lang="ar-SA" sz="2000" spc="-1" strike="noStrike">
                <a:solidFill>
                  <a:srgbClr val="000000"/>
                </a:solidFill>
                <a:latin typeface="Times New Roman"/>
              </a:rPr>
              <a:t>فحص الإكتمال</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d-lop verification</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دقيق من خلال دائرة مغلقة</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log </a:t>
            </a:r>
            <a:r>
              <a:rPr b="0" lang="ar-SA" sz="2000" spc="-1" strike="noStrike">
                <a:solidFill>
                  <a:srgbClr val="000000"/>
                </a:solidFill>
                <a:latin typeface="Times New Roman"/>
              </a:rPr>
              <a:t>تدوين الحدث التجاري</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messages </a:t>
            </a:r>
            <a:r>
              <a:rPr b="0" lang="ar-SA" sz="2000" spc="-1" strike="noStrike">
                <a:solidFill>
                  <a:srgbClr val="000000"/>
                </a:solidFill>
                <a:latin typeface="Times New Roman"/>
              </a:rPr>
              <a:t>رسائل عن الأخطاء</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n data for legal purpose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سترجاع البيانات للأغراض الرسمية</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F3B9C3D-B90C-4CE7-8005-2C4ACA480D54}"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380880"/>
            <a:ext cx="7620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ity: Data Processing and Storage Controls</a:t>
            </a:r>
            <a:br>
              <a:rPr sz="2600"/>
            </a:br>
            <a:r>
              <a:rPr b="0" lang="ar-SA" sz="2600" spc="-1" strike="noStrike">
                <a:solidFill>
                  <a:srgbClr val="000000"/>
                </a:solidFill>
                <a:latin typeface="Times New Roman"/>
              </a:rPr>
              <a:t>التكامل: الرقابة على معالجة وحفظ البيانات</a:t>
            </a:r>
            <a:endParaRPr b="0" lang="en-US" sz="2600" spc="-1" strike="noStrike">
              <a:solidFill>
                <a:srgbClr val="000000"/>
              </a:solidFill>
              <a:latin typeface="Arial"/>
            </a:endParaRPr>
          </a:p>
        </p:txBody>
      </p:sp>
      <p:sp>
        <p:nvSpPr>
          <p:cNvPr id="152" name="PlaceHolder 2"/>
          <p:cNvSpPr>
            <a:spLocks noGrp="1"/>
          </p:cNvSpPr>
          <p:nvPr>
            <p:ph/>
          </p:nvPr>
        </p:nvSpPr>
        <p:spPr>
          <a:xfrm>
            <a:off x="0" y="1447920"/>
            <a:ext cx="9144000" cy="914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and storage controls help in preserve the integrity of data processing and stored data:</a:t>
            </a:r>
            <a:r>
              <a:rPr b="0" lang="ar-SA" sz="2000" spc="-1" strike="noStrike">
                <a:solidFill>
                  <a:srgbClr val="000000"/>
                </a:solidFill>
                <a:latin typeface="Times New Roman"/>
              </a:rPr>
              <a:t>إن الرقابة على معالجة وحفظ البيانات تساعد في المحافظة على التكامل في معالجة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البيانات وتخزينها، ومن اشهرها</a:t>
            </a:r>
            <a:endParaRPr b="0" lang="en-US" sz="2000" spc="-1" strike="noStrike">
              <a:solidFill>
                <a:srgbClr val="000000"/>
              </a:solidFill>
              <a:latin typeface="Arial"/>
            </a:endParaRPr>
          </a:p>
        </p:txBody>
      </p:sp>
      <p:sp>
        <p:nvSpPr>
          <p:cNvPr id="153" name=""/>
          <p:cNvSpPr/>
          <p:nvPr/>
        </p:nvSpPr>
        <p:spPr>
          <a:xfrm>
            <a:off x="0" y="2895480"/>
            <a:ext cx="4648320" cy="373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 and proced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سياسات والإجراء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function </a:t>
            </a:r>
            <a:r>
              <a:rPr b="0" lang="ar-SA" sz="2000" spc="-1" strike="noStrike">
                <a:solidFill>
                  <a:srgbClr val="000000"/>
                </a:solidFill>
                <a:latin typeface="Times New Roman"/>
              </a:rPr>
              <a:t>وظيفة رقابة البيان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iation procedure </a:t>
            </a:r>
            <a:r>
              <a:rPr b="0" lang="ar-SA" sz="2000" spc="-1" strike="noStrike">
                <a:solidFill>
                  <a:srgbClr val="000000"/>
                </a:solidFill>
                <a:latin typeface="Times New Roman"/>
              </a:rPr>
              <a:t>إجراءات التسوي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data reconcili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سوية البيانات الخارجية</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 reporting </a:t>
            </a:r>
            <a:r>
              <a:rPr b="0" lang="ar-SA" sz="2000" spc="-1" strike="noStrike">
                <a:solidFill>
                  <a:srgbClr val="000000"/>
                </a:solidFill>
                <a:latin typeface="Times New Roman"/>
              </a:rPr>
              <a:t>تقارير إستثنائية</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urrency checks </a:t>
            </a:r>
            <a:r>
              <a:rPr b="0" lang="ar-SA" sz="2000" spc="-1" strike="noStrike">
                <a:solidFill>
                  <a:srgbClr val="000000"/>
                </a:solidFill>
                <a:latin typeface="Times New Roman"/>
              </a:rPr>
              <a:t>فحص عملة البيانات</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values </a:t>
            </a:r>
            <a:r>
              <a:rPr b="0" lang="ar-SA" sz="2000" spc="-1" strike="noStrike">
                <a:solidFill>
                  <a:srgbClr val="000000"/>
                </a:solidFill>
                <a:latin typeface="Times New Roman"/>
              </a:rPr>
              <a:t>القيمة الإفتراضية</a:t>
            </a:r>
            <a:endParaRPr b="0" lang="en-US" sz="2000" spc="-1" strike="noStrike">
              <a:solidFill>
                <a:srgbClr val="336666"/>
              </a:solidFill>
              <a:latin typeface="Arial"/>
            </a:endParaRPr>
          </a:p>
        </p:txBody>
      </p:sp>
      <p:sp>
        <p:nvSpPr>
          <p:cNvPr id="154" name=""/>
          <p:cNvSpPr/>
          <p:nvPr/>
        </p:nvSpPr>
        <p:spPr>
          <a:xfrm>
            <a:off x="5029200" y="2819520"/>
            <a:ext cx="41148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atching </a:t>
            </a:r>
            <a:r>
              <a:rPr b="0" lang="ar-SA" sz="2000" spc="-1" strike="noStrike">
                <a:solidFill>
                  <a:srgbClr val="000000"/>
                </a:solidFill>
                <a:latin typeface="Times New Roman"/>
              </a:rPr>
              <a:t>مطابق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labels </a:t>
            </a:r>
            <a:r>
              <a:rPr b="0" lang="ar-SA" sz="2000" spc="-1" strike="noStrike">
                <a:solidFill>
                  <a:srgbClr val="000000"/>
                </a:solidFill>
                <a:latin typeface="Times New Roman"/>
              </a:rPr>
              <a:t>تسمية الملفات (بوضع ملسق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الكتابة</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قاعد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control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قابة على تحويل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ecurity </a:t>
            </a:r>
            <a:r>
              <a:rPr b="0" lang="ar-SA" sz="2000" spc="-1" strike="noStrike">
                <a:solidFill>
                  <a:srgbClr val="000000"/>
                </a:solidFill>
                <a:latin typeface="Times New Roman"/>
              </a:rPr>
              <a:t>أمن البيانات</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019C95D-FEAB-4964-B329-E0D9FB5474BD}"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Output Controls</a:t>
            </a:r>
            <a:r>
              <a:rPr b="0" lang="en-US" sz="2800" spc="-1" strike="noStrike">
                <a:solidFill>
                  <a:srgbClr val="000000"/>
                </a:solidFill>
                <a:latin typeface="Times New Roman"/>
              </a:rPr>
              <a:t>    </a:t>
            </a:r>
            <a:br>
              <a:rPr sz="2800"/>
            </a:br>
            <a:r>
              <a:rPr b="0" lang="ar-SA" sz="2800" spc="-1" strike="noStrike">
                <a:solidFill>
                  <a:srgbClr val="000000"/>
                </a:solidFill>
                <a:latin typeface="Times New Roman"/>
              </a:rPr>
              <a:t>التكامل: الرقابة على المخرجات</a:t>
            </a:r>
            <a:endParaRPr b="0" lang="en-US" sz="2800" spc="-1" strike="noStrike">
              <a:solidFill>
                <a:srgbClr val="000000"/>
              </a:solidFill>
              <a:latin typeface="Arial"/>
            </a:endParaRPr>
          </a:p>
        </p:txBody>
      </p:sp>
      <p:sp>
        <p:nvSpPr>
          <p:cNvPr id="15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control functions should review all output for reasonableness and proper format and should reconcile corresponding output and input control total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يجب أن تشمل وظيفة مراقبة البيانات  على مراجعة المخرجات من حيث المعقولية والشكل وأن توفق بين أدوات مراقبة المخرجات ونظائرها من المدخل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is also responsible for distributing computer output to the appropriate user department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ومن مسؤلية مراقبة البيانات أيضاً توزيع مخرجات الحاسوب إلى المستخدمين المناسبين في الأقسام المختلفة</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re responsible for carefully reviewing the completeness and accuracy of all computer output that they receive.</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ستخدمون مسؤولين عن المراجعة الدقيقة لإكتمال ودقة كل مخرجات الحاسوب التي يستلموها.</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redder can be used to destroy highly confidential data.</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يمكن استخدام قطاعة الورق لتخلص من البيانات عالية السرية</a:t>
            </a:r>
            <a:r>
              <a:rPr b="0" lang="ar-JO" sz="2000" spc="-1" strike="noStrike">
                <a:solidFill>
                  <a:srgbClr val="000000"/>
                </a:solidFill>
                <a:latin typeface="Times New Roman"/>
              </a:rPr>
              <a:t>	</a:t>
            </a:r>
            <a:endParaRPr b="0" lang="en-US" sz="2000" spc="-1" strike="noStrike">
              <a:solidFill>
                <a:srgbClr val="000000"/>
              </a:solidFill>
              <a:latin typeface="Arial"/>
            </a:endParaRPr>
          </a:p>
        </p:txBody>
      </p:sp>
      <p:pic>
        <p:nvPicPr>
          <p:cNvPr id="157" name="" descr=""/>
          <p:cNvPicPr/>
          <p:nvPr/>
        </p:nvPicPr>
        <p:blipFill>
          <a:blip r:embed="rId1"/>
          <a:stretch/>
        </p:blipFill>
        <p:spPr>
          <a:xfrm>
            <a:off x="6324480" y="5181480"/>
            <a:ext cx="2468520" cy="149544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8BC6F23-0BCF-4C5B-B02A-8D890C23428D}" type="slidenum">
              <a:t>28</a:t>
            </a:fld>
          </a:p>
        </p:txBody>
      </p:sp>
    </p:spTree>
  </p:cSld>
  <p:transition>
    <p:blinds dir="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1920" y="1600200"/>
            <a:ext cx="8915400" cy="4191120"/>
          </a:xfrm>
          <a:prstGeom prst="rect">
            <a:avLst/>
          </a:prstGeom>
          <a:noFill/>
          <a:ln w="0">
            <a:noFill/>
          </a:ln>
        </p:spPr>
        <p:txBody>
          <a:bodyPr lIns="90360" rIns="90360" tIns="44280" bIns="44280" anchor="t">
            <a:normAutofit fontScale="98000"/>
          </a:bodyPr>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reduce the risk of data transmission failures, companies should monitor the network.</a:t>
            </a:r>
            <a:r>
              <a:rPr b="0" lang="en-US" sz="2200" spc="-1" strike="noStrike">
                <a:solidFill>
                  <a:srgbClr val="000000"/>
                </a:solidFill>
                <a:latin typeface="Times New Roman"/>
              </a:rPr>
              <a:t>	</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للتقليل من مخاطر تعطل نقل المعلومات يجب على المنشآت مراقبة الشبكات</a:t>
            </a:r>
            <a:endParaRPr b="0" lang="en-US" sz="2200" spc="-1" strike="noStrike">
              <a:solidFill>
                <a:srgbClr val="000000"/>
              </a:solidFill>
              <a:latin typeface="Arial"/>
            </a:endParaRPr>
          </a:p>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transmission errors can be minimized by:</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يمكن تقليل أخطاء نقل البيانات من خلال:</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data encryption (cryptography)</a:t>
            </a:r>
            <a:r>
              <a:rPr b="0" lang="ar-JO"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شفي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ing routing verification procedur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طبيق إجراءات التحقق من مصادر (جذو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ng parity </a:t>
            </a:r>
            <a:r>
              <a:rPr b="0" lang="ar-JO" sz="2200" spc="-1" strike="noStrike">
                <a:solidFill>
                  <a:srgbClr val="000000"/>
                </a:solidFill>
                <a:latin typeface="Times New Roman"/>
              </a:rPr>
              <a:t>إضافة التكافء</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message acknowledgment techniqu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استخدام تقنية رسائل إقرار الإستلام للرسائل</a:t>
            </a:r>
            <a:endParaRPr b="0" lang="en-US" sz="2200" spc="-1" strike="noStrike">
              <a:solidFill>
                <a:srgbClr val="000000"/>
              </a:solidFill>
              <a:latin typeface="Arial"/>
            </a:endParaRPr>
          </a:p>
        </p:txBody>
      </p:sp>
      <p:sp>
        <p:nvSpPr>
          <p:cNvPr id="159"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C1209E3-30F7-40B6-A595-EA9A09D381D6}" type="slidenum">
              <a:t>29</a:t>
            </a:fld>
          </a:p>
        </p:txBody>
      </p:sp>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58">
                                            <p:txEl>
                                              <p:pRg st="3" end="3"/>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158">
                                            <p:txEl>
                                              <p:pRg st="4" end="4"/>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158">
                                            <p:txEl>
                                              <p:pRg st="5" end="5"/>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158">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9"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3000"/>
          </a:bodyPr>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cent years, the way information security and control are achieved has changed significantly and with the expected developments in e-commerce and IT, it is also highly likely that these changes will continue.</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السنوات الحديثة تغيرت بشكل جوهري طريقة رقابة وأمن المعلومات، ويتوقع أن يسمر هذا التغير في ظل التطور الحاصل في تكنولوجيا المعلومات والتجارة الإلكترونية.</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business moved from a paper-based system to a mainframe-based computer system, new controls had to be developed to control the risks introduced by these new computer-based information system.</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دما يتحول العمل التجاري من استخدام النظام الورقي إلى النظام المستند على الحاسوب،.لا بد من تطوير رقابة جديدة لضبط المخاطر الناجمة عن استخدام نظام المعومات الجديد والمستند على الحاسوب.</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ew evaluation service called “SysTrust” has been introduced (by AICPA &amp; CICA), that independently tests and verifies a system’s reliability.</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م تطوير تقييم جديد يسمى</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ysTrus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لغرض فحص والتحقق من ملائمة وأمان النظام (أي امكانية الاعتماد على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877BE72-AF93-4E2D-AA75-886B415F5E73}" type="slidenum">
              <a:t>3</a:t>
            </a:fld>
          </a:p>
        </p:txBody>
      </p:sp>
    </p:spTree>
  </p:cSld>
  <p:transition>
    <p:blinds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371240"/>
            <a:ext cx="9144000" cy="4876920"/>
          </a:xfrm>
          <a:prstGeom prst="rect">
            <a:avLst/>
          </a:prstGeom>
          <a:noFill/>
          <a:ln w="0">
            <a:noFill/>
          </a:ln>
        </p:spPr>
        <p:txBody>
          <a:bodyPr lIns="90360" rIns="90360" tIns="44280" bIns="44280" anchor="t">
            <a:normAutofit fontScale="99000"/>
          </a:bodyPr>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mission Controls take on added importance in organizations that utilize electronic data interchange (EDI) or electronic funds transfer (EFT).</a:t>
            </a:r>
            <a:endParaRPr b="0" lang="en-US" sz="2000" spc="-1" strike="noStrike">
              <a:solidFill>
                <a:srgbClr val="000000"/>
              </a:solidFill>
              <a:latin typeface="Arial"/>
            </a:endParaRPr>
          </a:p>
          <a:p>
            <a:pPr marL="339480" indent="-3394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رقابة على إرسال البيانات تصبح أكثر أهمية في المنشآت التي تستخدم ”تبادل البيانات الإلكتروني “ أو ”الإرسال الإلكتروني للأموال“.</a:t>
            </a: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se types of environments, sound internal control is achieved using the following control procedures:</a:t>
            </a:r>
            <a:r>
              <a:rPr b="0" lang="ar-JO" sz="2000" spc="-1" strike="noStrike">
                <a:solidFill>
                  <a:srgbClr val="000000"/>
                </a:solidFill>
                <a:latin typeface="Times New Roman"/>
              </a:rPr>
              <a:t>يمكن الوصول إلى رقابة داخلية عالية في بيئة كتلك باستخدام إجراءات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الرقابة التالية</a:t>
            </a:r>
            <a:r>
              <a:rPr b="0" lang="ar-JO" sz="2000" spc="-1" strike="noStrike">
                <a:solidFill>
                  <a:srgbClr val="000000"/>
                </a:solidFill>
                <a:latin typeface="Times New Roman"/>
              </a:rPr>
              <a:t>: </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access to network facilities should be strictly controlled.</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دخول المادي إلى منشآت الشبكة يجب أن يكون مراقب بشكل صارم.</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identification should be required for all authorized network terminals.</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إلزام بهوية إلكترونية لكل المصرح لهم بالعمل على طرفيات الشبك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logical access control procedures are essential, with passwords and dial-in phone numbers changed on a regular basi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should be used to secure stored data as well as data being transmitted.</a:t>
            </a:r>
            <a:r>
              <a:rPr b="0" lang="ar-JO" sz="2000" spc="-1" strike="noStrike">
                <a:solidFill>
                  <a:srgbClr val="000000"/>
                </a:solidFill>
                <a:latin typeface="Times New Roman"/>
              </a:rPr>
              <a:t>التشفير يجب أن يشمل البيانات المحفوظة (المخزنة) والمرسل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all transactions should be recorded in a log that is periodically reviewed.</a:t>
            </a:r>
            <a:r>
              <a:rPr b="0" lang="ar-JO" sz="2000" spc="-1" strike="noStrike">
                <a:solidFill>
                  <a:srgbClr val="000000"/>
                </a:solidFill>
                <a:latin typeface="Times New Roman"/>
              </a:rPr>
              <a:t>يجب أن تدون تفاصيل الأحداث التجارية في سجل يتم مراجعته دورياً</a:t>
            </a:r>
            <a:endParaRPr b="0" lang="en-US" sz="2000" spc="-1" strike="noStrike">
              <a:solidFill>
                <a:srgbClr val="000000"/>
              </a:solidFill>
              <a:latin typeface="Arial"/>
            </a:endParaRPr>
          </a:p>
        </p:txBody>
      </p:sp>
      <p:sp>
        <p:nvSpPr>
          <p:cNvPr id="161" name="PlaceHolder 2"/>
          <p:cNvSpPr>
            <a:spLocks noGrp="1"/>
          </p:cNvSpPr>
          <p:nvPr>
            <p:ph type="title"/>
          </p:nvPr>
        </p:nvSpPr>
        <p:spPr>
          <a:xfrm>
            <a:off x="1523880" y="380880"/>
            <a:ext cx="70106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8839A3C-A620-4CD0-A7FD-C4408AB33AF7}" type="slidenum">
              <a:t>30</a:t>
            </a:fld>
          </a:p>
        </p:txBody>
      </p:sp>
    </p:spTree>
  </p:cSld>
  <p:transition>
    <p:blinds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60">
                                            <p:txEl>
                                              <p:pRg st="2" end="2"/>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60">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60">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60">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60">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Four Principles of a Reliable System</a:t>
            </a:r>
            <a:br>
              <a:rPr sz="3000"/>
            </a:b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المبادئ الأربعة لنظام آمن (موثوق به</a:t>
            </a:r>
            <a:endParaRPr b="0" lang="en-US" sz="3000" spc="-1" strike="noStrike">
              <a:solidFill>
                <a:srgbClr val="000000"/>
              </a:solidFill>
              <a:latin typeface="Arial"/>
            </a:endParaRPr>
          </a:p>
        </p:txBody>
      </p:sp>
      <p:sp>
        <p:nvSpPr>
          <p:cNvPr id="101"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fontScale="92000"/>
          </a:bodyPr>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vailability of the system when need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وجود ومتاح للاستخدام عند الحاجة له</a:t>
            </a:r>
            <a:r>
              <a:rPr b="0"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urity of the system against unauthorized physical and logical acces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حمي ضد الوصول المادي والمنطقي ل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intainability of the system as required without affecting its availability, security, and integrit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مكن صيانة (تعديل) النظام حسب الحاجة دون التأثير على إتاحته (للاستخدام) وأمنه وترابط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rity of the system to ensure that processing is complete, accurate, timely, and authoriz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تكامل بحيث تكون المعالجة كاملة ودقيقة وفي الوقت المناسب ومصرح فيه</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3B3426A-DBD3-47FC-809B-9128A5E05085}" type="slidenum">
              <a:t>4</a:t>
            </a:fld>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80880"/>
            <a:ext cx="76197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riteria Used To Evaluate Reliability Principles</a:t>
            </a:r>
            <a:br>
              <a:rPr sz="2600"/>
            </a:br>
            <a:r>
              <a:rPr b="0" lang="ar-SA" sz="2600" spc="-1" strike="noStrike">
                <a:solidFill>
                  <a:srgbClr val="000000"/>
                </a:solidFill>
                <a:latin typeface="Times New Roman"/>
                <a:cs typeface="Times New Roman"/>
              </a:rPr>
              <a:t>المقاييس المستخدمة لتقييم </a:t>
            </a:r>
            <a:r>
              <a:rPr b="0" lang="ar-SA" sz="3000" spc="-1" strike="noStrike">
                <a:solidFill>
                  <a:srgbClr val="000000"/>
                </a:solidFill>
                <a:latin typeface="Times New Roman"/>
                <a:cs typeface="Times New Roman"/>
              </a:rPr>
              <a:t>مبادئ الأمان الأربعة</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fontScale="96000"/>
          </a:bodyPr>
          <a:p>
            <a:pPr marL="475200" indent="-475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ach of the four principles of reliability, three criteria are used to evaluate whether or not the principle has been achieved:</a:t>
            </a:r>
            <a:endParaRPr b="0" lang="en-US" sz="2000" spc="-1" strike="noStrike">
              <a:solidFill>
                <a:srgbClr val="000000"/>
              </a:solidFill>
              <a:latin typeface="Arial"/>
            </a:endParaRPr>
          </a:p>
          <a:p>
            <a:pPr marL="475200" indent="-475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كل مبدأ من مبادئ الأمان الأربعة ثلاثة مقاييس تستخدم لتقييم تحقق تلك المبادئ:</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has defined, documented, and communicated performance objectives, policies, and standards that achieve each of the four principle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جب أن تكون المنشأة قد عرفت ووثقت المعايير والسياسات وأهداف أداء التواصل مع الغير.</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uses procedures, people, software, data, and infrastructure to achieve each principle in accordance with established policies and standard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يجب أن تستخدم المنشأة الإجراءات والأفراد والبرامج والبيانات والبنية التحتية المتوافقة مع معاييرها وسياساتها الموضوعة</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monitors the system and takes action to achieve compliance with the objectives, policies, and standards for each principle.</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 تراقب المنشأة توافق النظام مع أهداف وسياسات ومعايير كل مبدأ.</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F29187B-C1C8-47AA-9B8A-538466DF222A}" type="slidenum">
              <a:t>5</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ols Related to More Than One Reliability Principle</a:t>
            </a:r>
            <a:br>
              <a:rPr sz="2600"/>
            </a:br>
            <a:r>
              <a:rPr b="0" lang="ar-SA" sz="2600" spc="-1" strike="noStrike">
                <a:solidFill>
                  <a:srgbClr val="000000"/>
                </a:solidFill>
                <a:latin typeface="Times New Roman"/>
              </a:rPr>
              <a:t>الرقابات المحتاجة لأكثر من مبادئ أمان واحد</a:t>
            </a:r>
            <a:endParaRPr b="0" lang="en-US" sz="2600" spc="-1" strike="noStrike">
              <a:solidFill>
                <a:srgbClr val="000000"/>
              </a:solidFill>
              <a:latin typeface="Arial"/>
            </a:endParaRPr>
          </a:p>
        </p:txBody>
      </p:sp>
      <p:sp>
        <p:nvSpPr>
          <p:cNvPr id="105"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Planning &amp; Budgeting </a:t>
            </a:r>
            <a:r>
              <a:rPr b="0" lang="ar-SA" sz="2000" spc="-1" strike="noStrike">
                <a:solidFill>
                  <a:srgbClr val="000000"/>
                </a:solidFill>
                <a:latin typeface="Times New Roman"/>
              </a:rPr>
              <a:t>التخطيط الإستراتيجي والموازنات</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 Systems Reliability Plan </a:t>
            </a:r>
            <a:r>
              <a:rPr b="0" lang="ar-SA" sz="2000" spc="-1" strike="noStrike">
                <a:solidFill>
                  <a:srgbClr val="000000"/>
                </a:solidFill>
                <a:latin typeface="Times New Roman"/>
              </a:rPr>
              <a:t>تطوير خطة أمان للنظام</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a:t>
            </a:r>
            <a:r>
              <a:rPr b="0" lang="ar-SA" sz="2000" spc="-1" strike="noStrike">
                <a:solidFill>
                  <a:srgbClr val="000000"/>
                </a:solidFill>
                <a:latin typeface="Times New Roman"/>
              </a:rPr>
              <a:t>التوثيق</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may be classified into three basic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ن الممكن تصنيف التوثيق في ثلاثة أصناف 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documentation: Describes the standards and procedures for data processing.</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وثيق الإداري: يصف معايير وإجراءات معالجة البيانات.</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documentation: Describes each application system and its key processing functions.</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توثيق النظم: يصف كل نظام تطبيقي ووظائف معالجاته ال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documentation: Describes what is needed to run a program.</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ثيق التشغيل: يصف ماذا نحتاج لتشغيل البرنامج.</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E371820-2CF5-4BF2-96DB-483BAD11D5B2}" type="slidenum">
              <a:t>6</a:t>
            </a:fld>
          </a:p>
        </p:txBody>
      </p:sp>
    </p:spTree>
  </p:cSld>
  <p:transition>
    <p:blinds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7"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nd software failures, natural disasters, and deliberate acts of sabotage are some of the reasons for making the systems unavailable. Therefore, two controls are used to minimize unavailabilit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عطل الأجهزة والبرامج والكوارث الطبيعية وأعمال التخريب المتعمد، بعض الأسباب التي تجعل الأنظمة غير متاحة للاستخدام. لذا، تستخدم طريقي مراقبة للتقليل من ذلك:</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eventive maintenance (UPS, Fault tolerance) </a:t>
            </a:r>
            <a:r>
              <a:rPr b="0" lang="ar-SA" sz="2000" spc="-1" strike="noStrike">
                <a:solidFill>
                  <a:srgbClr val="000000"/>
                </a:solidFill>
                <a:latin typeface="Times New Roman"/>
              </a:rPr>
              <a:t>الصيانة الوقائ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aining the following elements </a:t>
            </a:r>
            <a:r>
              <a:rPr b="0" lang="ar-SA" sz="2000" spc="-1" strike="noStrike">
                <a:solidFill>
                  <a:srgbClr val="000000"/>
                </a:solidFill>
                <a:latin typeface="Times New Roman"/>
              </a:rPr>
              <a:t>خطة طوارئ تشمل</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extent of disruption, damage, and lo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قليل من اتساع التعطيل والضرر والفقد</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rily establish an alternative means of processing inform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إقامة وسائل بديلة مؤقتة لمعالجة المعلومات</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me normal operations as soon as possi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ستئناف العمليات الطبيعية باسرع ما يمك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61B5AA2-F653-4655-94D7-689F76F16932}"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inued):  </a:t>
            </a:r>
            <a:r>
              <a:rPr b="0" lang="ar-SA" sz="2000" spc="-1" strike="noStrike">
                <a:solidFill>
                  <a:srgbClr val="000000"/>
                </a:solidFill>
                <a:latin typeface="Times New Roman"/>
              </a:rPr>
              <a:t>تابع خطة طوارئ</a:t>
            </a:r>
            <a:r>
              <a:rPr b="0" lang="ar-SA" sz="2000" spc="-1" strike="noStrike">
                <a:solidFill>
                  <a:srgbClr val="000000"/>
                </a:solidFill>
                <a:latin typeface="Times New Roman"/>
              </a:rPr>
              <a:t> </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 and familiarize personnel with emergency operation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دريب واطلاع الموظفون على خطط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for the recovery proces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أولويات لإجراءا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أمين</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data and program fil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سخ احتياط للبرامج والملفات</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assignment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حديد المهام</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computer and telecommunication facilities </a:t>
            </a:r>
            <a:r>
              <a:rPr b="0" lang="ar-SA" sz="2000" spc="-1" strike="noStrike">
                <a:solidFill>
                  <a:srgbClr val="000000"/>
                </a:solidFill>
                <a:latin typeface="Times New Roman"/>
              </a:rPr>
              <a:t>حاسوب ومعدات اتصال احتياط</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ic testing and revi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ختبار ومراجعة دورية</a:t>
            </a:r>
            <a:r>
              <a:rPr b="0" lang="ar-JO" sz="2000" spc="-1" strike="noStrike">
                <a:solidFill>
                  <a:srgbClr val="000000"/>
                </a:solidFill>
                <a:latin typeface="Times New Roman"/>
              </a:rPr>
              <a:t> (لخطة الطوا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document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وثيق 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58E4387-A95F-4509-A662-E8E9AF5DF263}" type="slidenum">
              <a:t>8</a:t>
            </a:fld>
          </a:p>
        </p:txBody>
      </p:sp>
    </p:spTree>
  </p:cSld>
  <p:transition>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010640" cy="110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Developing a Security Plan</a:t>
            </a:r>
            <a:br>
              <a:rPr sz="3400"/>
            </a:br>
            <a:r>
              <a:rPr b="0" lang="ar-SA" sz="3400" spc="-1" strike="noStrike">
                <a:solidFill>
                  <a:srgbClr val="000000"/>
                </a:solidFill>
                <a:latin typeface="Times New Roman"/>
              </a:rPr>
              <a:t>تطوير خطة الأمن</a:t>
            </a:r>
            <a:endParaRPr b="0" lang="en-US" sz="3400" spc="-1" strike="noStrike">
              <a:solidFill>
                <a:srgbClr val="000000"/>
              </a:solidFill>
              <a:latin typeface="Arial"/>
            </a:endParaRPr>
          </a:p>
        </p:txBody>
      </p:sp>
      <p:sp>
        <p:nvSpPr>
          <p:cNvPr id="111"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nd continuously updating a comprehensive security plan is one of the most important controls a company can identify.</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طوير ومتابعة تحديث خطة أمن شاملة تعتبر واحده من أهم تطبيقات رقابة المنشأة.</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classifications of controls that help ensure the security of a system:</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ديد من التصنيفات التي تساعد على التأكد من أمن النظام، منها:</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Segregation of duties within the systems function. </a:t>
            </a:r>
            <a:r>
              <a:rPr b="0" lang="ar-SA" sz="2000" spc="-1" strike="noStrike">
                <a:solidFill>
                  <a:srgbClr val="000000"/>
                </a:solidFill>
                <a:latin typeface="Times New Roman"/>
              </a:rPr>
              <a:t>فصل الواجبات في وظائف النظام</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Physical access controls. </a:t>
            </a:r>
            <a:r>
              <a:rPr b="0" lang="ar-SA" sz="2000" spc="-1" strike="noStrike">
                <a:solidFill>
                  <a:srgbClr val="000000"/>
                </a:solidFill>
                <a:latin typeface="Times New Roman"/>
              </a:rPr>
              <a:t>الرقابة على الدخول الماد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ar-SA" sz="2000" spc="-1" strike="noStrike">
                <a:solidFill>
                  <a:srgbClr val="000000"/>
                </a:solidFill>
                <a:latin typeface="Times New Roman"/>
              </a:rPr>
              <a:t>) </a:t>
            </a:r>
            <a:r>
              <a:rPr b="0" lang="en-US" sz="2000" spc="-1" strike="noStrike">
                <a:solidFill>
                  <a:srgbClr val="000000"/>
                </a:solidFill>
                <a:latin typeface="Times New Roman"/>
              </a:rPr>
              <a:t>Logical access controls. </a:t>
            </a:r>
            <a:r>
              <a:rPr b="0" lang="ar-SA" sz="2000" spc="-1" strike="noStrike">
                <a:solidFill>
                  <a:srgbClr val="000000"/>
                </a:solidFill>
                <a:latin typeface="Times New Roman"/>
              </a:rPr>
              <a:t>الرقابة على الدخول المنطق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ar-SA" sz="2000" spc="-1" strike="noStrike">
                <a:solidFill>
                  <a:srgbClr val="000000"/>
                </a:solidFill>
                <a:latin typeface="Times New Roman"/>
              </a:rPr>
              <a:t>) </a:t>
            </a:r>
            <a:r>
              <a:rPr b="0" lang="en-US" sz="2000" spc="-1" strike="noStrike">
                <a:solidFill>
                  <a:srgbClr val="000000"/>
                </a:solidFill>
                <a:latin typeface="Times New Roman"/>
              </a:rPr>
              <a:t>Protection of personal computers and client/server network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حماية الحواسب الشخصية وشبكات العميل</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ar-SA" sz="2000" spc="-1" strike="noStrike">
                <a:solidFill>
                  <a:srgbClr val="000000"/>
                </a:solidFill>
                <a:latin typeface="Times New Roman"/>
              </a:rPr>
              <a:t>) </a:t>
            </a:r>
            <a:r>
              <a:rPr b="0" lang="en-US" sz="2000" spc="-1" strike="noStrike">
                <a:solidFill>
                  <a:srgbClr val="000000"/>
                </a:solidFill>
                <a:latin typeface="Times New Roman"/>
              </a:rPr>
              <a:t>Internet and e-commerce controls. </a:t>
            </a:r>
            <a:r>
              <a:rPr b="0" lang="ar-SA" sz="2000" spc="-1" strike="noStrike">
                <a:solidFill>
                  <a:srgbClr val="000000"/>
                </a:solidFill>
                <a:latin typeface="Times New Roman"/>
              </a:rPr>
              <a:t>الرقابة على الإنترنت والتجارة الإلكترونية</a:t>
            </a:r>
            <a:r>
              <a:rPr b="0" lang="ar-SA"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CF15E71-13A1-4C14-AE83-000A5C9AC7B0}" type="slidenum">
              <a:t>9</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1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1990-03-26T11:58:12Z</cp:lastPrinted>
  <dcterms:modified xsi:type="dcterms:W3CDTF">2005-03-07T06:40:26Z</dcterms:modified>
  <cp:revision>221</cp:revision>
  <dc:subject/>
  <dc:title>Accounting  Information  Systems 9th Edition</dc:title>
</cp:coreProperties>
</file>