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6E32-5B67-4732-8DEF-B4D1FE296CC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3C1E-003F-4D71-9260-08DE23ED74F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DF86-CC1D-4A95-86DF-636C2E5BF31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420E-E5E1-4CBF-9C55-863FE994A46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D445-73F6-4533-8B6A-CC714BCF5D9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F647-579C-460C-9BA4-A706430BABC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4F39-8AC5-4AEC-9CCD-AAD77D25F02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9A13-4F6F-4A16-8776-D0C295F676D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317F-1649-4614-ACFB-C58A35B9BEC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6471-51F3-48F7-A78F-4A7C61ABDF0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637A-8D8E-4DEA-BFB3-D2A180F95E6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FFDA-827D-412A-8D31-74BC95241F6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85A4-FF72-4457-8AC2-BA51C06E4EF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D3BA-7FFA-421C-85AD-DA142AE7334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1B3D-5EFE-49E2-935D-17B16B1C43D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2F01-A200-4C58-BBEE-5ABB9089269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409B-4588-412C-9169-598AE61B73A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9922-DFB7-405E-A2F5-2F231BBD9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DE631-2408-4392-8868-2CF891788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DFDDB-3AB5-493D-8B61-4CC3C15A6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77135-F410-42E4-BB02-4F63EA32F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26BF-C117-4B2D-951D-40CDB2CD7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6750-68D3-4C5F-825A-D865A6E05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1A86-2159-4775-B6BC-D4F34106A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1DEE8-F7E9-4540-944C-23813723E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C5681-4EAB-4B3E-ABFB-C9F999A6E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B846-ABA3-4BA2-9730-9E4B24A3B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4F15-9678-4387-A4EA-7C8B2D8A9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5120-F7F3-4610-B8D1-00153D675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2-</a:t>
            </a:r>
            <a:fld id="{A5DCA3F6-59FC-414E-87F2-E1B285AFF75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909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©2003 Prentice Hall Business Publishing,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, 9/e, Romney/Steinbart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7086240" y="60958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AF807FB0-6E83-4B91-8DEB-D8A151847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3720" y="609588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©2003 Prentice Hall Business Publish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, 9/e, Romney/Steinb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م الله الرحمن الرحيم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صل الثاني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Business Processes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لسلسلة العمليات التجار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tch processing is the periodic updating of the data stored about resources and ag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عالجة الرزم هي تحديث للبيانات المخزنة عن المصادر والعملاء بشكل دو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-line, real-time processing is the immediate updating as each transaction occu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عالجة المباشرة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في الوقت الحقيق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تحديث للبيانات في وقت وقوع كل حدث تجا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Process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F9295-DCC9-4886-A8C6-D3722CD4D1D3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ntity is something about which information is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كيانات أو الأشياء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بضاعة، موظف، زبون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الأشياء التي يتم تخزين معلومات ع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attributes or characteristics of interest, which need to be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لكل كيان صفات أو خصائص ذات أهمية، والتي بحاجة لتخز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Storag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تخزين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F5473-E56A-4429-9434-F115CF8F1438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أحداث التجارية في اليوم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ransaction data have been captured on source documents, the next step is to record the data in a jour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عد أخذ بيانات الحدث التجاري على وثائق أصلية، تكون الخطوة التالية بتسجيلها في اليوم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ournal entry is made for each transaction showing the accounts and amounts to be debited and cred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د يومية يعمل لكل حدث تجاري، ويظهر الحسابات وقيمها المدينة والدائن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journal records infrequent or nonroutin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دفتر اليومية نادرة أو ليست روتينية الأحداث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journals simplify the process of recording large numbers of repetitiv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يات المتخصصة تسهل إجراءات تسجيل الأرقام الكبيرة للأحداث التجارية السابق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ur most common types of transactions: Credit sales, Cash receipts, Purchases on account, Cash disburs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65AA-EC77-45B8-A651-70E1E907907F}" type="slidenum">
              <a:t>12</a:t>
            </a:fld>
          </a:p>
        </p:txBody>
      </p:sp>
    </p:spTree>
  </p:cSld>
  <p:transition advTm="4000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gers are used to summarize the financial status, including the current balance, of individual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يستخدم لتلخيص الوضع المالي لكل حساب على حده، إضافة لرصيد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contains summary-level data for every asset, liability, equity, revenue, and expense account of an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توي دفتر الأستاذ العام على بيانات ملخصة لحسابات الأصول، والخصوم، وحقوق الملكية، والإيرادات، والمصاريف في للمنشأ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idiary ledger records all the detailed data for any general ledger account that has many individual sub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يسجل كل البيانات المفصلة لأي حساب أستاذ عام له العديد من الحسابات الفرعية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DE7B-68EB-47E6-B895-33F682299B18}" type="slidenum">
              <a:t>13</a:t>
            </a:fld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ommonly used subsidiary ledgers: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اتر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المساعد المستخد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receiv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ory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للمخزو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pay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account corresponding to a subsidiary ledger called control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مى حساب الأستاذ العام الممثل للأستاذ الفرعي بحساب السيطرة أو التحك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rol account contains the total amount for all individual accounts in the subsidiary led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وي حساب التحكم القيمة الكاملة لكل الحسابات المنفردة في الأستاذ المساع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8733F-780F-4456-A524-1A238A8FE99D}" type="slidenum">
              <a:t>14</a:t>
            </a:fld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hart of Accounts</a:t>
            </a:r>
            <a:br>
              <a:rPr sz="3400"/>
            </a:b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خريطة الحساب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art of accounts is a list of all general ledger accounts used by an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خريطة الحسابات هي قائمة بكل حسابات الأستاذ العام والتي تستخدم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mportant that the chart of accounts contains sufficient detail to meet the information needs of the organiz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ن المهم تحتوي خريطة الحسابات على تفاصيل كافية لتقابل المعلومات التي تحتاج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FDA6-58EE-4F01-AFE6-45424DB08599}" type="slidenum">
              <a:t>15</a:t>
            </a:fld>
          </a:p>
        </p:txBody>
      </p:sp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Information for Decision Making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معلومات لاتخاذ القرار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cond 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AIS is to provide management with information useful for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نية لنظام المعلومات المحاسبية هي تزويد الإدارة بمعلومات نافعة في اتخاذ القر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an AIS provides falls into two main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تي يزودها نظام المعلومات المحاسبية تقع ضمن فئتان رئيسيتان 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اري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87C1-1E58-4D99-BDDD-6C00FF84AA0F}" type="slidenum">
              <a:t>16</a:t>
            </a:fld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nancial Statements 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الكشوف/التقارير المال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a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djust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تسو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adjusted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 بعد التسويات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income statemen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دخل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clos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إغلاق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balance shee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مركز المال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يزان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statement of cash flow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قائمة التدفقات النقد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436D-CB6C-4D1D-BEF2-646E4BE1A59A}" type="slidenum">
              <a:t>17</a:t>
            </a:fld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        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S must also be able to provide managers with detailed operational information about the organization’s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ن يكون نظام المعلومات المحاسبية قادراً على تزويد الإداريين بمعلومات عملية ومفصلة عن أداء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mportant types of managerial reports are:    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م تقريران إداريا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: which is the formal expression of goals in financial terms (e.g. Cash Budge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 التقديرية: وهي تعبير منهجي عن الأهداف من خلال بنود مالية (مثل موازنة نقدي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reports: lists the budgeted and actual amounts of revenues and expenses and also shows the variances, or differences, between these two amou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: يقارن بين الموازنة التقديرية والقيم الحقيقية للإيرادات والمصاريف والفروقات بينهم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9ACE9-EA51-49F0-AB03-5D9A0234EF3C}" type="slidenum">
              <a:t>18</a:t>
            </a:fld>
          </a:p>
        </p:txBody>
      </p: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ic Co. Monthly Performance Report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 الشهري لشركة ماجي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d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فعلي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ر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Goods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لفة البضائع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2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4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s Margin 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مالي الدخل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Expens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اريف أخر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Income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خل من التشغي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ial Reports       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تقارير الإدار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CF0B-1805-4B97-A7A0-73C021543CBE}" type="slidenum">
              <a:t>19</a:t>
            </a:fld>
          </a:p>
        </p:txBody>
      </p:sp>
    </p:spTree>
  </p:cSld>
  <p:transition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llect and store data about the organization’s business activities and transactions efficiently and effective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جميع وتخزين البيانات المتعلقة بالأشطة والأحداث التجارية للمنشأة التجارية بكفائة وفاعلي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ure transaction data on source docu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خذ بيانات الحدث التجاري على وثائق أصل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, which present a chronological record of what occur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حدث التجاري في دفتر اليومية، بشكل يظهر ترتيب حدوثها الزمن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data from journals to ledgers, which sort data by account ty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بيانات من اليومية إلى الأستاذ، والذي يخزن البيانات حسب نوع الحساب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C77A2-5077-492E-834E-0FF189C51652}" type="slidenum">
              <a:t>2</a:t>
            </a:fld>
          </a:p>
        </p:txBody>
      </p:sp>
    </p:spTree>
  </p:cSld>
  <p:transition advTm="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ontrol Consideration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بارات الرقابة الداخل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ird function of an AIS is to provide adequate internal controls to accomplish three basic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لثة لنظام المعلومات المحاسبية هي التزويد بمراقة داخلية ملائمة لتحقيق ثلاثة أهداف رئيس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is reliable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يعتمد عليها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ثوقٌ به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ُنجزت بشكل فعّا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  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important methods for accomplishing these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طرقتان المهمتان لتحقيق تلك الأهداف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for adequate documentation of all business activ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د بالتوثيق الملائم لكل الأنشطة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AIS for effective segregation of du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صميم نظام معلومات محاسبي فعّال في فصل الواجب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F80A-02D2-476B-9E20-B77A86F8A199}" type="slidenum">
              <a:t>20</a:t>
            </a:fld>
          </a:p>
        </p:txBody>
      </p:sp>
    </p:spTree>
  </p:cSld>
  <p:transition>
    <p:blinds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Documentation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الملائ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560" y="914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 allows management to verify that assigned responsibilities were completed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يتيح للإدارة للتحقق من أن المسؤوليات المخصصة (المحددة) أنجزت بشكل صحيح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243828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     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048120"/>
            <a:ext cx="74678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refers to dividing responsibility for different portions of a transaction among several people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 تعزى إلى تقسيم المسؤوليات لمختلف أجزاء الحدث التجاري بين عدّة أشخاص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that should be performed by different people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ظائف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هام الواجب إنجازها من قبل الأشخاص المختلفين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z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فويض ب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custody of asset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حتفاظ برعاية الأصول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C7B6-DE50-49C3-AE7A-A10AA9D52EE5}" type="slidenum">
              <a:t>21</a:t>
            </a:fld>
          </a:p>
        </p:txBody>
      </p:sp>
    </p:spTree>
  </p:cSld>
  <p:transition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management with information useful for decision mak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إدارة بمعلومات نافعة في اتخاذ القرار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ual systems, this information is provided in the form of reports that fall into two main categ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نظام اليدوي يتم تزويد هذه المعلومات على شكل تقارير تقع ضمن فئتان رئيستان هما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المال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23880" y="419040"/>
            <a:ext cx="7467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D9A0-D0E4-4298-AB47-78EBDBD9BA37}" type="slidenum">
              <a:t>3</a:t>
            </a:fld>
          </a:p>
        </p:txBody>
      </p:sp>
    </p:spTree>
  </p:cSld>
  <p:transition advTm="4000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adequate internal contr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يد بمراقبة داخلية ملائم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produced by the system is rel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الناتجة عن النظام يعتمد عليها (موثوقٌ بها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 and in accordance with management’s obj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نجزت بشكل فعّال ومنسجم مع أهداف الإدا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1FFD-513E-49F0-9BAD-4D719EDB4D60}" type="slidenum">
              <a:t>4</a:t>
            </a:fld>
          </a:p>
        </p:txBody>
      </p:sp>
    </p:spTree>
  </p:cSld>
  <p:transition advTm="5000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revenue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selling goods or services and collecting payment for those s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يراد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بيع البضائع والخدمات وتحصيل التسديدات لتلك المبيع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xpenditure cycle: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s activities of buying and paying for goods or services used by the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صروف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شراء البضائع والخدمات المستخدمة من قبل المنشأة، وتسديد ثم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human resources/payroll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hiring and paying employe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وارد البشرية/رواتب العاملين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عيين ودفع رواتب الموظف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ED383-398D-4752-B3E4-6256C85AF3A6}" type="slidenum">
              <a:t>5</a:t>
            </a:fld>
          </a:p>
        </p:txBody>
      </p:sp>
    </p:spTree>
  </p:cSld>
  <p:transition advTm="4000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20574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roduction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converting raw materials and labor into finished go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نتاج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حويل للمواد الخام والعمالة إلى بضائع جاهز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financing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obtaining necessary funds to run the organization, repay creditors, and distribute profits to inves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تمويل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الحصول على الاعتمادات المالية اللازمة لتشغيل المنشأة، وتسديد المقرضين، وتوزيع الأرباح على المستثمر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B0A2-D0CA-4082-8C4F-F815EB19E420}" type="slidenum">
              <a:t>6</a:t>
            </a:fld>
          </a:p>
        </p:txBody>
      </p:sp>
    </p:spTree>
  </p:cSld>
  <p:transition advTm="3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371600" y="1752480"/>
            <a:ext cx="6781320" cy="3733560"/>
            <a:chOff x="1371600" y="1752480"/>
            <a:chExt cx="6781320" cy="3733560"/>
          </a:xfrm>
        </p:grpSpPr>
        <p:sp>
          <p:nvSpPr>
            <p:cNvPr id="108" name=""/>
            <p:cNvSpPr/>
            <p:nvPr/>
          </p:nvSpPr>
          <p:spPr>
            <a:xfrm>
              <a:off x="36914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Expenditur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مصروف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116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Human Resources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الموارد البشرية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8248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Production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نتاج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040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Revenu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يراد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Financing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تمويل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47160" y="3293640"/>
              <a:ext cx="5829840" cy="8888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1a00"/>
                  </a:solidFill>
                  <a:latin typeface="Times New Roman"/>
                </a:rPr>
                <a:t>General Ledger &amp; Reporting System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الأستاذ العام  </a:t>
              </a:r>
              <a:r>
                <a:rPr b="0" lang="ar-JO" sz="2000" spc="-1" strike="noStrike">
                  <a:solidFill>
                    <a:srgbClr val="1a1a00"/>
                  </a:solidFill>
                  <a:latin typeface="Times New Roman"/>
                </a:rPr>
                <a:t>+  </a:t>
              </a: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ونظام التقارير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4224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534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228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62440" y="2761200"/>
              <a:ext cx="0" cy="53208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0760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8B1D-F2D8-42B1-9777-5B4A02FFAE30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 consists of four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ألف دورة معالجة البيانات من خمسة خطوات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خال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orage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زين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الجة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Out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راج المعلوم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igger for data input is usually business activity.  Data must be collected abou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در البيانات عادة ما يكون الأنشطة التجارية. ويجب جمع البيانات عن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vent of interest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حدث ذا أهم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ources affected by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صادر المتأثرة ب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gents who participate in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 المشاركين في 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3CF3E-77D5-48EC-9365-2A3197CD5889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Inpu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إدخال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cally, most businesses used paper source documents to collect data and then transferred that data into a compu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ريخياً، معظم الأعمال التجارية استخدمت وثائق أصلية ورقية لتجميع البيانات ومن ثم نقلها على الحاسب الآل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most data are recorded directly through data entry scre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، يتم تسجيل معظم البيانات من خلال شاشات إدخال مباش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over data collection is improved by: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يطرة على تجميع البيانات تحسن ب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umbering each source document  and using turnaround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قيم المسبق لكل وثيقة أصلية واستخدام إعادة الوثائ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the system automatically assign a sequential number to each new transac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عل النظام يعين رقماً تسلسلي لكل حدت جدي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ing source data automa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صدر آلي ل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DEF0-A645-4464-8EF6-6C39F5F6689E}" type="slidenum">
              <a:t>9</a:t>
            </a:fld>
          </a:p>
        </p:txBody>
      </p:sp>
    </p:spTree>
  </p:cSld>
  <p:transition advTm="5000"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7:18:51Z</dcterms:created>
  <dc:creator>S. Bhattacharya</dc:creator>
  <dc:description/>
  <dc:language>en-US</dc:language>
  <cp:lastModifiedBy>dr-mahmood</cp:lastModifiedBy>
  <cp:lastPrinted>2004-09-25T05:48:13Z</cp:lastPrinted>
  <dcterms:modified xsi:type="dcterms:W3CDTF">2005-03-04T04:55:49Z</dcterms:modified>
  <cp:revision>112</cp:revision>
  <dc:subject/>
  <dc:title>Accounting  Information  Systems 9th Edition</dc:title>
</cp:coreProperties>
</file>