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90E-2D31-4E73-B7E2-EF5B1731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A45-A201-4F7C-9ACD-341C6B3F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746B-EBF6-4FF0-939F-8AE084C5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F53-3EC6-4E86-BAD2-24945E86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F4BB-5718-4280-B2B6-88A804F3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9560-47BA-479E-86D6-71CE1C5B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9478-D264-4897-8BE0-8D3065BD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272F-D8B0-49C8-8A2B-37A5B1B8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827E-2FDE-4D05-952D-63ADABF9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4F1A-4E64-470D-94C7-CD583ABA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D46A-395D-46D7-BE27-412D7FA0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01B-ED89-49CE-8A40-2E93E32F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49A0-6EB5-4548-A7B8-D83B380D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9552-D657-4C36-BCAD-031540D1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33A4-288D-4588-9CB6-BB0C3285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F4C9-BD24-4533-946F-BFD4D99E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6907-1FBC-4E03-9C0D-6F92441D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2928-FED1-4E80-88D1-235F9E25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4E1-860B-42DC-8D4B-9298BFAB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72D-CF9B-4EAD-84F7-D1CB301C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533-CD8D-4CBB-A492-A6E4E060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4D6-AC05-4C83-BC18-63EA10FA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CDE-BB43-49B1-99CD-AA2DA1B1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B50-6FE9-4DC0-A06D-872A9DF2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prstGeom prst="pie">
                <a:avLst/>
              </a:pr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أ. م  الزهران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A054-0705-4573-82D9-BFB8377A4AE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prstGeom prst="pie">
              <a:avLst/>
            </a:pr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848E-3AA7-4E36-8822-BB7621C8833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15EA-C95D-4506-9AF0-4FDC1D01D64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تعري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المراجعة عمل منظم للحصول على أدلة الإثبات بطريقة موضوعية ، وتقييم هذه الأدلة بغرض التأكد من مدى سلامة العمليات والأحداث الاقتصادية بواسطة تلك الإثباتات والتحقق من درجة التوافق بين الأدلة و المعايير الموضوعة ، وتوصيل ذلك إلى الأطراف المستفيدة .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مستطيل 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6CC4-FB2A-4973-9E68-EEA3AFA9D94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وظيفة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محاسب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افظة على الأصول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ضبط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داخلي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أكد من دقة البيانات المحاسبية ودرجة الاعتماد عليها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إدار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حقيق الكفاية الانتاجي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التزام بالسياسات الإدارية المرسوم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6863-C713-48AE-B726-FD6CC4E95BE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هدف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انع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منع وقوع الأحداث غير المرغوب ف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كاشف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كشف الأخطاء الواقعة فعلاً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تصحيحي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صحيح ما اكتُشف من أخطاء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وجه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شجيع وقوع أحداث مرغوب في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066680" y="1981080"/>
            <a:ext cx="701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143000" y="19810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143000" y="29718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143000" y="40384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143000" y="50292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62120" y="2208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76212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 flipH="1">
            <a:off x="76212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7621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76212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4"/>
          <p:cNvSpPr/>
          <p:nvPr/>
        </p:nvSpPr>
        <p:spPr>
          <a:xfrm>
            <a:off x="7621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مستطيل 1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B7DD-8A64-45DF-BC60-5C50F8B0C8F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مقومات نظام الرقابة الداخلية الأساس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هيكل تنظيمي إداري واضح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نظام محاسبي متكامل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وجود إجراءات تفصيلية واضحة لتنفيذ الواجبات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لاختيار المناسب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رقابة الأداء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ستخدام الوسائل الآلية المناسبة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C164-A4AF-422B-AFEC-D5A44DE1034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أساليب الرقابة المحاسبية الهادفة إلى حماية الأصول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فصل بين الاختصاص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دليل الإجراء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لوائح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غيير الدوري بين العاملين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متع الموظف بإجازته السنو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رقابة المزدوج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فاجئ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1FA9-9254-426E-B698-A3DC35502E3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محاسبية الهادفة إلى التأكد من دقة البيانات المحاسبية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محاسبي سليم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حسابات المراقبة والمطابقات الدو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ستم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مذكرات تسوية البنك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عتماد قيود المراجعة الشه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ED7C-24AA-4ADC-901A-EAA7E2BC7E2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إدارية الهادفة إلى رفع الكفاءة الانتاجية وضمان الالتزام بالسياسات والخطط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يزانية التقدي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كاليف المعيا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قاري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برامج التدريب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حوافز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طبيق نظام محاسبة المسؤو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A3B2-0CB5-46EE-99F2-7187E68B83B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هي وظيفة مستقلة من داخل المشروع  لفحص العمليات المالية والإدارية وتقييم مدى الالتزام بالأنظمة والإجراءات الداخلية ووسائل الرقابة الداخلية واقتراح التحسينات اللازمة لرفع الكفاية الإنتاجية 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إذاً المراجعة الداخلية جزء من نظام الرقابة الداخلية وليس العكس ، حيث تقوم إدارة المراجعة الداخلية بفحص وتقييم نظام الرقابة الداخلية وإكتشاف نواحى القصور وتقديم توصيات بالتحسينات المطلوب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1D68-5FD9-49D4-AC59-60BAFE3A6C8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السمات التى تميز المراجعة الداخلية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تهدف لخدمة إدارة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ؤدى بواسطة موظفين مستقلين من داخل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مل جميع عمليات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 الداخلى عمله اشتشارى وليس تنفيذ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BB0F-5D80-4741-BE67-2E06CB88622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هداف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نظام الرقاب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تأكد من دقة وصحة العمليات الما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حماية أصول المنشأ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مدى الالتزام بالسياسات والإجراءات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إستخدام الفعال والإقتصادى لموارد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قتراح التحسينات اللازمة لرفع الكفاية الإنتاج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6A3D-FDF1-494B-A236-702089619EB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عايير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كفاءة المهن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إستقلال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مجال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إدارة العمل بوحدة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تنفي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D851-DD14-4656-BA94-10D7D3BEB3B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دا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 Narrow"/>
              </a:rPr>
              <a:t>هدف رئيس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 Narrow"/>
              </a:rPr>
              <a:t>إبداء الرأى في القوائم المالية وعن مدى عدالتها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 بالتحقق من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عرض بالقوائم المالية وكفاية الإفصاح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شرعية وصحة العملي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ملك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ستقلال الفتر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تقويم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وجود الفعلي للاصو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97AA-FEBC-4D3B-A752-F527FE40550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معايير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وفر المؤهلات العلمية والخبرات العملية الكافية لدى المراجع الداخلي ومعاونيه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بعية إدارة المراجعة الداخلية لأعلى سلطة في ا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عدم قيام إدارة المراجعة الداخلية بأي عمل يتعلق بالعمليات التي تقوم بمراجعت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تحديد الإطار العام لعم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دليل للعمل بمكتب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تقييم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ستمر لنظام الرقاب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برنامج لتنفيذ عمل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إعداد تقرير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6A3C-1D4E-4230-AC6A-5D2D92BE0A5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أنواع الخدمات التى تقدمها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حماية والوقا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حماية أصول المنشأة والتحقق من صحة ودقة البيانات المالية ومراجعة مدى التزام إدارة الوحدة وعدم مخالفة السياسات والإجراءات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-3016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بناء والإصلاح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تقويم اساليب الرقابة وتقويم الأداء وتقديم التوصيات اللازمة لإجراء التعديلات المقترح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مستطيل 5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3858-6037-480B-B6E5-BF362D2190D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أنظمة الرقابة الداخلية الحالية والمساعدة في فحص الأنظمة الجديدة قبل وضعها موضع التنفيذ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دقة وسلامة البيانات التي تحتويها الدفاتر والسجلات والقوائم الما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ق من تنفيذ السياسات التي تضعها المنشأة وتقييم مدى التوافق مع القوانين والأنظمة الخاصة بالجهات ذات العلاق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الإجراءات الخاصة بالمحافظة على أصول المنشأة وحمايتها من الإهمال و الغش والسرق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E3DF-5CA2-4D29-AC1F-96CA5AB3B28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. التحقق من الكفاية والفعالية في استخدام المصادر المتاحة ل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يق فيما يشتبه به من نشاطات غير مناسبة في المنشأ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كتابة للإدارة التنفيذية حول نتائج عمليات المراجعة والفحوصات التي تم تنفيذ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تابعة تنفيذ التوصيات والتحقق من اتخاذ الإجراءات التصحيحية المناسبة بخصوص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دريب ، أو الإشراف على تدريب ، الموظفين الجدد والقدامى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سهيل عمل المراجع الخارجي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20E3-4E19-4E42-B718-CC1DBB3293A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خطيط عمل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ضع برنامج عمل يحدد الهدف من عملية المراجعة والمجالات التى يجب مراجعتها والإجراءات التى يجب اتباعها والوقت المحدد لإنجاز عملية المراجع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تمل خطة المراجعة على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 مجالات المراجعة الداخلية (جداول العمل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إجراءات المراجعة الداخلية والتكليفات المطلوب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نماذج التقارير التى تصدر عن قسم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EE28-FFA4-4776-87A4-E011E7868E8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تشابه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رتكز عملية المراجعة بصفة أساسية بغض النظر عن نوعها على نظام الرقابة الداخلي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هدف عملية المراجعة إلى المحافظة على كافة الحقوق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ساعد عملية المراجعة فى التحليل المالى واستخراج المؤشرات المالية وقياس الإنحرافات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تطلب عملية المراجعة بصفة عامة التمتع بدرجة من الاستقلال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صلة النهائية لعملية المراجعة هى إعداد تقرير للجهة المسئول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06B5-B2F8-4B26-9873-CEAD70740D8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إختلاف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درجة الإستقلال التى يتمتع بها المراجع الخارجى أعلى من المراجع الداخلى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مجال الإستفادة من خدمات المراجعة الخارجية أكبر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فحص وتقييم نظام الرقابة الداخلية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مجالات المساءل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2548-7C8A-4E3E-8028-BA5DBBFACB3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جالات التعاون بين المراجع الداخلى والخارجى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تقع على المراجع الداخلى مهمة تنفيذ التوصيات التى يبديها المراجع الخارجى فى تقريره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ختص المراجع الداخلى بمهمة تجهيز البيانات المحاسبية بينما يقع على المراجع الخارجى استخراج المعلومات المحاسبية من تلك البيانات وتوصيلها إلى مستخدم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قوم المراجع الخارجى ببعض الأعمال التى يطلبها المراجع الخارجى مثل جرد الصندوق خلال السنة المالية، الرد على استفسارات المراجع الخارجى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E553-1442-48E3-AD8D-B423085433B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م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أهمية كبرى (رئيسية)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إعطاء ثقة لدى مستخدمي القوائم المالية - سواء من داخل المنشأة أو خارجها - بأنها تعبر بصدق وعدالة عن المركز المالي للمنشأة وأنها تتفق مع المبادئ المحاسبية المتعارف عليها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D013-2801-4389-A7A6-6E1B3E08DFA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دلة الإثبات في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عبارة عن حقائق وقرائن واقعة بالفعل وملموسة يحصل عليها المراجع لتساعده في الحكم على صحة أو عدم صحة فرضيةٍ ما حول القوائم المال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B583-1043-4E81-AC64-96CF6A034C5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أدلة الإثبات في المراجع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وجود الفعلي للشيء الممثل في الحسابات وفحصه مادياً بواسطة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مستندات المؤيدة للعمليات - الخارجية و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إقرارات التي يحصل عليها المراجع من الغير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شهادات التي يحصل عليها المراجع من إدارة المنشأ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وجود نظام سليم للرقابة 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عمليات الحسابية التي يقوم بها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ارتباط بين البيانات محل الفحص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FE32-4696-4946-B997-87628556856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وسائل (أساليب) الحصول على أدلة الإثبات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جرد الفعل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ستن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حساب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قي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وضوع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0700-B380-42BF-B1A8-00A3F870796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-1357200" y="-71280"/>
          <a:ext cx="7415280" cy="847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57200" y="-71280"/>
                    <a:ext cx="7415280" cy="84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 rot="20799600">
            <a:off x="2448360" y="7632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أنواع المراجع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من حيث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5"/>
          <p:cNvSpPr/>
          <p:nvPr/>
        </p:nvSpPr>
        <p:spPr>
          <a:xfrm>
            <a:off x="4356720" y="528624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73C2-2860-4833-BC54-5671ABEB373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نظام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76080" indent="-25992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الخطة التنظيمية وجميع الإجراءات والوسائل التي تتبع في داخل المنشأة التي من شأنها المحافظة على أصولها ، والتأكد من دقة وصحة البيانات المحاسبية المسجلة في الدفاتر ودرجة الاعتماد عليها ، وتحقيق أكبر قدر من الكفاية الإنتاجية في عمليات المنشـأة ، والالتزام بتنفيذ السياسات الإدارية المرسـوم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987C-57A2-4755-A0FE-B2D3E5C5598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 والأصول المتداولة الأخر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جميع الحسابات (الرقابة المحاسبية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المحاسبية والإدار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راحل تطور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مستطيل 6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2T05:06:08Z</dcterms:created>
  <dc:creator>MISHAL</dc:creator>
  <dc:description/>
  <dc:language>en-US</dc:language>
  <cp:lastModifiedBy>mohamed</cp:lastModifiedBy>
  <cp:lastPrinted>2002-01-05T10:39:02Z</cp:lastPrinted>
  <dcterms:modified xsi:type="dcterms:W3CDTF">2008-03-26T17:52:26Z</dcterms:modified>
  <cp:revision>58</cp:revision>
  <dc:subject/>
  <dc:title>أهداف المراجعة</dc:title>
</cp:coreProperties>
</file>