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amera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03F6-4CAE-4ED6-A249-9E0C5441C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4053-55CA-4FA6-97A2-669F2CB5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28E4-6315-431A-8BCB-63A49321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546-2871-482D-943B-9E3997D1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2065-C0D6-4434-A661-4897384A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D87E-F709-4A4D-8FDA-3E5D78271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B1C8-3753-4D4C-9FBF-49F5F103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7EB6-A522-4679-B047-CF97A1D15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0702-2215-402E-A7AD-86029F83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50C7-7901-4877-92BF-C586B055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B00A-F92D-40C9-A971-6DD5F414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94FF-603C-4F1F-801F-A13B30B6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0992-2917-4505-8200-C15E35D4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1F0C-4FF5-4CAB-B767-6090F67F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C3C5-D58C-41A3-AF17-1C7650C01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AF89-16C6-4F2B-983A-8B92AF7B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F58B-B3AF-42AE-9597-266724C7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4872-E3C2-45ED-8E34-BC32A5E2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A29-6889-4D88-8F85-46223960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4799-DB83-4A45-A7F9-163352D72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7AD3-6451-43DC-853B-52D5AB2DE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CD8A-5106-4BBA-BB43-28F4B7D5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8E84-5BF4-462B-92CA-B477D110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7BC4-EDF1-4125-AE2A-D31EFAA4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prstGeom prst="pie">
                <a:avLst/>
              </a:prstGeom>
              <a:gradFill rotWithShape="0">
                <a:gsLst>
                  <a:gs pos="0">
                    <a:srgbClr val="f5ebc1"/>
                  </a:gs>
                  <a:gs pos="100000">
                    <a:srgbClr val="0066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prstGeom prst="pie">
                <a:avLst/>
              </a:prstGeom>
              <a:solidFill>
                <a:srgbClr val="00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أ. م  الزهران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E8F1-0308-4096-B5FE-8AB656A83973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60" name="Rectangle 4"/>
              <p:cNvSpPr/>
              <p:nvPr/>
            </p:nvSpPr>
            <p:spPr>
              <a:xfrm>
                <a:off x="0" y="1981080"/>
                <a:ext cx="9144000" cy="1752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5"/>
              <p:cNvSpPr/>
              <p:nvPr/>
            </p:nvSpPr>
            <p:spPr>
              <a:xfrm>
                <a:off x="0" y="0"/>
                <a:ext cx="1776240" cy="68580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Rectangle 6"/>
            <p:cNvSpPr/>
            <p:nvPr/>
          </p:nvSpPr>
          <p:spPr>
            <a:xfrm>
              <a:off x="1295280" y="4114800"/>
              <a:ext cx="1113120" cy="2743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7"/>
          <p:cNvGrpSpPr/>
          <p:nvPr/>
        </p:nvGrpSpPr>
        <p:grpSpPr>
          <a:xfrm>
            <a:off x="-10800" y="895680"/>
            <a:ext cx="8454600" cy="1951920"/>
            <a:chOff x="-10800" y="895680"/>
            <a:chExt cx="8454600" cy="1951920"/>
          </a:xfrm>
        </p:grpSpPr>
        <p:sp>
          <p:nvSpPr>
            <p:cNvPr id="64" name="Freeform 8"/>
            <p:cNvSpPr/>
            <p:nvPr/>
          </p:nvSpPr>
          <p:spPr>
            <a:xfrm rot="21092400">
              <a:off x="0" y="2344680"/>
              <a:ext cx="1681200" cy="273240"/>
            </a:xfrm>
            <a:prstGeom prst="pie">
              <a:avLst/>
            </a:prstGeom>
            <a:gradFill rotWithShape="0">
              <a:gsLst>
                <a:gs pos="0">
                  <a:srgbClr val="f5ebc1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 rot="21092400">
              <a:off x="1862280" y="1371240"/>
              <a:ext cx="6543360" cy="1000080"/>
            </a:xfrm>
            <a:prstGeom prst="pie">
              <a:avLst/>
            </a:pr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Group 10"/>
            <p:cNvGrpSpPr/>
            <p:nvPr/>
          </p:nvGrpSpPr>
          <p:grpSpPr>
            <a:xfrm>
              <a:off x="1600200" y="1981080"/>
              <a:ext cx="456840" cy="456840"/>
              <a:chOff x="1600200" y="1981080"/>
              <a:chExt cx="456840" cy="456840"/>
            </a:xfrm>
          </p:grpSpPr>
          <p:sp>
            <p:nvSpPr>
              <p:cNvPr id="67" name="Oval 11"/>
              <p:cNvSpPr/>
              <p:nvPr/>
            </p:nvSpPr>
            <p:spPr>
              <a:xfrm>
                <a:off x="1600200" y="1981080"/>
                <a:ext cx="456840" cy="456840"/>
              </a:xfrm>
              <a:prstGeom prst="ellipse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12"/>
              <p:cNvSpPr/>
              <p:nvPr/>
            </p:nvSpPr>
            <p:spPr>
              <a:xfrm>
                <a:off x="1828800" y="210204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13"/>
              <p:cNvSpPr/>
              <p:nvPr/>
            </p:nvSpPr>
            <p:spPr>
              <a:xfrm>
                <a:off x="1671840" y="2037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Oval 14"/>
              <p:cNvSpPr/>
              <p:nvPr/>
            </p:nvSpPr>
            <p:spPr>
              <a:xfrm>
                <a:off x="1671840" y="216684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5"/>
              <p:cNvSpPr/>
              <p:nvPr/>
            </p:nvSpPr>
            <p:spPr>
              <a:xfrm>
                <a:off x="1778760" y="22093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6"/>
              <p:cNvSpPr/>
              <p:nvPr/>
            </p:nvSpPr>
            <p:spPr>
              <a:xfrm>
                <a:off x="1921680" y="219492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Oval 17"/>
              <p:cNvSpPr/>
              <p:nvPr/>
            </p:nvSpPr>
            <p:spPr>
              <a:xfrm>
                <a:off x="1807200" y="23022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Oval 18"/>
              <p:cNvSpPr/>
              <p:nvPr/>
            </p:nvSpPr>
            <p:spPr>
              <a:xfrm>
                <a:off x="1671840" y="2280600"/>
                <a:ext cx="11160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Oval 19"/>
              <p:cNvSpPr/>
              <p:nvPr/>
            </p:nvSpPr>
            <p:spPr>
              <a:xfrm>
                <a:off x="1800360" y="1987920"/>
                <a:ext cx="111600" cy="113760"/>
              </a:xfrm>
              <a:prstGeom prst="ellipse">
                <a:avLst/>
              </a:prstGeom>
              <a:gradFill rotWithShape="0">
                <a:gsLst>
                  <a:gs pos="0">
                    <a:srgbClr val="ffffcc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840" bIns="3384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3A67-4E1C-4CC7-90C5-7537823C60D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AAE7-BA98-4450-84DA-4ADEA4C09DF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تعري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المراجعة عمل منظم للحصول على أدلة الإثبات بطريقة موضوعية ، وتقييم هذه الأدلة بغرض التأكد من مدى سلامة العمليات والأحداث الاقتصادية بواسطة تلك الإثباتات والتحقق من درجة التوافق بين الأدلة و المعايير الموضوعة ، وتوصيل ذلك إلى الأطراف المستفيدة .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مستطيل 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5D43-AA60-4856-BA23-1C09D9D1C4C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وظيفة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محاسب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افظة على الأصول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ضبط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ar-AE" sz="2800" spc="-1" strike="noStrike">
                <a:solidFill>
                  <a:srgbClr val="000000"/>
                </a:solidFill>
                <a:latin typeface="Arial Narrow"/>
              </a:rPr>
              <a:t>الداخلي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أكد من دقة البيانات المحاسبية ودرجة الاعتماد عليها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200" spc="-1" strike="noStrike">
                <a:solidFill>
                  <a:srgbClr val="000000"/>
                </a:solidFill>
                <a:latin typeface="Arial Narrow"/>
              </a:rPr>
              <a:t>الرقابة الداخلية الإدار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، ووظيفتها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حقيق الكفاية الانتاجي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-28008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التزام بالسياسات الإدارية المرسومة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2D19-F00C-41C6-A884-9DC6B1957FE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الرقابة الداخلية (من حيث الهدف)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انع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منع وقوع الأحداث غير المرغوب ف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كاشف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كشف الأخطاء الواقعة فعلاً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تصحيحي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صحيح ما اكتُشف من أخطاء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98440" indent="-298440" algn="r" rtl="1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رقابة موجهة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تهدف إلى تشجيع وقوع أحداث مرغوب في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066680" y="1981080"/>
            <a:ext cx="7010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143000" y="19810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143000" y="29718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143000" y="403848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1143000" y="5029200"/>
            <a:ext cx="69343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62120" y="22082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762120" y="2209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 flipH="1">
            <a:off x="762120" y="3352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76212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3"/>
          <p:cNvSpPr/>
          <p:nvPr/>
        </p:nvSpPr>
        <p:spPr>
          <a:xfrm>
            <a:off x="76212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4"/>
          <p:cNvSpPr/>
          <p:nvPr/>
        </p:nvSpPr>
        <p:spPr>
          <a:xfrm>
            <a:off x="762120" y="3124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مستطيل 16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0B6D-3236-43D5-B5B3-ED14F3256200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مقومات نظام الرقابة الداخلية الأساس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هيكل تنظيمي إداري واضح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نظام محاسبي متكامل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وجود إجراءات تفصيلية واضحة لتنفيذ الواجبات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لاختيار المناسب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رقابة الأداء للموظفين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12120" indent="-312120" algn="r" rtl="1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  <a:cs typeface="Traditional Arabic"/>
              </a:rPr>
              <a:t>استخدام الوسائل الآلية المناسبة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raditional Arabic"/>
              </a:rPr>
              <a:t> .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256C-8B6F-4579-9E7A-985A533D988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أساليب الرقابة المحاسبية الهادفة إلى حماية الأصول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فصل بين الاختصاص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دليل الإجراءات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لوائح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غيير الدوري بين العاملين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متع الموظف بإجازته السنو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رقابة المزدوج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فاجئ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DCEC-8E1A-459A-8D49-06F1FB10FDD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محاسبية الهادفة إلى التأكد من دقة البيانات المحاسبية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محاسبي سليم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وجود نظام حسابات المراقبة والمطابقات الدو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جرد المستم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مذكرات تسوية البنك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عتماد قيود المراجعة الشه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FC6D-7BFF-4365-A09E-906DF8808D3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ساليب الرقابة الداخلية 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أساليب الرقابة الإدارية الهادفة إلى رفع الكفاءة الانتاجية وضمان الالتزام بالسياسات والخطط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يزانية التقدي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كاليف المعيار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تقارير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برامج التدريب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حوافز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-2772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طبيق نظام محاسبة المسؤو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8EF3-60E0-48F4-9F06-4A9194C21C5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هي وظيفة مستقلة من داخل المشروع  لفحص العمليات المالية والإدارية وتقييم مدى الالتزام بالأنظمة والإجراءات الداخلية ووسائل الرقابة الداخلية واقتراح التحسينات اللازمة لرفع الكفاية الإنتاجية 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 algn="just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إذاً المراجعة الداخلية جزء من نظام الرقابة الداخلية وليس العكس ، حيث تقوم إدارة المراجعة الداخلية بفحص وتقييم نظام الرقابة الداخلية وإكتشاف نواحى القصور وتقديم توصيات بالتحسينات المطلوب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2CFE-FB1B-442D-9B99-0D2963991DD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السمات التى تميز المراجعة الداخلية</a:t>
            </a:r>
            <a:endParaRPr b="1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تهدف لخدمة إدارة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ؤدى بواسطة موظفين مستقلين من داخل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مل جميع عمليات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 الداخلى عمله اشتشارى وليس تنفيذ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96FA-9803-495B-B98E-65FF2C18360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هداف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نظام الرقاب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تأكد من دقة وصحة العمليات الما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حماية أصول المنشأ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قييم مدى الالتزام بالسياسات والإجراءات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إستخدام الفعال والإقتصادى لموارد المنشأ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-322200" algn="r" rtl="1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قتراح التحسينات اللازمة لرفع الكفاية الإنتاج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657E-776A-41DE-92E4-2ED2076DA33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عايير المراجع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كفاءة المهن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إستقلال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مجال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إدارة العمل بوحدة المراجعة الداخل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معيار التنفيذ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EA132-E57F-40CC-9F48-4A114F85338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داف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Arial Narrow"/>
              </a:rPr>
              <a:t>هدف رئيس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05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000000"/>
                </a:solidFill>
                <a:latin typeface="Arial Narrow"/>
              </a:rPr>
              <a:t>إبداء الرأى في القوائم المالية وعن مدى عدالتها</a:t>
            </a:r>
            <a:r>
              <a:rPr b="1" lang="ar-SA" sz="2800" spc="-1" strike="noStrike">
                <a:solidFill>
                  <a:srgbClr val="000000"/>
                </a:solidFill>
                <a:latin typeface="Arial Narrow"/>
              </a:rPr>
              <a:t> بالتحقق من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عرض بالقوائم المالية وكفاية الإفصاح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شرعية وصحة العملي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ملك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ستقلال الفترات المالية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صحة التقويم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217080" algn="r" rtl="1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 Narrow"/>
              </a:rPr>
              <a:t>الوجود الفعلي للاصول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7574-3FE5-4684-93BF-E89FB3B9001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معايير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وفر المؤهلات العلمية والخبرات العملية الكافية لدى المراجع الداخلي ومعاونيه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تبعية إدارة المراجعة الداخلية لأعلى سلطة في ا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Verdana"/>
                <a:cs typeface="Simplified Arabic"/>
              </a:rPr>
              <a:t>عدم قيام إدارة المراجعة الداخلية بأي عمل يتعلق بالعمليات التي تقوم بمراجعت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تحديد الإطار العام لعم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دليل للعمل بمكتب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تقييم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المستمر لنظام الرقاب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وضع برنامج لتنفيذ عمل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474480" indent="-47448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abic Transparen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abic Transparent"/>
                <a:cs typeface="Simplified Arabic"/>
              </a:rPr>
              <a:t>إعداد تقرير المراجعة الداخلية</a:t>
            </a:r>
            <a:r>
              <a:rPr b="0" lang="ar-SA" sz="2800" spc="-1" strike="noStrike">
                <a:solidFill>
                  <a:srgbClr val="000000"/>
                </a:solidFill>
                <a:latin typeface="Verdana"/>
                <a:ea typeface="Simplified Arab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D69E-3E1C-45D3-B503-8F606EE8324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"/>
              </a:rPr>
              <a:t>أنواع الخدمات التى تقدمها المراجعة الداخلي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حماية والوقاية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حماية أصول المنشأة والتحقق من صحة ودقة البيانات المالية ومراجعة مدى التزام إدارة الوحدة وعدم مخالفة السياسات والإجراءات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-3016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ar-SA" sz="3200" spc="-1" strike="noStrike">
                <a:solidFill>
                  <a:srgbClr val="000000"/>
                </a:solidFill>
                <a:latin typeface="Arial Narrow"/>
              </a:rPr>
              <a:t>- البناء والإصلاح 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ذلك عن طريق تقويم اساليب الرقابة وتقويم الأداء وتقديم التوصيات اللازمة لإجراء التعديلات المقترح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مستطيل 5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A4CC-980B-4AA5-957D-C7E5F109484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أنظمة الرقابة الداخلية الحالية والمساعدة في فحص الأنظمة الجديدة قبل وضعها موضع التنفيذ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قييم دقة وسلامة البيانات التي تحتويها الدفاتر والسجلات والقوائم المالي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ق من تنفيذ السياسات التي تضعها المنشأة وتقييم مدى التوافق مع القوانين والأنظمة الخاصة بالجهات ذات العلاق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فحص وتقييم الإجراءات الخاصة بالمحافظة على أصول المنشأة وحمايتها من الإهمال و الغش والسرق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0" algn="just" rtl="1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2F24-4F12-4DFF-912F-65F2B834CDA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مهام المهنية لإدارة المراجعة الداخ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Simplified Arabic"/>
              </a:rPr>
              <a:t>. التحقق من الكفاية والفعالية في استخدام المصادر المتاحة للمنشأة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تحقيق فيما يشتبه به من نشاطات غير مناسبة في المنشأ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الكتابة للإدارة التنفيذية حول نتائج عمليات المراجعة والفحوصات التي تم تنفيذ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متابعة تنفيذ التوصيات والتحقق من اتخاذ الإجراءات التصحيحية المناسبة بخصوصها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دريب ، أو الإشراف على تدريب ، الموظفين الجدد والقدامى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23800" indent="-523800" algn="just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Simplified Arabic"/>
              </a:rPr>
              <a:t>تسهيل عمل المراجع الخارجي 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4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D48A-5027-450C-A86E-625FBDF094F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  <a:cs typeface="Simplified Arabic"/>
              </a:rPr>
              <a:t>تخطيط عمل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وضع برنامج عمل يحدد الهدف من عملية المراجعة والمجالات التى يجب مراجعتها والإجراءات التى يجب اتباعها والوقت المحدد لإنجاز عملية المراجع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تشتمل خطة المراجعة على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 مجالات المراجعة الداخلية (جداول العمل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إجراءات المراجعة الداخلية والتكليفات المطلوب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نماذج التقارير التى تصدر عن قسم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9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105E6-D198-4E0A-A496-4CDB98301A48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تشابه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رتكز عملية المراجعة بصفة أساسية بغض النظر عن نوعها على نظام الرقابة الداخلي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هدف عملية المراجعة إلى المحافظة على كافة الحقوق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ساعد عملية المراجعة فى التحليل المالى واستخراج المؤشرات المالية وقياس الإنحرافات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تتطلب عملية المراجعة بصفة عامة التمتع بدرجة من الاستقلال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48280" indent="-548280" algn="r" rtl="1">
              <a:spcBef>
                <a:spcPts val="700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المحصلة النهائية لعملية المراجعة هى إعداد تقرير للجهة المسئولة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50BA-A3DE-4CC4-8B29-3A0FE1D87BFB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أوجه الإختلاف بين المراجعة الداخلية والخارج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درجة الإستقلال التى يتمتع بها المراجع الخارجى أعلى من المراجع الداخلى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 مجال الإستفادة من خدمات المراجعة الخارجية أكبر من المراجعة الداخلية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الهدف من فحص وتقييم نظام الرقابة الداخلية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r" rtl="1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- مجالات المساءل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9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E823-5144-4794-9085-D6ABBC98039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جالات التعاون بين المراجع الداخلى والخارجى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تقع على المراجع الداخلى مهمة تنفيذ التوصيات التى يبديها المراجع الخارجى فى تقريره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ختص المراجع الداخلى بمهمة تجهيز البيانات المحاسبية بينما يقع على المراجع الخارجى استخراج المعلومات المحاسبية من تلك البيانات وتوصيلها إلى مستخدميها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 algn="r" rtl="1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Arial Narrow"/>
              </a:rPr>
              <a:t>- يقوم المراجع الخارجى ببعض الأعمال التى يطلبها المراجع الخارجى مثل جرد الصندوق خلال السنة المالية، الرد على استفسارات المراجع الخارجى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مستطيل 5"/>
          <p:cNvSpPr/>
          <p:nvPr/>
        </p:nvSpPr>
        <p:spPr>
          <a:xfrm>
            <a:off x="70560" y="618156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D84D-5871-41F7-A4A8-C7E04231E11F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همية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أهمية كبرى (رئيسية)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إعطاء ثقة لدى مستخدمي القوائم المالية - سواء من داخل المنشأة أو خارجها - بأنها تعبر بصدق وعدالة عن المركز المالي للمنشأة وأنها تتفق مع المبادئ المحاسبية المتعارف عليها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0D0A-3D08-4FF5-94C7-84068FDB98B6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دلة الإثبات في المراجع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000000"/>
                </a:solidFill>
                <a:uFillTx/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عبارة عن حقائق وقرائن واقعة بالفعل وملموسة يحصل عليها المراجع لتساعده في الحكم على صحة أو عدم صحة فرضيةٍ ما حول القوائم المال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7D97-21DB-425B-8B86-C93A85869B11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أنواع أدلة الإثبات في المراجعة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وجود الفعلي للشيء الممثل في الحسابات وفحصه مادياً بواسطة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مستندات المؤيدة للعمليات - الخارجية و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 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إقرارات التي يحصل عليها المراجع من الغير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شهادات التي يحصل عليها المراجع من إدارة المنشأ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وجود نظام سليم للرقابة الداخلية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عمليات الحسابية التي يقوم بها المراجع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  <a:p>
            <a:pPr marL="536040" indent="-536040" algn="just" rtl="1">
              <a:spcBef>
                <a:spcPts val="774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000000"/>
                </a:solidFill>
                <a:latin typeface="Arial Narrow"/>
              </a:rPr>
              <a:t>الارتباط بين البيانات محل الفحص</a:t>
            </a:r>
            <a:r>
              <a:rPr b="0" lang="en-US" sz="31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1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2409-740B-4762-ABC4-E55895DF21C5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وسائل (أساليب) الحصول على أدلة الإثبات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جرد الفعلي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ستن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حساب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قيد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مراجعة الموضوعي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عنصر نائب للتذييل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عنصر نائب لرقم الشريحة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BE94-21DE-4E0C-AD30-BA63AD553549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-1357200" y="-71280"/>
          <a:ext cx="7415280" cy="847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357200" y="-71280"/>
                    <a:ext cx="7415280" cy="847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Text Box 4"/>
          <p:cNvSpPr/>
          <p:nvPr/>
        </p:nvSpPr>
        <p:spPr>
          <a:xfrm rot="20799600">
            <a:off x="2448360" y="76320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أنواع المراجعة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 u="sng">
                <a:solidFill>
                  <a:srgbClr val="000000"/>
                </a:solidFill>
                <a:uFillTx/>
                <a:latin typeface="Times New Roman"/>
              </a:rPr>
              <a:t>من حيث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مستطيل 5"/>
          <p:cNvSpPr/>
          <p:nvPr/>
        </p:nvSpPr>
        <p:spPr>
          <a:xfrm>
            <a:off x="4356720" y="528624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F2FD-BD9D-449D-BEE2-E78728537AF2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  <a:cs typeface="Simplified Arabic Backslanted"/>
              </a:rPr>
              <a:t>نظام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 Narrow"/>
              </a:rPr>
              <a:t>تعريف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676080" indent="-259920" algn="just" rtl="1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هي الخطة التنظيمية وجميع الإجراءات والوسائل التي تتبع في داخل المنشأة التي من شأنها المحافظة على أصولها ، والتأكد من دقة وصحة البيانات المحاسبية المسجلة في الدفاتر ودرجة الاعتماد عليها ، وتحقيق أكبر قدر من الكفاية الإنتاجية في عمليات المنشـأة ، والالتزام بتنفيذ السياسات الإدارية المرسـومة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مستطيل 5"/>
          <p:cNvSpPr/>
          <p:nvPr/>
        </p:nvSpPr>
        <p:spPr>
          <a:xfrm>
            <a:off x="70560" y="578628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عنصر نائب للتذييل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 Narrow"/>
              </a:rPr>
              <a:t>د. رضا صال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عنصر نائب لرقم الشريحة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C01C-1641-483D-8BD7-7436798498BD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النقدية والأصول المتداولة الأخرى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على جميع الحسابات (الرقابة المحاسبية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 Narrow"/>
              </a:rPr>
              <a:t>الرقابة المحاسبية والإدارية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مراحل تطور الرقابة الداخلية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572000" y="25146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مستطيل 6"/>
          <p:cNvSpPr/>
          <p:nvPr/>
        </p:nvSpPr>
        <p:spPr>
          <a:xfrm>
            <a:off x="70560" y="6039000"/>
            <a:ext cx="47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.geocities.com/acc_alkh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2T05:06:08Z</dcterms:created>
  <dc:creator>MISHAL</dc:creator>
  <dc:description/>
  <dc:language>en-US</dc:language>
  <cp:lastModifiedBy>mohamed</cp:lastModifiedBy>
  <cp:lastPrinted>2002-01-05T10:39:02Z</cp:lastPrinted>
  <dcterms:modified xsi:type="dcterms:W3CDTF">2008-03-26T17:52:26Z</dcterms:modified>
  <cp:revision>58</cp:revision>
  <dc:subject/>
  <dc:title>أهداف المراجعة</dc:title>
</cp:coreProperties>
</file>