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camera.wav" ContentType="audio/x-wav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3EE4-143A-4BE3-AD30-46D0472F5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8F69-54F6-4DC1-885F-0855D960F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396E-AF37-4797-B052-E64B10BBC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CF5B-8894-4981-8870-121E5C064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D430A-F99E-4347-82AE-36C4CC128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3C506-BF4F-438D-9D3B-C92448898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E209B-A198-474C-A704-3EC47D664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A1402-93C2-410B-A1BE-C5FA492CE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CD649-3732-4C0D-B0DE-4C78CE498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55331-D12D-4188-B0B6-D0FC2577E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265DE-906D-4F2B-92FE-B7DC8E00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49CB-834A-4425-AAF0-3E9A53D31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FCA9D-1CFE-4E0B-9737-E7BA6B07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273A0-293D-43E3-AE83-85F4684D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F6B2C-18A5-489F-A511-72931891D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35C3A-7F35-4DDC-8A6A-7FA99F4AF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E0D30-3BC7-4359-BCA3-FB63A3B4F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7DB6-F572-4917-9550-1562ABAF7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9589-D9CB-4CCA-8472-37FE4E213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BC05-953E-4BFA-BA85-BBC6CC080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060C-D2CC-4DA6-A513-83CE38A61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71BE-22D1-4EB4-8F50-1085B108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134A-590E-4354-85AF-5C02D0AC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5B61-A8FD-4780-A42A-0FE6CBDE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Rectangle 3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Freeform 6"/>
              <p:cNvSpPr/>
              <p:nvPr/>
            </p:nvSpPr>
            <p:spPr>
              <a:xfrm rot="21092400">
                <a:off x="-23400" y="831600"/>
                <a:ext cx="1680840" cy="272880"/>
              </a:xfrm>
              <a:prstGeom prst="pie">
                <a:avLst/>
              </a:prstGeom>
              <a:gradFill rotWithShape="0">
                <a:gsLst>
                  <a:gs pos="0">
                    <a:srgbClr val="f5ebc1"/>
                  </a:gs>
                  <a:gs pos="100000">
                    <a:srgbClr val="00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rot="21092400">
                <a:off x="1838160" y="-141120"/>
                <a:ext cx="6543360" cy="1000080"/>
              </a:xfrm>
              <a:prstGeom prst="pie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" name="Group 8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Oval 9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Oval 10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Oval 11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Oval 12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Oval 13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Oval 14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Oval 16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Oval 17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" name="Rectangle 18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أ. م  الزهراني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3E0F8-FBF2-4230-9293-ABBE90D18B78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9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0" name="Rectangle 4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Rectangle 5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Rectangle 6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Group 7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4" name="Freeform 8"/>
            <p:cNvSpPr/>
            <p:nvPr/>
          </p:nvSpPr>
          <p:spPr>
            <a:xfrm rot="21092400">
              <a:off x="0" y="2344680"/>
              <a:ext cx="1681200" cy="273240"/>
            </a:xfrm>
            <a:prstGeom prst="pie">
              <a:avLst/>
            </a:prstGeom>
            <a:gradFill rotWithShape="0">
              <a:gsLst>
                <a:gs pos="0">
                  <a:srgbClr val="f5ebc1"/>
                </a:gs>
                <a:gs pos="100000">
                  <a:srgbClr val="00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9"/>
            <p:cNvSpPr/>
            <p:nvPr/>
          </p:nvSpPr>
          <p:spPr>
            <a:xfrm rot="21092400">
              <a:off x="1862280" y="1371240"/>
              <a:ext cx="6543360" cy="1000080"/>
            </a:xfrm>
            <a:prstGeom prst="pie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Group 10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7" name="Oval 11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Oval 12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Oval 13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Oval 14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Oval 15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Oval 16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Oval 17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Oval 18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Oval 19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F4EC5-2DF5-4EBA-9E16-42C0916768FA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4E4D3-1CB5-45F4-BC82-1F7027BA3D9C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تعريف المراجع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</a:rPr>
              <a:t>المراجعة عمل منظم للحصول على أدلة الإثبات بطريقة موضوعية ، وتقييم هذه الأدلة بغرض التأكد من مدى سلامة العمليات والأحداث الاقتصادية بواسطة تلك الإثباتات والتحقق من درجة التوافق بين الأدلة و المعايير الموضوعة ، وتوصيل ذلك إلى الأطراف المستفيدة .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مستطيل 6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0E789-31E7-4468-9457-DAA9EF31E80F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أنواع الرقابة الداخلية (من حيث الوظيفة)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000000"/>
                </a:solidFill>
                <a:latin typeface="Arial Narrow"/>
              </a:rPr>
              <a:t>الرقابة الداخلية المحاسبية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 ، ووظيفتها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محافظة على الأصول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ar-AE" sz="2800" spc="-1" strike="noStrike">
                <a:solidFill>
                  <a:srgbClr val="000000"/>
                </a:solidFill>
                <a:latin typeface="Arial Narrow"/>
              </a:rPr>
              <a:t>الضبط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Arial Narrow"/>
              </a:rPr>
              <a:t>الداخلي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)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تأكد من دقة البيانات المحاسبية ودرجة الاعتماد عليها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000000"/>
                </a:solidFill>
                <a:latin typeface="Arial Narrow"/>
              </a:rPr>
              <a:t>الرقابة الداخلية الإدارية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 ، ووظيفتها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تحقيق الكفاية الانتاجية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التزام بالسياسات الإدارية المرسومة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C8A2-E27B-4D0E-87B4-AB931FB9D2EF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أنواع الرقابة الداخلية (من حيث الهدف)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r" rtl="1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رقابة مانعة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 تهدف إلى منع وقوع الأحداث غير المرغوب فيها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9844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98440" indent="-298440" algn="r" rtl="1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رقابة كاشفة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 تهدف إلى كشف الأخطاء الواقعة فعلاً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9844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98440" indent="-298440" algn="r" rtl="1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رقابة تصحيحية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 تهدف إلى تصحيح ما اكتُشف من أخطاء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9844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98440" indent="-298440" algn="r" rtl="1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رقابة موجهة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 تهدف إلى تشجيع وقوع أحداث مرغوب فيها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1066680" y="1981080"/>
            <a:ext cx="701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1143000" y="1981080"/>
            <a:ext cx="69343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1143000" y="2971800"/>
            <a:ext cx="69343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1143000" y="4038480"/>
            <a:ext cx="69343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1143000" y="5029200"/>
            <a:ext cx="69343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9"/>
          <p:cNvSpPr/>
          <p:nvPr/>
        </p:nvSpPr>
        <p:spPr>
          <a:xfrm flipH="1">
            <a:off x="762120" y="22082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0"/>
          <p:cNvSpPr/>
          <p:nvPr/>
        </p:nvSpPr>
        <p:spPr>
          <a:xfrm>
            <a:off x="762120" y="2209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1"/>
          <p:cNvSpPr/>
          <p:nvPr/>
        </p:nvSpPr>
        <p:spPr>
          <a:xfrm flipH="1">
            <a:off x="762120" y="3352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2"/>
          <p:cNvSpPr/>
          <p:nvPr/>
        </p:nvSpPr>
        <p:spPr>
          <a:xfrm>
            <a:off x="762120" y="3352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13"/>
          <p:cNvSpPr/>
          <p:nvPr/>
        </p:nvSpPr>
        <p:spPr>
          <a:xfrm>
            <a:off x="76212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4"/>
          <p:cNvSpPr/>
          <p:nvPr/>
        </p:nvSpPr>
        <p:spPr>
          <a:xfrm>
            <a:off x="762120" y="3124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مستطيل 16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FEEF3-0B72-441B-A5BF-C3DB85F28ED4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مقومات نظام الرقابة الداخلية الأساس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  <a:cs typeface="Traditional Arabic"/>
              </a:rPr>
              <a:t>هيكل تنظيمي إداري واضح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Traditional Arabic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12120" indent="-312120" algn="r" rtl="1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  <a:cs typeface="Traditional Arabic"/>
              </a:rPr>
              <a:t>نظام محاسبي متكامل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Traditional Arabic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12120" indent="-312120" algn="r" rtl="1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  <a:cs typeface="Traditional Arabic"/>
              </a:rPr>
              <a:t>وجود إجراءات تفصيلية واضحة لتنفيذ الواجبات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Traditional Arabic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12120" indent="-312120" algn="r" rtl="1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  <a:cs typeface="Traditional Arabic"/>
              </a:rPr>
              <a:t>الاختيار المناسب للموظفين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Traditional Arabic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12120" indent="-312120" algn="r" rtl="1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  <a:cs typeface="Traditional Arabic"/>
              </a:rPr>
              <a:t>رقابة الأداء للموظفين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Traditional Arabic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12120" indent="-312120" algn="r" rtl="1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  <a:cs typeface="Traditional Arabic"/>
              </a:rPr>
              <a:t>استخدام الوسائل الآلية المناسبة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Traditional Arabic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9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F0DD8-3B31-4AE2-856F-CD350DB50807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أساليب الرقابة الداخلية 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 أساليب الرقابة المحاسبية الهادفة إلى حماية الأصول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فصل بين الاختصاصات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دليل الإجراءات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لوائح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تغيير الدوري بين العاملين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تمتع الموظف بإجازته السنوي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رقابة المزدوج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جرد المفاجئ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22CE4-0C83-4131-859A-E5886DE4643D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أساليب الرقابة الداخلية 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أساليب الرقابة المحاسبية الهادفة إلى التأكد من دقة البيانات المحاسبية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وجود نظام محاسبي سليم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وجود نظام حسابات المراقبة والمطابقات الدوري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جرد المستمر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مذكرات تسوية البنك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عتماد قيود المراجعة الشهري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7EB4F-D3A3-4324-B793-9E526A7D3AAE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أساليب الرقابة الداخلية 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أساليب الرقابة الإدارية الهادفة إلى رفع الكفاءة الانتاجية وضمان الالتزام بالسياسات والخطط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ميزانية التقديري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تكاليف المعياري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تقارير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برامج التدريب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حوافز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تطبيق نظام محاسبة المسؤولي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471E8-3D94-4B5E-870E-1F5D5A8F3DFE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المراجعة الداخل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000000"/>
                </a:solidFill>
                <a:uFillTx/>
                <a:latin typeface="Arial Narrow"/>
              </a:rPr>
              <a:t>تعريف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: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68520" indent="-257040" algn="just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هي وظيفة مستقلة من داخل المشروع  لفحص العمليات المالية والإدارية وتقييم مدى الالتزام بالأنظمة والإجراءات الداخلية ووسائل الرقابة الداخلية واقتراح التحسينات اللازمة لرفع الكفاية الإنتاجية 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68520" indent="-257040" algn="just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إذاً المراجعة الداخلية جزء من نظام الرقابة الداخلية وليس العكس ، حيث تقوم إدارة المراجعة الداخلية بفحص وتقييم نظام الرقابة الداخلية وإكتشاف نواحى القصور وتقديم توصيات بالتحسينات المطلوبة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9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7B91A-A125-4C25-9583-2E0DD9A8B9C4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 Narrow"/>
              </a:rPr>
              <a:t>السمات التى تميز المراجعة الداخلية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 تهدف لخدمة إدارة المنشأ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just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تؤدى بواسطة موظفين مستقلين من داخل المنشأ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just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تشمل جميع عمليات المنشأ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just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مراجع الداخلى عمله اشتشارى وليس تنفيذى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4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964F2-14E5-49AE-AB24-FEC262F61CBB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أهداف المراجعة الداخل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تقييم نظام الرقابة الداخل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-32220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تأكد من دقة وصحة العمليات المال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-32220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حماية أصول المنشأ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-322200"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تقييم مدى الالتزام بالسياسات والإجراءات الداخل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-322200" algn="r" rtl="1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إستخدام الفعال والإقتصادى لموارد المنشأ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-322200" algn="r" rtl="1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قتراح التحسينات اللازمة لرفع الكفاية الإنتاج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9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E9EFC-043B-4E55-9662-8507A29B57EE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معايير المراجعة الداخل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معيار الكفاءة المهن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معيار الإستقلال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معيار مجال المراجعة الداخلي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معيار إدارة العمل بوحدة المراجعة الداخلي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معيار التنفيذ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4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FD93F-D056-46E0-B7BA-5C0D82BE0D7F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أهداف المراجع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0000"/>
                </a:solidFill>
                <a:uFillTx/>
                <a:latin typeface="Arial Narrow"/>
              </a:rPr>
              <a:t>هدف رئيسي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056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000000"/>
                </a:solidFill>
                <a:latin typeface="Arial Narrow"/>
              </a:rPr>
              <a:t>إبداء الرأى في القوائم المالية وعن مدى عدالتها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 بالتحقق من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17080" algn="r" rtl="1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 Narrow"/>
              </a:rPr>
              <a:t>صحة العرض بالقوائم المالية وكفاية الإفصاح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17080" algn="r" rtl="1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 Narrow"/>
              </a:rPr>
              <a:t>شرعية وصحة العمليات المالية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17080" algn="r" rtl="1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 Narrow"/>
              </a:rPr>
              <a:t>الملكية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17080" algn="r" rtl="1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 Narrow"/>
              </a:rPr>
              <a:t>استقلال الفترات المالية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17080" algn="r" rtl="1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 Narrow"/>
              </a:rPr>
              <a:t>صحة التقويم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17080" algn="r" rtl="1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 Narrow"/>
              </a:rPr>
              <a:t>الوجود الفعلي للاصول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446BF-6201-4499-8FA2-FE3DF04CA1BD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 Narrow"/>
                <a:cs typeface="Simplified Arabic"/>
              </a:rPr>
              <a:t>معايير المراجعة الداخلية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  <a:cs typeface="Simplified Arabic"/>
              </a:rPr>
              <a:t>توفر المؤهلات العلمية والخبرات العملية الكافية لدى المراجع الداخلي ومعاونيه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  <a:cs typeface="Simplified Arabic"/>
              </a:rPr>
              <a:t>تبعية إدارة المراجعة الداخلية لأعلى سلطة في المنشأ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  <a:cs typeface="Simplified Arabic"/>
              </a:rPr>
              <a:t>عدم قيام إدارة المراجعة الداخلية بأي عمل يتعلق بالعمليات التي تقوم بمراجعتها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abic Transparen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abic Transparent"/>
                <a:cs typeface="Simplified Arabic"/>
              </a:rPr>
              <a:t>تحديد الإطار العام لعملية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  <a:ea typeface="Simplified Arabic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abic Transparent"/>
                <a:cs typeface="Simplified Arabic"/>
              </a:rPr>
              <a:t>المراجعة الداخلية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  <a:ea typeface="Simplified Arab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abic Transparen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abic Transparent"/>
                <a:cs typeface="Simplified Arabic"/>
              </a:rPr>
              <a:t>وضع دليل للعمل بمكتب المراجعة الداخلية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  <a:ea typeface="Simplified Arab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abic Transparen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abic Transparent"/>
                <a:cs typeface="Simplified Arabic"/>
              </a:rPr>
              <a:t>التقييم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  <a:ea typeface="Simplified Arabic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abic Transparent"/>
                <a:cs typeface="Simplified Arabic"/>
              </a:rPr>
              <a:t>المستمر لنظام الرقابة الداخلية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  <a:ea typeface="Simplified Arabic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abic Transparen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abic Transparent"/>
                <a:cs typeface="Simplified Arabic"/>
              </a:rPr>
              <a:t>وضع برنامج لتنفيذ عمل المراجعة الداخلية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  <a:ea typeface="Simplified Arabic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abic Transparen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abic Transparent"/>
                <a:cs typeface="Simplified Arabic"/>
              </a:rPr>
              <a:t>إعداد تقرير المراجعة الداخلية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  <a:ea typeface="Simplified Arab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9" name="مستطيل 5"/>
          <p:cNvSpPr/>
          <p:nvPr/>
        </p:nvSpPr>
        <p:spPr>
          <a:xfrm>
            <a:off x="70560" y="618156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CA3F5-B16A-41A4-8A03-16232AA443BE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 Narrow"/>
                <a:cs typeface="Simplified Arabic"/>
              </a:rPr>
              <a:t>أنواع الخدمات التى تقدمها المراجعة الداخلية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Arial Narrow"/>
              </a:rPr>
              <a:t>- الحماية والوقاية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وذلك عن طريق حماية أصول المنشأة والتحقق من صحة ودقة البيانات المالية ومراجعة مدى التزام إدارة الوحدة وعدم مخالفة السياسات والإجراءات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-3016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Arial Narrow"/>
              </a:rPr>
              <a:t>- البناء والإصلاح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وذلك عن طريق تقويم اساليب الرقابة وتقويم الأداء وتقديم التوصيات اللازمة لإجراء التعديلات المقترح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4" name="مستطيل 5"/>
          <p:cNvSpPr/>
          <p:nvPr/>
        </p:nvSpPr>
        <p:spPr>
          <a:xfrm>
            <a:off x="70560" y="603900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AD178-8C3C-40AB-B28C-EA4B6366BAEA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مهام المهنية لإدارة المراجعة الداخلية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(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فحص وتقييم أنظمة الرقابة الداخلية الحالية والمساعدة في فحص الأنظمة الجديدة قبل وضعها موضع التنفيذ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تقييم دقة وسلامة البيانات التي تحتويها الدفاتر والسجلات والقوائم المالي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تحقق من تنفيذ السياسات التي تضعها المنشأة وتقييم مدى التوافق مع القوانين والأنظمة الخاصة بالجهات ذات العلاقة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فحص وتقييم الإجراءات الخاصة بالمحافظة على أصول المنشأة وحمايتها من الإهمال و الغش والسرق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0" algn="just" rtl="1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9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E0625-3825-4BA3-A6FA-035C0AAE2887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مهام المهنية لإدارة المراجعة الداخلية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(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5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. التحقق من الكفاية والفعالية في استخدام المصادر المتاحة للمنشأ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تحقيق فيما يشتبه به من نشاطات غير مناسبة في المنشأة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كتابة للإدارة التنفيذية حول نتائج عمليات المراجعة والفحوصات التي تم تنفيذها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متابعة تنفيذ التوصيات والتحقق من اتخاذ الإجراءات التصحيحية المناسبة بخصوصها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تدريب ، أو الإشراف على تدريب ، الموظفين الجدد والقدامى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تسهيل عمل المراجع الخارجي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058A9-B3E3-4601-B310-5E72F58269EA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Simplified Arabic"/>
              </a:rPr>
              <a:t>تخطيط عملية المراجع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وضع برنامج عمل يحدد الهدف من عملية المراجعة والمجالات التى يجب مراجعتها والإجراءات التى يجب اتباعها والوقت المحدد لإنجاز عملية المراجع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تشتمل خطة المراجعة على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- الهدف من المراجعة الداخل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-  مجالات المراجعة الداخلية (جداول العمل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- إجراءات المراجعة الداخلية والتكليفات المطلوب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- نماذج التقارير التى تصدر عن قسم المراجعة الداخل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9" name="مستطيل 5"/>
          <p:cNvSpPr/>
          <p:nvPr/>
        </p:nvSpPr>
        <p:spPr>
          <a:xfrm>
            <a:off x="70560" y="618156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7623F-C008-4A15-8EA4-7DA3605F72E9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أوجه التشابه بين المراجعة الداخلية والخارج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 algn="r" rtl="1"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ترتكز عملية المراجعة بصفة أساسية بغض النظر عن نوعها على نظام الرقابة الداخلية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48280" indent="-548280" algn="r" rtl="1"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تهدف عملية المراجعة إلى المحافظة على كافة الحقوق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48280" indent="-548280" algn="r" rtl="1"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تساعد عملية المراجعة فى التحليل المالى واستخراج المؤشرات المالية وقياس الإنحرافات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48280" indent="-548280" algn="r" rtl="1"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تتطلب عملية المراجعة بصفة عامة التمتع بدرجة من الاستقلال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48280" indent="-548280" algn="r" rtl="1"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محصلة النهائية لعملية المراجعة هى إعداد تقرير للجهة المسئولة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4" name="مستطيل 5"/>
          <p:cNvSpPr/>
          <p:nvPr/>
        </p:nvSpPr>
        <p:spPr>
          <a:xfrm>
            <a:off x="70560" y="618156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3F6D5-43BF-46C6-856E-2E14ED031B61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أوجه الإختلاف بين المراجعة الداخلية والخارج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- درجة الإستقلال التى يتمتع بها المراجع الخارجى أعلى من المراجع الداخلى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 مجال الإستفادة من خدمات المراجعة الخارجية أكبر من المراجعة الداخل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- الهدف من فحص وتقييم نظام الرقابة الداخلية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- مجالات المساءل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9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B1806-1EEA-4A41-A175-3A7460DA7166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مجالات التعاون بين المراجع الداخلى والخارجى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- تقع على المراجع الداخلى مهمة تنفيذ التوصيات التى يبديها المراجع الخارجى فى تقريره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 algn="r" rtl="1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- يختص المراجع الداخلى بمهمة تجهيز البيانات المحاسبية بينما يقع على المراجع الخارجى استخراج المعلومات المحاسبية من تلك البيانات وتوصيلها إلى مستخدميها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 algn="r" rtl="1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- يقوم المراجع الخارجى ببعض الأعمال التى يطلبها المراجع الخارجى مثل جرد الصندوق خلال السنة المالية، الرد على استفسارات المراجع الخارجى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4" name="مستطيل 5"/>
          <p:cNvSpPr/>
          <p:nvPr/>
        </p:nvSpPr>
        <p:spPr>
          <a:xfrm>
            <a:off x="70560" y="618156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7CF1E-B5A8-44E9-908E-888C5AF3EE24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أهمية المراجع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</a:rPr>
              <a:t>أهمية كبرى (رئيسية) :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إعطاء ثقة لدى مستخدمي القوائم المالية - سواء من داخل المنشأة أو خارجها - بأنها تعبر بصدق وعدالة عن المركز المالي للمنشأة وأنها تتفق مع المبادئ المحاسبية المتعارف عليها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8E7F1-D0AB-4880-9B01-AEDCCECD6970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أدلة الإثبات في المراجع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000000"/>
                </a:solidFill>
                <a:uFillTx/>
                <a:latin typeface="Arial Narrow"/>
              </a:rPr>
              <a:t>تعريف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 :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just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هي عبارة عن حقائق وقرائن واقعة بالفعل وملموسة يحصل عليها المراجع لتساعده في الحكم على صحة أو عدم صحة فرضيةٍ ما حول القوائم المالية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C0C79-7292-4671-B359-402C12E019B3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أنواع أدلة الإثبات في المراجعة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-536040" algn="just" rtl="1">
              <a:spcBef>
                <a:spcPts val="77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Arial Narrow"/>
              </a:rPr>
              <a:t>الوجود الفعلي للشيء الممثل في الحسابات وفحصه مادياً بواسطة المراجع</a:t>
            </a:r>
            <a:r>
              <a:rPr b="0" lang="en-US" sz="3100" spc="-1" strike="noStrike">
                <a:solidFill>
                  <a:srgbClr val="000000"/>
                </a:solidFill>
                <a:latin typeface="Arial Narrow"/>
              </a:rPr>
              <a:t> . </a:t>
            </a:r>
            <a:endParaRPr b="0" lang="en-US" sz="3100" spc="-1" strike="noStrike">
              <a:solidFill>
                <a:srgbClr val="000000"/>
              </a:solidFill>
              <a:latin typeface="Arial Narrow"/>
            </a:endParaRPr>
          </a:p>
          <a:p>
            <a:pPr marL="536040" indent="-536040" algn="just" rtl="1">
              <a:spcBef>
                <a:spcPts val="77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Arial Narrow"/>
              </a:rPr>
              <a:t>المستندات المؤيدة للعمليات - الخارجية والداخلية</a:t>
            </a:r>
            <a:r>
              <a:rPr b="0" lang="en-US" sz="3100" spc="-1" strike="noStrike">
                <a:solidFill>
                  <a:srgbClr val="000000"/>
                </a:solidFill>
                <a:latin typeface="Arial Narrow"/>
              </a:rPr>
              <a:t> . </a:t>
            </a:r>
            <a:endParaRPr b="0" lang="en-US" sz="3100" spc="-1" strike="noStrike">
              <a:solidFill>
                <a:srgbClr val="000000"/>
              </a:solidFill>
              <a:latin typeface="Arial Narrow"/>
            </a:endParaRPr>
          </a:p>
          <a:p>
            <a:pPr marL="536040" indent="-536040" algn="just" rtl="1">
              <a:spcBef>
                <a:spcPts val="77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Arial Narrow"/>
              </a:rPr>
              <a:t>الإقرارات التي يحصل عليها المراجع من الغير</a:t>
            </a:r>
            <a:r>
              <a:rPr b="0" lang="en-US" sz="31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100" spc="-1" strike="noStrike">
              <a:solidFill>
                <a:srgbClr val="000000"/>
              </a:solidFill>
              <a:latin typeface="Arial Narrow"/>
            </a:endParaRPr>
          </a:p>
          <a:p>
            <a:pPr marL="536040" indent="-536040" algn="just" rtl="1">
              <a:spcBef>
                <a:spcPts val="77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Arial Narrow"/>
              </a:rPr>
              <a:t>الشهادات التي يحصل عليها المراجع من إدارة المنشأة</a:t>
            </a:r>
            <a:r>
              <a:rPr b="0" lang="en-US" sz="31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100" spc="-1" strike="noStrike">
              <a:solidFill>
                <a:srgbClr val="000000"/>
              </a:solidFill>
              <a:latin typeface="Arial Narrow"/>
            </a:endParaRPr>
          </a:p>
          <a:p>
            <a:pPr marL="536040" indent="-536040" algn="just" rtl="1">
              <a:spcBef>
                <a:spcPts val="77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Arial Narrow"/>
              </a:rPr>
              <a:t>وجود نظام سليم للرقابة الداخلية</a:t>
            </a:r>
            <a:r>
              <a:rPr b="0" lang="en-US" sz="31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100" spc="-1" strike="noStrike">
              <a:solidFill>
                <a:srgbClr val="000000"/>
              </a:solidFill>
              <a:latin typeface="Arial Narrow"/>
            </a:endParaRPr>
          </a:p>
          <a:p>
            <a:pPr marL="536040" indent="-536040" algn="just" rtl="1">
              <a:spcBef>
                <a:spcPts val="77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Arial Narrow"/>
              </a:rPr>
              <a:t>العمليات الحسابية التي يقوم بها المراجع</a:t>
            </a:r>
            <a:r>
              <a:rPr b="0" lang="en-US" sz="31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100" spc="-1" strike="noStrike">
              <a:solidFill>
                <a:srgbClr val="000000"/>
              </a:solidFill>
              <a:latin typeface="Arial Narrow"/>
            </a:endParaRPr>
          </a:p>
          <a:p>
            <a:pPr marL="536040" indent="-536040" algn="just" rtl="1">
              <a:spcBef>
                <a:spcPts val="77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Arial Narrow"/>
              </a:rPr>
              <a:t>الارتباط بين البيانات محل الفحص</a:t>
            </a:r>
            <a:r>
              <a:rPr b="0" lang="en-US" sz="31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9431D-501E-4938-9BAB-B22241242956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وسائل (أساليب) الحصول على أدلة الإثبات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جرد الفعلي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مراجعة المستندية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مراجعة الحسابية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مراجعة القيدية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مراجعة الموضوعية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عنصر نائب للتذييل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عنصر نائب لرقم الشريحة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B5981-CBDC-4F26-A786-8BCDF25A5434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-1357200" y="-71280"/>
          <a:ext cx="7415280" cy="847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357200" y="-71280"/>
                    <a:ext cx="7415280" cy="847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4"/>
          <p:cNvSpPr/>
          <p:nvPr/>
        </p:nvSpPr>
        <p:spPr>
          <a:xfrm rot="20799600">
            <a:off x="2448360" y="76320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00000"/>
                </a:solidFill>
                <a:uFillTx/>
                <a:latin typeface="Times New Roman"/>
              </a:rPr>
              <a:t>أنواع المراجع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4000" spc="-1" strike="noStrike" u="sng">
                <a:solidFill>
                  <a:srgbClr val="000000"/>
                </a:solidFill>
                <a:uFillTx/>
                <a:latin typeface="Times New Roman"/>
              </a:rPr>
              <a:t>من حيث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مستطيل 5"/>
          <p:cNvSpPr/>
          <p:nvPr/>
        </p:nvSpPr>
        <p:spPr>
          <a:xfrm>
            <a:off x="4356720" y="528624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4FAEF-6696-42FB-B284-50DB86787065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نظام الرقابة الداخل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</a:rPr>
              <a:t>تعريف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 :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676080" indent="-259920" algn="just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هي الخطة التنظيمية وجميع الإجراءات والوسائل التي تتبع في داخل المنشأة التي من شأنها المحافظة على أصولها ، والتأكد من دقة وصحة البيانات المحاسبية المسجلة في الدفاتر ودرجة الاعتماد عليها ، وتحقيق أكبر قدر من الكفاية الإنتاجية في عمليات المنشـأة ، والالتزام بتنفيذ السياسات الإدارية المرسـومة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C1658-B235-4F11-B5D8-73E99457BD0F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رقابة على النقدي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رقابة على النقدية والأصول المتداولة الأخرى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رقابة على جميع الحسابات (الرقابة المحاسبية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رقابة المحاسبية والإداري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مراحل تطور الرقابة الداخل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" name="Line 5"/>
          <p:cNvSpPr/>
          <p:nvPr/>
        </p:nvSpPr>
        <p:spPr>
          <a:xfrm>
            <a:off x="4572000" y="2514600"/>
            <a:ext cx="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مستطيل 6"/>
          <p:cNvSpPr/>
          <p:nvPr/>
        </p:nvSpPr>
        <p:spPr>
          <a:xfrm>
            <a:off x="70560" y="603900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2T05:06:08Z</dcterms:created>
  <dc:creator>MISHAL</dc:creator>
  <dc:description/>
  <dc:language>en-US</dc:language>
  <cp:lastModifiedBy>mohamed</cp:lastModifiedBy>
  <cp:lastPrinted>2002-01-05T10:39:02Z</cp:lastPrinted>
  <dcterms:modified xsi:type="dcterms:W3CDTF">2008-03-26T17:52:26Z</dcterms:modified>
  <cp:revision>58</cp:revision>
  <dc:subject/>
  <dc:title>أهداف المراجعة</dc:title>
</cp:coreProperties>
</file>