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camera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D5B5-EA18-4931-8A55-4F3ADCD55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95CC-7F2D-4973-A280-0019F420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EB6E-F126-4A7D-9C9E-053B4986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4839-216E-48CD-9E4E-CB66A3B1E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14EF-0EA7-4532-A3B9-F730431AB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0D52-769B-4371-B18C-5B1BE104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5068-94AD-45B8-BB79-EB88D99E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22EB-3521-4BEF-A973-D8E46821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459D-C716-4BF7-B11F-0940600D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7893-DDBA-419C-91B8-1C25D20C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D056-6F30-486A-BD4E-826BA02D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A9F3-320F-4476-82FD-2A81C3DC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9105-2AFB-4AAA-973B-12F91CB3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FCF9-95A5-47F4-BC8F-5D7E70DC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A6CE-9F35-4AFC-957F-676B71B5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2312-BE47-4464-AE4D-3228EB4BA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9C8A-972B-4534-821C-8F0BC327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E1D3-FAAA-4865-B51B-8A047C34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B34B-84EA-46E3-82B7-8CFBEF80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86CE-A83E-4636-B8B0-7FB5451C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1346-62D8-44EF-947C-F560C49D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A018-0136-4AD1-96F9-3F1533A4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F52C-7F71-4E92-BFF9-D23E607C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9644-4A41-41E3-864F-FC0943BD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prstGeom prst="pie">
                <a:avLst/>
              </a:prstGeom>
              <a:gradFill rotWithShape="0">
                <a:gsLst>
                  <a:gs pos="0">
                    <a:srgbClr val="f5ebc1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prstGeom prst="pi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أ. م  الزهران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1229-543B-47B4-9C61-621602C255BC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Rectangle 4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5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Rectangle 6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7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Freeform 8"/>
            <p:cNvSpPr/>
            <p:nvPr/>
          </p:nvSpPr>
          <p:spPr>
            <a:xfrm rot="21092400">
              <a:off x="0" y="2344680"/>
              <a:ext cx="1681200" cy="273240"/>
            </a:xfrm>
            <a:prstGeom prst="pie">
              <a:avLst/>
            </a:prstGeom>
            <a:gradFill rotWithShape="0">
              <a:gsLst>
                <a:gs pos="0">
                  <a:srgbClr val="f5ebc1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 rot="21092400">
              <a:off x="1862280" y="1371240"/>
              <a:ext cx="6543360" cy="100008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Group 10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Oval 11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12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13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Oval 14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5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6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Oval 17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Oval 18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Oval 19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FEFB-258A-4AFE-8A03-8128B2582ECB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70F3-A601-423B-A46C-776255A6678E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تعريف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</a:rPr>
              <a:t>المراجعة عمل منظم للحصول على أدلة الإثبات بطريقة موضوعية ، وتقييم هذه الأدلة بغرض التأكد من مدى سلامة العمليات والأحداث الاقتصادية بواسطة تلك الإثباتات والتحقق من درجة التوافق بين الأدلة و المعايير الموضوعة ، وتوصيل ذلك إلى الأطراف المستفيدة .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مستطيل 6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62FD-71D8-4213-AAD6-7D7132B4BC79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نواع الرقابة الداخلية (من حيث الوظيفة)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000000"/>
                </a:solidFill>
                <a:latin typeface="Arial Narrow"/>
              </a:rPr>
              <a:t>الرقابة الداخلية المحاسبية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، ووظيفتها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محافظة على الأصول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ar-AE" sz="2800" spc="-1" strike="noStrike">
                <a:solidFill>
                  <a:srgbClr val="000000"/>
                </a:solidFill>
                <a:latin typeface="Arial Narrow"/>
              </a:rPr>
              <a:t>الضبط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Arial Narrow"/>
              </a:rPr>
              <a:t>الداخلي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أكد من دقة البيانات المحاسبية ودرجة الاعتماد عليها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000000"/>
                </a:solidFill>
                <a:latin typeface="Arial Narrow"/>
              </a:rPr>
              <a:t>الرقابة الداخلية الإدارية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، ووظيفتها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حقيق الكفاية الانتاجية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التزام بالسياسات الإدارية المرسومة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5973-C58B-40FE-8D0C-3A134C009902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نواع الرقابة الداخلية (من حيث الهدف)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مانع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منع وقوع الأحداث غير المرغوب فيها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كاشف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كشف الأخطاء الواقعة فعلاً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تصحيحي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تصحيح ما اكتُشف من أخطاء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r" rtl="1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موجه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تشجيع وقوع أحداث مرغوب فيها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066680" y="1981080"/>
            <a:ext cx="701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143000" y="198108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143000" y="297180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1143000" y="403848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1143000" y="502920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9"/>
          <p:cNvSpPr/>
          <p:nvPr/>
        </p:nvSpPr>
        <p:spPr>
          <a:xfrm flipH="1">
            <a:off x="762120" y="22082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762120" y="2209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1"/>
          <p:cNvSpPr/>
          <p:nvPr/>
        </p:nvSpPr>
        <p:spPr>
          <a:xfrm flipH="1">
            <a:off x="762120" y="3352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2"/>
          <p:cNvSpPr/>
          <p:nvPr/>
        </p:nvSpPr>
        <p:spPr>
          <a:xfrm>
            <a:off x="76212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3"/>
          <p:cNvSpPr/>
          <p:nvPr/>
        </p:nvSpPr>
        <p:spPr>
          <a:xfrm>
            <a:off x="76212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4"/>
          <p:cNvSpPr/>
          <p:nvPr/>
        </p:nvSpPr>
        <p:spPr>
          <a:xfrm>
            <a:off x="76212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مستطيل 16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03B3-0403-4889-90AD-27BE605748E1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مقومات نظام الرقابة الداخلية الأساس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هيكل تنظيمي إداري واضح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نظام محاسبي متكامل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وجود إجراءات تفصيلية واضحة لتنفيذ الواجبات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الاختيار المناسب للموظفين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رقابة الأداء للموظفين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استخدام الوسائل الآلية المناسبة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00BD-50E8-41DE-971D-6906ECF86E4B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ساليب الرقابة الداخلية 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أساليب الرقابة المحاسبية الهادفة إلى حماية الأصول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فصل بين الاختصاصات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دليل الإجراءات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لوائح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غيير الدوري بين العاملين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متع الموظف بإجازته السنو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رقابة المزدوج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جرد المفاجئ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0694-A2A8-4745-856E-9037E1545BEB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ساليب الرقابة الداخلية 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أساليب الرقابة المحاسبية الهادفة إلى التأكد من دقة البيانات المحاسبية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وجود نظام محاسبي سليم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وجود نظام حسابات المراقبة والمطابقات الدو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جرد المستمر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مذكرات تسوية البنك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عتماد قيود المراجعة الشه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EF75-3564-4D43-A66D-F2F57F9DAD03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ساليب الرقابة الداخلية 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أساليب الرقابة الإدارية الهادفة إلى رفع الكفاءة الانتاجية وضمان الالتزام بالسياسات والخطط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ميزانية التقدي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كاليف المعيا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قارير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برامج التدريب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حوافز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طبيق نظام محاسبة المسؤول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E8F7-144A-4FE5-9F53-8E43BF1C9437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المراجع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 Narrow"/>
              </a:rPr>
              <a:t>تعريف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: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68520" indent="-257040" algn="just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هي وظيفة مستقلة من داخل المشروع  لفحص العمليات المالية والإدارية وتقييم مدى الالتزام بالأنظمة والإجراءات الداخلية ووسائل الرقابة الداخلية واقتراح التحسينات اللازمة لرفع الكفاية الإنتاجية 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68520" indent="-257040" algn="just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إذاً المراجعة الداخلية جزء من نظام الرقابة الداخلية وليس العكس ، حيث تقوم إدارة المراجعة الداخلية بفحص وتقييم نظام الرقابة الداخلية وإكتشاف نواحى القصور وتقديم توصيات بالتحسينات المطلوب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5BC7-F36E-4663-8BD8-9FC5FB098601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 Narrow"/>
              </a:rPr>
              <a:t>السمات التى تميز المراجعة الداخلية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تهدف لخدمة إدارة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ؤدى بواسطة موظفين مستقلين من داخل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شمل جميع عمليات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 الداخلى عمله اشتشارى وليس تنفيذى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518F-D145-4954-A75B-964B27DA4126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هداف المراجع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قييم نظام الرقاب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تأكد من دقة وصحة العمليات الما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حماية أصول المنشأ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قييم مدى الالتزام بالسياسات والإجراءات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إستخدام الفعال والإقتصادى لموارد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قتراح التحسينات اللازمة لرفع الكفاية الإنتاج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59E7-C626-401D-AA14-BA7F93D5F9FC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معايير المراجع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الكفاءة المهن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الإستقلال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مجال المراجعة الداخل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إدارة العمل بوحدة المراجعة الداخل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التنفي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1FEA-664E-4F8A-ACF2-7C66DD727478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هداف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 Narrow"/>
              </a:rPr>
              <a:t>هدف رئيسي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000000"/>
                </a:solidFill>
                <a:latin typeface="Arial Narrow"/>
              </a:rPr>
              <a:t>إبداء الرأى في القوائم المالية وعن مدى عدالتها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 بالتحقق من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صحة العرض بالقوائم المالية وكفاية الإفصاح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شرعية وصحة العمليات المالية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الملكية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استقلال الفترات المالية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صحة التقويم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الوجود الفعلي للاصول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B71E-FAD0-44D5-A81E-30B76115E16D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"/>
              </a:rPr>
              <a:t>معايير المراجعة الداخلية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توفر المؤهلات العلمية والخبرات العملية الكافية لدى المراجع الداخلي ومعاونيه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تبعية إدارة المراجعة الداخلية لأعلى سلطة في المنشأ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عدم قيام إدارة المراجعة الداخلية بأي عمل يتعلق بالعمليات التي تقوم بمراجعتها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تحديد الإطار العام لعم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وضع دليل للعمل بمكتب 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التقييم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المستمر لنظام الرقاب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وضع برنامج لتنفيذ عمل 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إعداد تقرير 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808E-0D60-45F2-BBD6-22C5885130C3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"/>
              </a:rPr>
              <a:t>أنواع الخدمات التى تقدمها المراجعة الداخلية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- الحماية والوقاية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وذلك عن طريق حماية أصول المنشأة والتحقق من صحة ودقة البيانات المالية ومراجعة مدى التزام إدارة الوحدة وعدم مخالفة السياسات والإجراءات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-3016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- البناء والإصلاح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وذلك عن طريق تقويم اساليب الرقابة وتقويم الأداء وتقديم التوصيات اللازمة لإجراء التعديلات المقترح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مستطيل 5"/>
          <p:cNvSpPr/>
          <p:nvPr/>
        </p:nvSpPr>
        <p:spPr>
          <a:xfrm>
            <a:off x="70560" y="603900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A61D-689E-493B-8077-A2CD43B8CFE2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مهام المهنية لإدارة المراجعة الداخل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فحص وتقييم أنظمة الرقابة الداخلية الحالية والمساعدة في فحص الأنظمة الجديدة قبل وضعها موضع التنفيذ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تقييم دقة وسلامة البيانات التي تحتويها الدفاتر والسجلات والقوائم المال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حقق من تنفيذ السياسات التي تضعها المنشأة وتقييم مدى التوافق مع القوانين والأنظمة الخاصة بالجهات ذات العلاق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فحص وتقييم الإجراءات الخاصة بالمحافظة على أصول المنشأة وحمايتها من الإهمال و الغش والسرق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0" algn="just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A1A9-CD1A-461E-91AD-B707BE1999B7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مهام المهنية لإدارة المراجعة الداخل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. التحقق من الكفاية والفعالية في استخدام المصادر المتاحة للمنشأ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حقيق فيما يشتبه به من نشاطات غير مناسبة في المنشأ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كتابة للإدارة التنفيذية حول نتائج عمليات المراجعة والفحوصات التي تم تنفيذها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متابعة تنفيذ التوصيات والتحقق من اتخاذ الإجراءات التصحيحية المناسبة بخصوصها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تدريب ، أو الإشراف على تدريب ، الموظفين الجدد والقدامى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تسهيل عمل المراجع الخارجي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F331-2BAF-4D8F-A9D8-9B1BF2ECF30F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implified Arabic"/>
              </a:rPr>
              <a:t>تخطيط عملية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وضع برنامج عمل يحدد الهدف من عملية المراجعة والمجالات التى يجب مراجعتها والإجراءات التى يجب اتباعها والوقت المحدد لإنجاز عملية المراجع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شتمل خطة المراجعة على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الهدف من المراجع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 مجالات المراجعة الداخلية (جداول العمل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إجراءات المراجعة الداخلية والتكليفات المطلوب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نماذج التقارير التى تصدر عن قسم المراجع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4463-7CE5-4A4D-AFC4-ACA14AF05B23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وجه التشابه بين المراجعة الداخلية والخارج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رتكز عملية المراجعة بصفة أساسية بغض النظر عن نوعها على نظام الرقابة الداخلي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هدف عملية المراجعة إلى المحافظة على كافة الحقوق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ساعد عملية المراجعة فى التحليل المالى واستخراج المؤشرات المالية وقياس الإنحرافات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تطلب عملية المراجعة بصفة عامة التمتع بدرجة من الاستقلال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محصلة النهائية لعملية المراجعة هى إعداد تقرير للجهة المسئول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6CDC-0910-4531-B44D-07992CA7510F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وجه الإختلاف بين المراجعة الداخلية والخارج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درجة الإستقلال التى يتمتع بها المراجع الخارجى أعلى من المراجع الداخلى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مجال الإستفادة من خدمات المراجعة الخارجية أكبر من المراجع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الهدف من فحص وتقييم نظام الرقابة الداخلية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مجالات المساءل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AAB6-3637-4198-926E-10EE0DBDA738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مجالات التعاون بين المراجع الداخلى والخارجى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- تقع على المراجع الداخلى مهمة تنفيذ التوصيات التى يبديها المراجع الخارجى فى تقريره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- يختص المراجع الداخلى بمهمة تجهيز البيانات المحاسبية بينما يقع على المراجع الخارجى استخراج المعلومات المحاسبية من تلك البيانات وتوصيلها إلى مستخدميها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- يقوم المراجع الخارجى ببعض الأعمال التى يطلبها المراجع الخارجى مثل جرد الصندوق خلال السنة المالية، الرد على استفسارات المراجع الخارجى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C8F9-EF76-4CA4-A932-7EAFD928313C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همية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</a:rPr>
              <a:t>أهمية كبرى (رئيسية) 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إعطاء ثقة لدى مستخدمي القوائم المالية - سواء من داخل المنشأة أو خارجها - بأنها تعبر بصدق وعدالة عن المركز المالي للمنشأة وأنها تتفق مع المبادئ المحاسبية المتعارف عليها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6142-2F2D-45F0-AD31-89D8B40FE3DB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دلة الإثبات في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000000"/>
                </a:solidFill>
                <a:uFillTx/>
                <a:latin typeface="Arial Narrow"/>
              </a:rPr>
              <a:t>تعريف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هي عبارة عن حقائق وقرائن واقعة بالفعل وملموسة يحصل عليها المراجع لتساعده في الحكم على صحة أو عدم صحة فرضيةٍ ما حول القوائم المال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F2D6-2C2F-4380-B191-D7299B398B47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نواع أدلة الإثبات في المراجعة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وجود الفعلي للشيء الممثل في الحسابات وفحصه مادياً بواسطة المراجع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 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مستندات المؤيدة للعمليات - الخارجية والداخلية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 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إقرارات التي يحصل عليها المراجع من الغير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شهادات التي يحصل عليها المراجع من إدارة المنشأة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وجود نظام سليم للرقابة الداخلية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عمليات الحسابية التي يقوم بها المراجع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ارتباط بين البيانات محل الفحص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7465-B61F-4679-B5D2-13D6BF86E566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وسائل (أساليب) الحصول على أدلة الإثبات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جرد الفعلي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مستند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حساب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قيد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موضوع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عنصر نائب للتذييل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707D-8F83-4594-A67D-6A91794D7276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-1357200" y="-71280"/>
          <a:ext cx="7415280" cy="847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357200" y="-71280"/>
                    <a:ext cx="7415280" cy="847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 rot="20799600">
            <a:off x="2448360" y="76320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</a:rPr>
              <a:t>أنواع المراجع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</a:rPr>
              <a:t>من حيث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مستطيل 5"/>
          <p:cNvSpPr/>
          <p:nvPr/>
        </p:nvSpPr>
        <p:spPr>
          <a:xfrm>
            <a:off x="4356720" y="528624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FEAB-0B90-4591-8BC0-A7BC1254C9B7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نظام الرقاب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</a:rPr>
              <a:t>تعريف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676080" indent="-25992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هي الخطة التنظيمية وجميع الإجراءات والوسائل التي تتبع في داخل المنشأة التي من شأنها المحافظة على أصولها ، والتأكد من دقة وصحة البيانات المحاسبية المسجلة في الدفاتر ودرجة الاعتماد عليها ، وتحقيق أكبر قدر من الكفاية الإنتاجية في عمليات المنشـأة ، والالتزام بتنفيذ السياسات الإدارية المرسـوم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E5B5-4CB2-47CB-9C92-6B100CCF309D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على النقد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على النقدية والأصول المتداولة الأخرى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على جميع الحسابات (الرقابة المحاسبية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المحاسبية والإدار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مراحل تطور الرقاب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4572000" y="25146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مستطيل 6"/>
          <p:cNvSpPr/>
          <p:nvPr/>
        </p:nvSpPr>
        <p:spPr>
          <a:xfrm>
            <a:off x="70560" y="603900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2T05:06:08Z</dcterms:created>
  <dc:creator>MISHAL</dc:creator>
  <dc:description/>
  <dc:language>en-US</dc:language>
  <cp:lastModifiedBy>mohamed</cp:lastModifiedBy>
  <cp:lastPrinted>2002-01-05T10:39:02Z</cp:lastPrinted>
  <dcterms:modified xsi:type="dcterms:W3CDTF">2008-03-26T17:52:26Z</dcterms:modified>
  <cp:revision>58</cp:revision>
  <dc:subject/>
  <dc:title>أهداف المراجعة</dc:title>
</cp:coreProperties>
</file>