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amera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12A-DF44-45E7-BBB1-C48EECEB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DC36-E1A0-4899-B4DD-FA797580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DC17-3A61-4703-AB50-D06E162C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D154-6368-48CA-85DF-05F57A44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C223-3881-4CBC-9E69-9A096F39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A162-0767-4E1D-8FF6-8C0E6196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236F-B619-4FBA-B75E-711B3B3D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DBA2-5DCF-4EF3-BC5E-74782C79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C72D-8804-4AF4-82F4-4AFBEBCE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B532-7C03-465E-9684-8FFEBB37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9771-18DD-4796-B51F-D75375EE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9186-0F7D-4793-AAD4-6FDFEBC6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A81E-D122-4CFC-896D-BD63FA9F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8B36-3A9E-414D-879C-7CE13C4E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F4B0-78D0-4EA4-BC19-AA93BF16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4A25-BE7C-452A-B164-34932926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770A-94E3-4B96-ABE6-16198184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3EF1-08D4-4BE1-B00B-DCABF80D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2309-2228-4B9C-A2AC-6138F661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F9DE-D38E-4ECA-829F-34501D8D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4929-B05E-41E8-BFBE-AE09FE1A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8029-E492-4FAF-BDC4-A1CD4125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692C-E0F4-4E59-AEDF-150758C3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0AF5-BC62-4026-9895-1129FE1A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prstGeom prst="pie">
                <a:avLst/>
              </a:pr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أ. م  الزهران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44E0-0DA0-4C0F-A0AA-CBCDED20222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"/>
            <p:cNvSpPr/>
            <p:nvPr/>
          </p:nvSpPr>
          <p:spPr>
            <a:xfrm rot="21092400">
              <a:off x="0" y="2344680"/>
              <a:ext cx="1681200" cy="273240"/>
            </a:xfrm>
            <a:prstGeom prst="pie">
              <a:avLst/>
            </a:pr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 rot="21092400">
              <a:off x="1862280" y="1371240"/>
              <a:ext cx="6543360" cy="100008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7DBE-BBA3-4C5F-90D7-F4BA535A093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6D1F-6BF6-4D84-A2BA-31D2EBEEEF2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تعريف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المراجعة عمل منظم للحصول على أدلة الإثبات بطريقة موضوعية ، وتقييم هذه الأدلة بغرض التأكد من مدى سلامة العمليات والأحداث الاقتصادية بواسطة تلك الإثباتات والتحقق من درجة التوافق بين الأدلة و المعايير الموضوعة ، وتوصيل ذلك إلى الأطراف المستفيدة .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مستطيل 6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D476-6156-40BA-884C-8154D27BA739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الرقابة الداخلية (من حيث الوظيفة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000000"/>
                </a:solidFill>
                <a:latin typeface="Arial Narrow"/>
              </a:rPr>
              <a:t>الرقابة الداخلية المحاسب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، ووظيفتها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حافظة على الأصول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ar-AE" sz="2800" spc="-1" strike="noStrike">
                <a:solidFill>
                  <a:srgbClr val="000000"/>
                </a:solidFill>
                <a:latin typeface="Arial Narrow"/>
              </a:rPr>
              <a:t>الضبط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Arial Narrow"/>
              </a:rPr>
              <a:t>الداخلي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أكد من دقة البيانات المحاسبية ودرجة الاعتماد عليها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000000"/>
                </a:solidFill>
                <a:latin typeface="Arial Narrow"/>
              </a:rPr>
              <a:t>الرقابة الداخلية الإدار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، ووظيفتها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حقيق الكفاية الانتاجية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التزام بالسياسات الإدارية المرسومة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5C71-BA64-462A-A439-0F818E3F245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الرقابة الداخلية (من حيث الهدف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مانع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منع وقوع الأحداث غير المرغوب في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كاشف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كشف الأخطاء الواقعة فعلاً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تصحيحي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تصحيح ما اكتُشف من أخطاء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موجه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تشجيع وقوع أحداث مرغوب في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066680" y="1981080"/>
            <a:ext cx="701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143000" y="198108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143000" y="297180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143000" y="403848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1143000" y="502920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762120" y="2208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762120" y="2209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1"/>
          <p:cNvSpPr/>
          <p:nvPr/>
        </p:nvSpPr>
        <p:spPr>
          <a:xfrm flipH="1">
            <a:off x="76212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>
            <a:off x="76212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3"/>
          <p:cNvSpPr/>
          <p:nvPr/>
        </p:nvSpPr>
        <p:spPr>
          <a:xfrm>
            <a:off x="76212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4"/>
          <p:cNvSpPr/>
          <p:nvPr/>
        </p:nvSpPr>
        <p:spPr>
          <a:xfrm>
            <a:off x="7621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مستطيل 16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10EC-434F-4023-9D5B-FB5F48FB75B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مقومات نظام الرقابة الداخلية الأساس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هيكل تنظيمي إداري واضح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نظام محاسبي متكامل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وجود إجراءات تفصيلية واضحة لتنفيذ الواجبات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الاختيار المناسب للموظفين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رقابة الأداء للموظفين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استخدام الوسائل الآلية المناسبة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766A-C14E-45C0-81D3-600FFF9C017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أساليب الرقابة المحاسبية الهادفة إلى حماية الأصول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فصل بين الاختصاصات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دليل الإجراءات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لوائح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غيير الدوري بين العاملين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متع الموظف بإجازته السنو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رقابة المزدوج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جرد المفاجئ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09C7-B02E-4385-B125-457AADD66B4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أساليب الرقابة المحاسبية الهادفة إلى التأكد من دقة البيانات المحاسبية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وجود نظام محاسبي سليم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وجود نظام حسابات المراقبة والمطابقات الدو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جرد المستمر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مذكرات تسوية البنك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عتماد قيود المراجعة الشه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501D-0191-4041-B373-589417AAD8B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أساليب الرقابة الإدارية الهادفة إلى رفع الكفاءة الانتاجية وضمان الالتزام بالسياسات والخطط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يزانية التقدي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كاليف المعيا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قارير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برامج التدريب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حوافز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طبيق نظام محاسبة المسؤول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586B-9D73-4928-B5E8-C390554F5CD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 Narrow"/>
              </a:rPr>
              <a:t>تعريف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: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8520" indent="-257040" algn="just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هي وظيفة مستقلة من داخل المشروع  لفحص العمليات المالية والإدارية وتقييم مدى الالتزام بالأنظمة والإجراءات الداخلية ووسائل الرقابة الداخلية واقتراح التحسينات اللازمة لرفع الكفاية الإنتاجية 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8520" indent="-257040" algn="just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إذاً المراجعة الداخلية جزء من نظام الرقابة الداخلية وليس العكس ، حيث تقوم إدارة المراجعة الداخلية بفحص وتقييم نظام الرقابة الداخلية وإكتشاف نواحى القصور وتقديم توصيات بالتحسينات المطلوب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A74C-93BF-4CFD-91DC-130429BC6AA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 Narrow"/>
              </a:rPr>
              <a:t>السمات التى تميز المراجعة الداخلية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تهدف لخدمة إدارة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ؤدى بواسطة موظفين مستقلين من داخل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شمل جميع عمليات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 الداخلى عمله اشتشارى وليس تنفيذى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F3A7-8AA7-4D52-A095-EE7544D0AAB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هداف 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قييم نظام الرقاب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تأكد من دقة وصحة العمليات الما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حماية أصول المنشأ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قييم مدى الالتزام بالسياسات والإجراءات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إستخدام الفعال والإقتصادى لموارد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قتراح التحسينات اللازمة لرفع الكفاية الإنتاج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5215-12C7-454E-ADDB-F84F355ACC8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عايير 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كفاءة المهن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إستقلال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مجال المراجعة الداخل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إدارة العمل بوحدة المراجعة الداخل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تنفي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BA5C-F57B-401E-816D-48E0A39397C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هداف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 Narrow"/>
              </a:rPr>
              <a:t>هدف رئيسي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00"/>
                </a:solidFill>
                <a:latin typeface="Arial Narrow"/>
              </a:rPr>
              <a:t>إبداء الرأى في القوائم المالية وعن مدى عدالتها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 بالتحقق من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صحة العرض بالقوائم المالية وكفاية الإفصاح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شرعية وصحة العمليات المال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لملك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ستقلال الفترات المال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صحة التقويم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لوجود الفعلي للاصول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AF90-8301-4D70-9504-CBA10921ED1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"/>
              </a:rPr>
              <a:t>معايير المراجعة الداخلي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توفر المؤهلات العلمية والخبرات العملية الكافية لدى المراجع الداخلي ومعاونيه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تبعية إدارة المراجعة الداخلية لأعلى سلطة في المنشأ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عدم قيام إدارة المراجعة الداخلية بأي عمل يتعلق بالعمليات التي تقوم بمراجعت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تحديد الإطار العام لعم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وضع دليل للعمل بمكتب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تقييم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مستمر لنظام الرقاب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وضع برنامج لتنفيذ عمل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إعداد تقرير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F264-6E9E-43C4-BC7E-024CD167A76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"/>
              </a:rPr>
              <a:t>أنواع الخدمات التى تقدمها المراجعة الداخلي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- الحماية والوقا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ذلك عن طريق حماية أصول المنشأة والتحقق من صحة ودقة البيانات المالية ومراجعة مدى التزام إدارة الوحدة وعدم مخالفة السياسات والإجراءات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-3016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- البناء والإصلاح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ذلك عن طريق تقويم اساليب الرقابة وتقويم الأداء وتقديم التوصيات اللازمة لإجراء التعديلات المقترح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مستطيل 5"/>
          <p:cNvSpPr/>
          <p:nvPr/>
        </p:nvSpPr>
        <p:spPr>
          <a:xfrm>
            <a:off x="70560" y="60390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8888-A60E-49C0-A675-8B0645AF8359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هام المهنية لإدارة المراجعة الداخل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فحص وتقييم أنظمة الرقابة الداخلية الحالية والمساعدة في فحص الأنظمة الجديدة قبل وضعها موضع التنفيذ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قييم دقة وسلامة البيانات التي تحتويها الدفاتر والسجلات والقوائم المال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حقق من تنفيذ السياسات التي تضعها المنشأة وتقييم مدى التوافق مع القوانين والأنظمة الخاصة بالجهات ذات العلاق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فحص وتقييم الإجراءات الخاصة بالمحافظة على أصول المنشأة وحمايتها من الإهمال و الغش والسرق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0" algn="just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321D-65C3-4CC5-983D-71511F8CC16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هام المهنية لإدارة المراجعة الداخل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. التحقق من الكفاية والفعالية في استخدام المصادر المتاحة للمنشأ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حقيق فيما يشتبه به من نشاطات غير مناسبة في المنشأ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كتابة للإدارة التنفيذية حول نتائج عمليات المراجعة والفحوصات التي تم تنفيذ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متابعة تنفيذ التوصيات والتحقق من اتخاذ الإجراءات التصحيحية المناسبة بخصوص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دريب ، أو الإشراف على تدريب ، الموظفين الجدد والقدامى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سهيل عمل المراجع الخارجي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6B5E-2948-40FC-92AB-0CA93A13BB6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تخطيط عملية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ضع برنامج عمل يحدد الهدف من عملية المراجعة والمجالات التى يجب مراجعتها والإجراءات التى يجب اتباعها والوقت المحدد لإنجاز عملية المراجع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شتمل خطة المراجعة على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الهدف من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 مجالات المراجعة الداخلية (جداول العمل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إجراءات المراجعة الداخلية والتكليفات المطلوب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نماذج التقارير التى تصدر عن قسم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1EEA-E2BC-4A7C-9E7F-0DEB00FA82D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وجه التشابه بين المراجعة الداخلية والخارج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رتكز عملية المراجعة بصفة أساسية بغض النظر عن نوعها على نظام الرقابة الداخلي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هدف عملية المراجعة إلى المحافظة على كافة الحقوق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ساعد عملية المراجعة فى التحليل المالى واستخراج المؤشرات المالية وقياس الإنحرافات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تطلب عملية المراجعة بصفة عامة التمتع بدرجة من الاستقلال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حصلة النهائية لعملية المراجعة هى إعداد تقرير للجهة المسئول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339E-2295-48F1-9763-C6931FDD98A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وجه الإختلاف بين المراجعة الداخلية والخارج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درجة الإستقلال التى يتمتع بها المراجع الخارجى أعلى من المراجع الداخلى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مجال الإستفادة من خدمات المراجعة الخارجية أكبر من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الهدف من فحص وتقييم نظام الرقابة الداخلية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مجالات المساءل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0202-946C-4464-BFAC-0AAC89C1B5E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جالات التعاون بين المراجع الداخلى والخارجى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تقع على المراجع الداخلى مهمة تنفيذ التوصيات التى يبديها المراجع الخارجى فى تقريره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يختص المراجع الداخلى بمهمة تجهيز البيانات المحاسبية بينما يقع على المراجع الخارجى استخراج المعلومات المحاسبية من تلك البيانات وتوصيلها إلى مستخدمي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يقوم المراجع الخارجى ببعض الأعمال التى يطلبها المراجع الخارجى مثل جرد الصندوق خلال السنة المالية، الرد على استفسارات المراجع الخارجى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8F59-BB75-4935-BADE-F34A06B8F58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همية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أهمية كبرى (رئيسية)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إعطاء ثقة لدى مستخدمي القوائم المالية - سواء من داخل المنشأة أو خارجها - بأنها تعبر بصدق وعدالة عن المركز المالي للمنشأة وأنها تتفق مع المبادئ المحاسبية المتعارف عليها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5F26-D77B-47CF-BF27-63D3D694611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دلة الإثبات في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000000"/>
                </a:solidFill>
                <a:uFillTx/>
                <a:latin typeface="Arial Narrow"/>
              </a:rPr>
              <a:t>تعريف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هي عبارة عن حقائق وقرائن واقعة بالفعل وملموسة يحصل عليها المراجع لتساعده في الحكم على صحة أو عدم صحة فرضيةٍ ما حول القوائم المال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6CEC-36F3-4128-ACB2-02D4691BBA1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أدلة الإثبات في المراجع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وجود الفعلي للشيء الممثل في الحسابات وفحصه مادياً بواسطة المراجع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مستندات المؤيدة للعمليات - الخارجية والداخلي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إقرارات التي يحصل عليها المراجع من الغير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شهادات التي يحصل عليها المراجع من إدارة المنشأ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وجود نظام سليم للرقابة الداخلي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عمليات الحسابية التي يقوم بها المراجع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ارتباط بين البيانات محل الفحص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859F-ACA7-4E59-934A-8C9F9D2ABF9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وسائل (أساليب) الحصول على أدلة الإثبات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جرد الفعلي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مستند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حساب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قيد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موضوع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6F6F-7426-4D6D-8B30-7E4CDA352279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-1357200" y="-71280"/>
          <a:ext cx="7415280" cy="847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57200" y="-71280"/>
                    <a:ext cx="7415280" cy="847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 rot="20799600">
            <a:off x="2448360" y="7632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أنواع المراجع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من حيث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مستطيل 5"/>
          <p:cNvSpPr/>
          <p:nvPr/>
        </p:nvSpPr>
        <p:spPr>
          <a:xfrm>
            <a:off x="4356720" y="528624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E740-E818-487F-B703-7170470C80D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نظام الرقاب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تعريف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76080" indent="-25992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هي الخطة التنظيمية وجميع الإجراءات والوسائل التي تتبع في داخل المنشأة التي من شأنها المحافظة على أصولها ، والتأكد من دقة وصحة البيانات المحاسبية المسجلة في الدفاتر ودرجة الاعتماد عليها ، وتحقيق أكبر قدر من الكفاية الإنتاجية في عمليات المنشـأة ، والالتزام بتنفيذ السياسات الإدارية المرسـوم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9979-8F5C-4155-B6F4-E69CF11DBB59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النقد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النقدية والأصول المتداولة الأخرى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جميع الحسابات (الرقابة المحاسبية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المحاسبية والإدار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راحل تطور الرقاب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4572000" y="25146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مستطيل 6"/>
          <p:cNvSpPr/>
          <p:nvPr/>
        </p:nvSpPr>
        <p:spPr>
          <a:xfrm>
            <a:off x="70560" y="60390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2T05:06:08Z</dcterms:created>
  <dc:creator>MISHAL</dc:creator>
  <dc:description/>
  <dc:language>en-US</dc:language>
  <cp:lastModifiedBy>mohamed</cp:lastModifiedBy>
  <cp:lastPrinted>2002-01-05T10:39:02Z</cp:lastPrinted>
  <dcterms:modified xsi:type="dcterms:W3CDTF">2008-03-26T17:52:26Z</dcterms:modified>
  <cp:revision>58</cp:revision>
  <dc:subject/>
  <dc:title>أهداف المراجعة</dc:title>
</cp:coreProperties>
</file>